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C0E-CF89-4614-B76C-90E4195A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B03-0035-4623-815A-67CC31E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A17-7967-40F1-AE39-E3AD54CA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F96-FB2A-4967-816A-B21B95A2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7F5-935B-42E4-8193-2F9A1FB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3FF-9696-4C7D-BB8D-0AB8CB1D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650-6025-42B9-864B-BA790FDD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363-5DEE-449C-9425-D42FA39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E4D-30FA-4BC2-BDD1-D057F846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FA7-B1D8-4D44-B8FF-C01DD89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E6F-009C-4E91-92DD-C663C3A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79B-1088-4C16-A714-CF01B7E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1BB-E716-4D07-9FBD-1E40B9155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3364200" y="838080"/>
            <a:ext cx="26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6 апре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116000" y="234936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ПОНЕДЕЛЬ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ДЕНЬ ЧУДЕС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3931200" y="54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684360" y="1380960"/>
            <a:ext cx="82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О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Закреплять знания детей об одежде, учить различать одежду по сезонам, правильно называть предметы оде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Автобус», «Поликли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дактически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Формы», Домино «Овощи-фрукты», «Угадай, чего не стал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 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366840" y="4149720"/>
            <a:ext cx="81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рядка «Утро уже просыпайся и новому дню улыбайся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258920" y="62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755640" y="1268280"/>
            <a:ext cx="82821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пражнение «Какой инструмент зв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познакомить детей с музыкальными инструментами (бубен, колокольчик, ложки, барабан). Учить детей определять музыкальный инструмент на слух и называть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ение художестве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зучивание стихотворения А. Плещеев «Весна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усская сказка «Бычок – чёрный бочёк, белое копытц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тешки «Солнышко, вёдрышко», «Радуга-ду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1908000" y="476280"/>
            <a:ext cx="575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826920" y="1557360"/>
            <a:ext cx="79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Наблюдение за птиц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(Познавательный рассказ «Птицы вес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обратить внимание детей на изменения в поведении птиц, обсудить, почему всё изменило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рассказать о жизнедеятельности птиц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908000" y="3429000"/>
            <a:ext cx="6696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бота перед сном: чтение русской народной сказки «Терем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16000" y="620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971640" y="1144440"/>
            <a:ext cx="76327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гры со строительным материалом, игры с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Гараж для машинок», «Мебель для 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и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Мама, папа и я», «Что такое хорошо? Что такое плохо?», «Большой – малень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бодные игры по выбор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. Сутеев рассказы по выбо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4-05T12:48:00Z</dcterms:modified>
  <cp:revision>24</cp:revision>
  <dc:subject/>
  <dc:title>Слайд 1</dc:title>
</cp:coreProperties>
</file>