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7.png" ContentType="image/png"/>
  <Override PartName="/ppt/media/image17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E0EA-181B-4440-AA51-3A9B51460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F9CB-755F-438A-9790-AD0F6C34A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F0AB-CA0B-48E7-BF58-46109D5B7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788D-9AD2-4C3D-AB88-665EC08D4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F098-1AE5-4606-86D0-F4B27C16F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1F0A-7474-46EB-AB71-BE685481C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D705-FF20-4CFE-AC01-5B1925CC5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649C-C54D-467C-9FAE-0A112992B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28C4-D212-426B-8FBD-969783049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D6E8-F307-47DF-92EB-807249FD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1C56-4D9F-49C6-A41E-669CAB8F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1C17-FF1C-4AC8-9550-C34DA78A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07494-F5DC-4C61-ACAA-10F4EDCD22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5781240"/>
            <a:ext cx="6400800" cy="10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кружающий ми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762120" y="2359080"/>
            <a:ext cx="8381880" cy="1285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Посмотри вокруг...</a:t>
            </a:r>
            <a:endParaRPr b="0" lang="en-US" sz="7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pic>
        <p:nvPicPr>
          <p:cNvPr id="43" name="Picture 5" descr="23"/>
          <p:cNvPicPr/>
          <p:nvPr/>
        </p:nvPicPr>
        <p:blipFill>
          <a:blip r:embed="rId1"/>
          <a:stretch/>
        </p:blipFill>
        <p:spPr>
          <a:xfrm>
            <a:off x="6588000" y="3645000"/>
            <a:ext cx="1824120" cy="2857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fffff"/>
          <p:cNvPicPr/>
          <p:nvPr/>
        </p:nvPicPr>
        <p:blipFill>
          <a:blip r:embed="rId2"/>
          <a:stretch/>
        </p:blipFill>
        <p:spPr>
          <a:xfrm>
            <a:off x="179280" y="189000"/>
            <a:ext cx="1805040" cy="1773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47400" y="3033720"/>
            <a:ext cx="421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Посмотри вокру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486900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раница горизонта, где небо как бы сходится с земной поверхностью, называется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линией горизон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19"/>
          <p:cNvPicPr/>
          <p:nvPr/>
        </p:nvPicPr>
        <p:blipFill>
          <a:blip r:embed="rId1"/>
          <a:stretch/>
        </p:blipFill>
        <p:spPr>
          <a:xfrm>
            <a:off x="108000" y="1268280"/>
            <a:ext cx="4176720" cy="3240360"/>
          </a:xfrm>
          <a:prstGeom prst="rect">
            <a:avLst/>
          </a:prstGeom>
          <a:ln w="38160">
            <a:solidFill>
              <a:srgbClr val="777777"/>
            </a:solidFill>
            <a:miter/>
          </a:ln>
        </p:spPr>
      </p:pic>
      <p:pic>
        <p:nvPicPr>
          <p:cNvPr id="85" name="Picture 5" descr="18"/>
          <p:cNvPicPr/>
          <p:nvPr/>
        </p:nvPicPr>
        <p:blipFill>
          <a:blip r:embed="rId2"/>
          <a:stretch/>
        </p:blipFill>
        <p:spPr>
          <a:xfrm>
            <a:off x="4500720" y="1268280"/>
            <a:ext cx="4535280" cy="3227400"/>
          </a:xfrm>
          <a:prstGeom prst="rect">
            <a:avLst/>
          </a:prstGeom>
          <a:ln w="38160">
            <a:solidFill>
              <a:srgbClr val="77777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тороны горизонта</a:t>
            </a:r>
            <a:r>
              <a:rPr b="0" lang="ru-RU" sz="4400" spc="-1" strike="noStrike">
                <a:solidFill>
                  <a:srgbClr val="eaeaea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4797360"/>
            <a:ext cx="9144000" cy="19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тправляясь в далёкие путешествия, люди ориентируются по сторонам горизонта. То направление, где Солнце поднимается выше всего и сильнее греет –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Ю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3132000" y="1844640"/>
            <a:ext cx="2305080" cy="2376360"/>
          </a:xfrm>
          <a:custGeom>
            <a:avLst/>
            <a:gdLst>
              <a:gd name="textAreaLeft" fmla="*/ 949680 w 2305080"/>
              <a:gd name="textAreaRight" fmla="*/ 1355400 w 2305080"/>
              <a:gd name="textAreaTop" fmla="*/ 979200 h 2376360"/>
              <a:gd name="textAreaBottom" fmla="*/ 1397160 h 23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943800" y="4292640"/>
            <a:ext cx="66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71280" y="4941720"/>
            <a:ext cx="916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тивоположное направление, где Солн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икогда не появляется, и откуда дую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холодные ветры, назвали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СЕВЕ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3990960" y="1125360"/>
            <a:ext cx="4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1518840" y="5300640"/>
            <a:ext cx="606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ВОСТОКЕ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олнце всход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 на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ЗАПАДЕ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сади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2490120" y="2781360"/>
            <a:ext cx="44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5693400" y="2781360"/>
            <a:ext cx="47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2"/>
          <p:cNvSpPr/>
          <p:nvPr/>
        </p:nvSpPr>
        <p:spPr>
          <a:xfrm>
            <a:off x="316080" y="4941720"/>
            <a:ext cx="8327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 схемах и карта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север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всегда обозначают вверх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юг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– внизу,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запад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слева,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восток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– спра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3" descr="Копия (2) Копия 13"/>
          <p:cNvPicPr/>
          <p:nvPr/>
        </p:nvPicPr>
        <p:blipFill>
          <a:blip r:embed="rId1"/>
          <a:stretch/>
        </p:blipFill>
        <p:spPr>
          <a:xfrm>
            <a:off x="6443640" y="2349360"/>
            <a:ext cx="2419200" cy="2286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4" descr="20"/>
          <p:cNvPicPr/>
          <p:nvPr/>
        </p:nvPicPr>
        <p:blipFill>
          <a:blip r:embed="rId2"/>
          <a:stretch/>
        </p:blipFill>
        <p:spPr>
          <a:xfrm>
            <a:off x="82440" y="2133720"/>
            <a:ext cx="240192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5"/>
          <p:cNvSpPr/>
          <p:nvPr/>
        </p:nvSpPr>
        <p:spPr>
          <a:xfrm rot="19065000">
            <a:off x="3132000" y="1844640"/>
            <a:ext cx="2305080" cy="2376360"/>
          </a:xfrm>
          <a:custGeom>
            <a:avLst/>
            <a:gdLst>
              <a:gd name="textAreaLeft" fmla="*/ 949680 w 2305080"/>
              <a:gd name="textAreaRight" fmla="*/ 1355400 w 2305080"/>
              <a:gd name="textAreaTop" fmla="*/ 979200 h 2376360"/>
              <a:gd name="textAreaBottom" fmla="*/ 1397160 h 23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тороны горизон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4920" y="4797000"/>
            <a:ext cx="84358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роме основных сторон горизонта есть ещё и промежуточные: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северо-восток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северо-запад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юго-восток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юго-запад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3132000" y="1844640"/>
            <a:ext cx="2305080" cy="2376360"/>
          </a:xfrm>
          <a:custGeom>
            <a:avLst/>
            <a:gdLst>
              <a:gd name="textAreaLeft" fmla="*/ 949680 w 2305080"/>
              <a:gd name="textAreaRight" fmla="*/ 1355400 w 2305080"/>
              <a:gd name="textAreaTop" fmla="*/ 979200 h 2376360"/>
              <a:gd name="textAreaBottom" fmla="*/ 1397160 h 23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990960" y="1125360"/>
            <a:ext cx="4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2490120" y="2781360"/>
            <a:ext cx="44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5693400" y="2781360"/>
            <a:ext cx="47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3943800" y="4292640"/>
            <a:ext cx="66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2791080" y="1628640"/>
            <a:ext cx="88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Comic Sans MS"/>
              </a:rPr>
              <a:t>С-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5231880" y="1700280"/>
            <a:ext cx="9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Comic Sans MS"/>
              </a:rPr>
              <a:t>С-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2455560" y="3860640"/>
            <a:ext cx="107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Comic Sans MS"/>
              </a:rPr>
              <a:t>Ю-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5256360" y="386064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Comic Sans MS"/>
              </a:rPr>
              <a:t>Ю-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456120" y="4797360"/>
            <a:ext cx="8350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аписывают название сторон горизо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окращённо. Основные – одной букво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межуточные – двум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981320" y="1741320"/>
            <a:ext cx="3911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ы с вами жив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 планете Зем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спомните, что в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наете о наш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лане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9"/>
          <p:cNvPicPr/>
          <p:nvPr/>
        </p:nvPicPr>
        <p:blipFill>
          <a:blip r:embed="rId1"/>
          <a:stretch/>
        </p:blipFill>
        <p:spPr>
          <a:xfrm>
            <a:off x="0" y="1773360"/>
            <a:ext cx="498168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6831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97120" y="5950080"/>
            <a:ext cx="729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ак раньше люди представляли нашу планет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aeaea"/>
              </a:solidFill>
              <a:latin typeface="Comic Sans MS"/>
            </a:endParaRPr>
          </a:p>
        </p:txBody>
      </p:sp>
      <p:pic>
        <p:nvPicPr>
          <p:cNvPr id="53" name="Picture 6" descr="7"/>
          <p:cNvPicPr/>
          <p:nvPr/>
        </p:nvPicPr>
        <p:blipFill>
          <a:blip r:embed="rId1"/>
          <a:stretch/>
        </p:blipFill>
        <p:spPr>
          <a:xfrm>
            <a:off x="6300720" y="4667400"/>
            <a:ext cx="2616120" cy="1831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11"/>
          <p:cNvPicPr/>
          <p:nvPr/>
        </p:nvPicPr>
        <p:blipFill>
          <a:blip r:embed="rId2"/>
          <a:stretch/>
        </p:blipFill>
        <p:spPr>
          <a:xfrm>
            <a:off x="1574640" y="1079640"/>
            <a:ext cx="5761080" cy="53467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0"/>
          <p:cNvSpPr/>
          <p:nvPr/>
        </p:nvSpPr>
        <p:spPr>
          <a:xfrm>
            <a:off x="1182600" y="0"/>
            <a:ext cx="740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Земля имеет форму шар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1" descr="17"/>
          <p:cNvPicPr/>
          <p:nvPr/>
        </p:nvPicPr>
        <p:blipFill>
          <a:blip r:embed="rId3"/>
          <a:stretch/>
        </p:blipFill>
        <p:spPr>
          <a:xfrm>
            <a:off x="6516720" y="4005360"/>
            <a:ext cx="2317680" cy="2421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9" descr="5"/>
          <p:cNvPicPr/>
          <p:nvPr/>
        </p:nvPicPr>
        <p:blipFill>
          <a:blip r:embed="rId1"/>
          <a:stretch/>
        </p:blipFill>
        <p:spPr>
          <a:xfrm>
            <a:off x="-1440" y="1125360"/>
            <a:ext cx="9145440" cy="37436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539280" y="4581000"/>
            <a:ext cx="81471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том, что Земля имеет форму шара, люди убедились тогда, когда научились строить парусные корабли и стали плавать по морю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" descr="fffff"/>
          <p:cNvPicPr/>
          <p:nvPr/>
        </p:nvPicPr>
        <p:blipFill>
          <a:blip r:embed="rId2"/>
          <a:stretch/>
        </p:blipFill>
        <p:spPr>
          <a:xfrm rot="955200">
            <a:off x="899640" y="0"/>
            <a:ext cx="122400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9" descr="12"/>
          <p:cNvPicPr/>
          <p:nvPr/>
        </p:nvPicPr>
        <p:blipFill>
          <a:blip r:embed="rId1"/>
          <a:stretch/>
        </p:blipFill>
        <p:spPr>
          <a:xfrm>
            <a:off x="33480" y="648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4752720"/>
            <a:ext cx="91440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Люди заметили одну интересную особенность: когда мореплаватели встречали другой корабль, то вначале далеко в море появлялась мачта кораб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Копия 13"/>
          <p:cNvPicPr/>
          <p:nvPr/>
        </p:nvPicPr>
        <p:blipFill>
          <a:blip r:embed="rId2"/>
          <a:stretch/>
        </p:blipFill>
        <p:spPr>
          <a:xfrm>
            <a:off x="1116000" y="4005360"/>
            <a:ext cx="1582920" cy="5508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2"/>
          <p:cNvSpPr/>
          <p:nvPr/>
        </p:nvSpPr>
        <p:spPr>
          <a:xfrm>
            <a:off x="1573200" y="5805360"/>
            <a:ext cx="541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атем появлялись пар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4" descr="Копия Копия 13"/>
          <p:cNvPicPr/>
          <p:nvPr/>
        </p:nvPicPr>
        <p:blipFill>
          <a:blip r:embed="rId3"/>
          <a:stretch/>
        </p:blipFill>
        <p:spPr>
          <a:xfrm>
            <a:off x="3348000" y="3573360"/>
            <a:ext cx="1728720" cy="946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" descr="Копия (2) Копия 13"/>
          <p:cNvPicPr/>
          <p:nvPr/>
        </p:nvPicPr>
        <p:blipFill>
          <a:blip r:embed="rId4"/>
          <a:stretch/>
        </p:blipFill>
        <p:spPr>
          <a:xfrm>
            <a:off x="3276720" y="2781360"/>
            <a:ext cx="3024000" cy="28558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6"/>
          <p:cNvSpPr/>
          <p:nvPr/>
        </p:nvSpPr>
        <p:spPr>
          <a:xfrm>
            <a:off x="1271160" y="5791320"/>
            <a:ext cx="6668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Лишь при его приближен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тановился виден весь кораб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564000" y="2421000"/>
            <a:ext cx="54720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шло много времени, и люди поняли, что такое может быть только на Земле, которая по форме напоминает ша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jhcl"/>
          <p:cNvPicPr/>
          <p:nvPr/>
        </p:nvPicPr>
        <p:blipFill>
          <a:blip r:embed="rId1"/>
          <a:stretch/>
        </p:blipFill>
        <p:spPr>
          <a:xfrm>
            <a:off x="179280" y="1628640"/>
            <a:ext cx="3365640" cy="440532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4581360"/>
            <a:ext cx="9144000" cy="22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чти 5 веков назад отважный капитан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Фернан Магеллан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плыл в одном и том же направлении на своём парусном корабле в течение нескольких л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15"/>
          <p:cNvPicPr/>
          <p:nvPr/>
        </p:nvPicPr>
        <p:blipFill>
          <a:blip r:embed="rId1"/>
          <a:stretch/>
        </p:blipFill>
        <p:spPr>
          <a:xfrm>
            <a:off x="3851280" y="1268280"/>
            <a:ext cx="4500720" cy="3375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61200" y="4653000"/>
            <a:ext cx="9166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агеллан обогнул Землю и вернулся ту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ткуда начинал своё путешествие. Это ста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щё одним доказательством шарообраз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формы Зем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14"/>
          <p:cNvPicPr/>
          <p:nvPr/>
        </p:nvPicPr>
        <p:blipFill>
          <a:blip r:embed="rId2"/>
          <a:stretch/>
        </p:blipFill>
        <p:spPr>
          <a:xfrm>
            <a:off x="395280" y="1268280"/>
            <a:ext cx="27734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4292280"/>
            <a:ext cx="91440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тправляясь в путешествия, людиЗемную поверхность, которую они видели вокруг себя, люди стали называть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горизонтом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16"/>
          <p:cNvPicPr/>
          <p:nvPr/>
        </p:nvPicPr>
        <p:blipFill>
          <a:blip r:embed="rId1"/>
          <a:stretch/>
        </p:blipFill>
        <p:spPr>
          <a:xfrm>
            <a:off x="1979640" y="260280"/>
            <a:ext cx="5257800" cy="3948120"/>
          </a:xfrm>
          <a:prstGeom prst="rect">
            <a:avLst/>
          </a:prstGeom>
          <a:ln w="38160">
            <a:solidFill>
              <a:srgbClr val="292929"/>
            </a:solidFill>
            <a:miter/>
          </a:ln>
        </p:spPr>
      </p:pic>
      <p:sp>
        <p:nvSpPr>
          <p:cNvPr id="80" name="Text Box 5"/>
          <p:cNvSpPr/>
          <p:nvPr/>
        </p:nvSpPr>
        <p:spPr>
          <a:xfrm>
            <a:off x="1132200" y="5530680"/>
            <a:ext cx="669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Горизонт – земная поверхн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которую мы видим вокруг с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17"/>
          <p:cNvPicPr/>
          <p:nvPr/>
        </p:nvPicPr>
        <p:blipFill>
          <a:blip r:embed="rId2"/>
          <a:stretch/>
        </p:blipFill>
        <p:spPr>
          <a:xfrm>
            <a:off x="971640" y="0"/>
            <a:ext cx="7200720" cy="5400720"/>
          </a:xfrm>
          <a:prstGeom prst="rect">
            <a:avLst/>
          </a:prstGeom>
          <a:ln w="38160">
            <a:solidFill>
              <a:srgbClr val="2929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13:54:56Z</dcterms:created>
  <dc:creator>мама</dc:creator>
  <dc:description/>
  <dc:language>en-US</dc:language>
  <cp:lastModifiedBy>USER</cp:lastModifiedBy>
  <dcterms:modified xsi:type="dcterms:W3CDTF">2020-04-05T23:17:46Z</dcterms:modified>
  <cp:revision>16</cp:revision>
  <dc:subject/>
  <dc:title>Слайд 1</dc:title>
</cp:coreProperties>
</file>