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3E1-7635-4385-AED9-EA9D64EC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426-C849-4C1E-BA60-C4D3EE5B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E96-3DEC-4D41-B749-5804194A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143-4B90-4A66-8066-A3E590CF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4A5-C5B3-4E96-A1F1-76C6DEAE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687-898B-4DCB-8D86-A422B7A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FB5-B8EE-4DBC-B0DF-72EE866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9BB-0607-433C-BED6-D7F67097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3F-2605-4668-ABA3-C4702CA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4C9-D574-4925-9140-C2A7281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62E-CBF3-4E77-ACB1-4A340FA5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154-4779-4F97-8DB7-B872CDD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1EC5-CF49-4CFB-B260-CF59CAA6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78124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359080"/>
            <a:ext cx="838188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осмотри вокруг...</a:t>
            </a:r>
            <a:endParaRPr b="0" lang="en-US" sz="7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3" name="Picture 5" descr="23"/>
          <p:cNvPicPr/>
          <p:nvPr/>
        </p:nvPicPr>
        <p:blipFill>
          <a:blip r:embed="rId1"/>
          <a:stretch/>
        </p:blipFill>
        <p:spPr>
          <a:xfrm>
            <a:off x="6588000" y="3645000"/>
            <a:ext cx="182412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ffff"/>
          <p:cNvPicPr/>
          <p:nvPr/>
        </p:nvPicPr>
        <p:blipFill>
          <a:blip r:embed="rId2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7400" y="303372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осмотри во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ница горизонта, где небо как бы сходится с земной поверхностью, называе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линией гориз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9"/>
          <p:cNvPicPr/>
          <p:nvPr/>
        </p:nvPicPr>
        <p:blipFill>
          <a:blip r:embed="rId1"/>
          <a:stretch/>
        </p:blipFill>
        <p:spPr>
          <a:xfrm>
            <a:off x="108000" y="1268280"/>
            <a:ext cx="4176720" cy="324036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  <p:pic>
        <p:nvPicPr>
          <p:cNvPr id="85" name="Picture 5" descr="18"/>
          <p:cNvPicPr/>
          <p:nvPr/>
        </p:nvPicPr>
        <p:blipFill>
          <a:blip r:embed="rId2"/>
          <a:stretch/>
        </p:blipFill>
        <p:spPr>
          <a:xfrm>
            <a:off x="4500720" y="1268280"/>
            <a:ext cx="4535280" cy="322740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ороны горизонта</a:t>
            </a:r>
            <a:r>
              <a:rPr b="0" lang="ru-RU" sz="4400" spc="-1" strike="noStrike">
                <a:solidFill>
                  <a:srgbClr val="eaeaea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далёкие путешествия, люди ориентируются по сторонам горизонта. То направление, где Солнце поднимается выше всего и сильнее греет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1280" y="494172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тивоположное направление, где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гда не появляется, и откуда д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олодные ветры, назва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518840" y="5300640"/>
            <a:ext cx="60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це вс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на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а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16080" y="4941720"/>
            <a:ext cx="83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схемах и карт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сегда обозначают вверх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внизу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ва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Копия (2) Копия 13"/>
          <p:cNvPicPr/>
          <p:nvPr/>
        </p:nvPicPr>
        <p:blipFill>
          <a:blip r:embed="rId1"/>
          <a:stretch/>
        </p:blipFill>
        <p:spPr>
          <a:xfrm>
            <a:off x="6443640" y="2349360"/>
            <a:ext cx="24192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20"/>
          <p:cNvPicPr/>
          <p:nvPr/>
        </p:nvPicPr>
        <p:blipFill>
          <a:blip r:embed="rId2"/>
          <a:stretch/>
        </p:blipFill>
        <p:spPr>
          <a:xfrm>
            <a:off x="82440" y="2133720"/>
            <a:ext cx="2401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 rot="19065000"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ороны горизо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4797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основных сторон горизонта есть ещё и промежуточные: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вер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вос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юго-запа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132000" y="1844640"/>
            <a:ext cx="2305080" cy="2376360"/>
          </a:xfrm>
          <a:custGeom>
            <a:avLst/>
            <a:gdLst>
              <a:gd name="textAreaLeft" fmla="*/ 949680 w 2305080"/>
              <a:gd name="textAreaRight" fmla="*/ 1355400 w 2305080"/>
              <a:gd name="textAreaTop" fmla="*/ 979200 h 2376360"/>
              <a:gd name="textAreaBottom" fmla="*/ 1397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90960" y="112536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490120" y="278136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693400" y="27813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943800" y="42926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791080" y="1628640"/>
            <a:ext cx="8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231880" y="170028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С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455560" y="386064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256360" y="3860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omic Sans MS"/>
              </a:rPr>
              <a:t>Ю-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56120" y="4797360"/>
            <a:ext cx="835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исывают название сторон горизо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кращённо. Основные – одной бук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чные – дву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81320" y="1741320"/>
            <a:ext cx="3911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 с вами жив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планете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помните, что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о наш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9"/>
          <p:cNvPicPr/>
          <p:nvPr/>
        </p:nvPicPr>
        <p:blipFill>
          <a:blip r:embed="rId1"/>
          <a:stretch/>
        </p:blipFill>
        <p:spPr>
          <a:xfrm>
            <a:off x="0" y="1773360"/>
            <a:ext cx="4981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3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97120" y="595008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 раньше люди представляли нашу плане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53" name="Picture 6" descr="7"/>
          <p:cNvPicPr/>
          <p:nvPr/>
        </p:nvPicPr>
        <p:blipFill>
          <a:blip r:embed="rId1"/>
          <a:stretch/>
        </p:blipFill>
        <p:spPr>
          <a:xfrm>
            <a:off x="6300720" y="4667400"/>
            <a:ext cx="2616120" cy="183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1"/>
          <p:cNvPicPr/>
          <p:nvPr/>
        </p:nvPicPr>
        <p:blipFill>
          <a:blip r:embed="rId2"/>
          <a:stretch/>
        </p:blipFill>
        <p:spPr>
          <a:xfrm>
            <a:off x="1574640" y="1079640"/>
            <a:ext cx="5761080" cy="534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1182600" y="0"/>
            <a:ext cx="740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емля имеет форму ш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17"/>
          <p:cNvPicPr/>
          <p:nvPr/>
        </p:nvPicPr>
        <p:blipFill>
          <a:blip r:embed="rId3"/>
          <a:stretch/>
        </p:blipFill>
        <p:spPr>
          <a:xfrm>
            <a:off x="6516720" y="4005360"/>
            <a:ext cx="2317680" cy="242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5"/>
          <p:cNvPicPr/>
          <p:nvPr/>
        </p:nvPicPr>
        <p:blipFill>
          <a:blip r:embed="rId1"/>
          <a:stretch/>
        </p:blipFill>
        <p:spPr>
          <a:xfrm>
            <a:off x="-1440" y="1125360"/>
            <a:ext cx="9145440" cy="3743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ом, что Земля имеет форму шара, люди убедились тогда, когда научились строить парусные корабли и стали плавать по морю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fffff"/>
          <p:cNvPicPr/>
          <p:nvPr/>
        </p:nvPicPr>
        <p:blipFill>
          <a:blip r:embed="rId2"/>
          <a:stretch/>
        </p:blipFill>
        <p:spPr>
          <a:xfrm rot="955200">
            <a:off x="899640" y="0"/>
            <a:ext cx="1224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12"/>
          <p:cNvPicPr/>
          <p:nvPr/>
        </p:nvPicPr>
        <p:blipFill>
          <a:blip r:embed="rId1"/>
          <a:stretch/>
        </p:blipFill>
        <p:spPr>
          <a:xfrm>
            <a:off x="33480" y="648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475272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ди заметили одну интересную особенность: когда мореплаватели встречали другой корабль, то вначале далеко в море появлялась мачта кора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Копия 13"/>
          <p:cNvPicPr/>
          <p:nvPr/>
        </p:nvPicPr>
        <p:blipFill>
          <a:blip r:embed="rId2"/>
          <a:stretch/>
        </p:blipFill>
        <p:spPr>
          <a:xfrm>
            <a:off x="1116000" y="4005360"/>
            <a:ext cx="1582920" cy="550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1573200" y="580536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тем появлялись пар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Копия Копия 13"/>
          <p:cNvPicPr/>
          <p:nvPr/>
        </p:nvPicPr>
        <p:blipFill>
          <a:blip r:embed="rId3"/>
          <a:stretch/>
        </p:blipFill>
        <p:spPr>
          <a:xfrm>
            <a:off x="3348000" y="3573360"/>
            <a:ext cx="1728720" cy="94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Копия (2) Копия 13"/>
          <p:cNvPicPr/>
          <p:nvPr/>
        </p:nvPicPr>
        <p:blipFill>
          <a:blip r:embed="rId4"/>
          <a:stretch/>
        </p:blipFill>
        <p:spPr>
          <a:xfrm>
            <a:off x="3276720" y="2781360"/>
            <a:ext cx="3024000" cy="2855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1271160" y="5791320"/>
            <a:ext cx="666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при его приближ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новился виден весь кора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64000" y="2421000"/>
            <a:ext cx="5472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шло много времени, и люди поняли, что такое может быть только на Земле, которая по форме напоминает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jhcl"/>
          <p:cNvPicPr/>
          <p:nvPr/>
        </p:nvPicPr>
        <p:blipFill>
          <a:blip r:embed="rId1"/>
          <a:stretch/>
        </p:blipFill>
        <p:spPr>
          <a:xfrm>
            <a:off x="179280" y="1628640"/>
            <a:ext cx="3365640" cy="4405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чти 5 веков назад отважный капита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ернан Магел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лыл в одном и том же направлении на своём парусном корабле в течение нескольких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5"/>
          <p:cNvPicPr/>
          <p:nvPr/>
        </p:nvPicPr>
        <p:blipFill>
          <a:blip r:embed="rId1"/>
          <a:stretch/>
        </p:blipFill>
        <p:spPr>
          <a:xfrm>
            <a:off x="3851280" y="126828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61200" y="4653000"/>
            <a:ext cx="916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геллан обогнул Землю и вернулся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начинал своё путешествие. Это ст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щё одним доказательством шарообра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4"/>
          <p:cNvPicPr/>
          <p:nvPr/>
        </p:nvPicPr>
        <p:blipFill>
          <a:blip r:embed="rId2"/>
          <a:stretch/>
        </p:blipFill>
        <p:spPr>
          <a:xfrm>
            <a:off x="395280" y="1268280"/>
            <a:ext cx="277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правляясь в путешествия, людиЗемную поверхность, которую они видели вокруг себя, люди стали назы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ом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6"/>
          <p:cNvPicPr/>
          <p:nvPr/>
        </p:nvPicPr>
        <p:blipFill>
          <a:blip r:embed="rId1"/>
          <a:stretch/>
        </p:blipFill>
        <p:spPr>
          <a:xfrm>
            <a:off x="1979640" y="260280"/>
            <a:ext cx="5257800" cy="39481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1132200" y="55306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оризонт – земная поверх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торую мы видим вокруг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17"/>
          <p:cNvPicPr/>
          <p:nvPr/>
        </p:nvPicPr>
        <p:blipFill>
          <a:blip r:embed="rId2"/>
          <a:stretch/>
        </p:blipFill>
        <p:spPr>
          <a:xfrm>
            <a:off x="971640" y="0"/>
            <a:ext cx="7200720" cy="5400720"/>
          </a:xfrm>
          <a:prstGeom prst="rect">
            <a:avLst/>
          </a:prstGeom>
          <a:ln w="3816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3:54:56Z</dcterms:created>
  <dc:creator>мама</dc:creator>
  <dc:description/>
  <dc:language>en-US</dc:language>
  <cp:lastModifiedBy>USER</cp:lastModifiedBy>
  <dcterms:modified xsi:type="dcterms:W3CDTF">2020-04-05T23:17:46Z</dcterms:modified>
  <cp:revision>16</cp:revision>
  <dc:subject/>
  <dc:title>Слайд 1</dc:title>
</cp:coreProperties>
</file>