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29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1.png" ContentType="image/png"/>
  <Override PartName="/ppt/media/image43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.wmf" ContentType="image/x-wmf"/>
  <Override PartName="/ppt/media/image46.jpeg" ContentType="image/jpeg"/>
  <Override PartName="/ppt/media/image12.jpeg" ContentType="image/jpeg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381F-BD0F-4514-ABF5-DB4C1B05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7E0-08B6-48C9-ABB1-4129A290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0FC-7477-46E0-8DA8-7722C9DD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3EB-06F3-4660-8974-7D426B3F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63A-9FB2-4FE4-A378-D4FC54DD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90F7-F63D-47E2-BD12-12DFCF1D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0E07-B9BF-4D57-A62A-5E1D8129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2E1-F4C0-4308-8D38-5F0D40DD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C2B-3209-413A-92A5-AEE54CD8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B11-9CB7-4115-BB4B-59ABED1E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64EA-5718-40BA-9FD6-40183D4B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BD3-C265-41E5-B1AD-600C660F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7328-4260-480B-8A94-00AA511291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ecff"/>
                </a:solidFill>
                <a:latin typeface="Arial"/>
              </a:rPr>
              <a:t>Народно-художественные промыслы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Жосто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37" name="Picture 6" descr="гжелевая звездочка"/>
          <p:cNvPicPr/>
          <p:nvPr/>
        </p:nvPicPr>
        <p:blipFill>
          <a:blip r:embed="rId1"/>
          <a:stretch/>
        </p:blipFill>
        <p:spPr>
          <a:xfrm>
            <a:off x="228600" y="144792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ж1"/>
          <p:cNvPicPr/>
          <p:nvPr/>
        </p:nvPicPr>
        <p:blipFill>
          <a:blip r:embed="rId2"/>
          <a:stretch/>
        </p:blipFill>
        <p:spPr>
          <a:xfrm rot="841200">
            <a:off x="5167440" y="2362320"/>
            <a:ext cx="344304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Жосто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40" name="Picture 8" descr="ж7"/>
          <p:cNvPicPr/>
          <p:nvPr/>
        </p:nvPicPr>
        <p:blipFill>
          <a:blip r:embed="rId1"/>
          <a:stretch/>
        </p:blipFill>
        <p:spPr>
          <a:xfrm rot="21073200">
            <a:off x="533160" y="533520"/>
            <a:ext cx="3047760" cy="3047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ж10"/>
          <p:cNvPicPr/>
          <p:nvPr/>
        </p:nvPicPr>
        <p:blipFill>
          <a:blip r:embed="rId2"/>
          <a:stretch/>
        </p:blipFill>
        <p:spPr>
          <a:xfrm rot="20845800">
            <a:off x="1066320" y="3581280"/>
            <a:ext cx="2884680" cy="2884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ж9"/>
          <p:cNvPicPr/>
          <p:nvPr/>
        </p:nvPicPr>
        <p:blipFill>
          <a:blip r:embed="rId3"/>
          <a:stretch/>
        </p:blipFill>
        <p:spPr>
          <a:xfrm rot="783600">
            <a:off x="4648320" y="22096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3008160" cy="825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Хохлом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44" name="Picture 8" descr="ваз"/>
          <p:cNvPicPr/>
          <p:nvPr/>
        </p:nvPicPr>
        <p:blipFill>
          <a:blip r:embed="rId1"/>
          <a:stretch/>
        </p:blipFill>
        <p:spPr>
          <a:xfrm>
            <a:off x="4495680" y="304920"/>
            <a:ext cx="3000600" cy="30002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5053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Хохлом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село в 7 км.от Семёнова, стоящего над рекой Узолой в Заволжье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какой деревянной посуды и мебели в самой Хохломе не точили. Там была самая большая в Заволжье сельская  торговая площадь. Купля-продажа велась в Хохломе в таких размерах, что уже к началу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ека здешние блюда, миски, ковши и ложки стали самыми любимыми в простом народе. Она–то и назвал их по месту продажи –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хохломски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9" descr="канцнабор"/>
          <p:cNvPicPr/>
          <p:nvPr/>
        </p:nvPicPr>
        <p:blipFill>
          <a:blip r:embed="rId2"/>
          <a:stretch/>
        </p:blipFill>
        <p:spPr>
          <a:xfrm rot="776400">
            <a:off x="6295680" y="254304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коробка для рукоделия"/>
          <p:cNvPicPr/>
          <p:nvPr/>
        </p:nvPicPr>
        <p:blipFill>
          <a:blip r:embed="rId3"/>
          <a:stretch/>
        </p:blipFill>
        <p:spPr>
          <a:xfrm rot="18231000">
            <a:off x="4743360" y="3836880"/>
            <a:ext cx="18669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Хохло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49" name="Picture 7" descr="конь-ладья"/>
          <p:cNvPicPr/>
          <p:nvPr/>
        </p:nvPicPr>
        <p:blipFill>
          <a:blip r:embed="rId1"/>
          <a:stretch/>
        </p:blipFill>
        <p:spPr>
          <a:xfrm>
            <a:off x="228600" y="15238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кашпо"/>
          <p:cNvPicPr/>
          <p:nvPr/>
        </p:nvPicPr>
        <p:blipFill>
          <a:blip r:embed="rId2"/>
          <a:stretch/>
        </p:blipFill>
        <p:spPr>
          <a:xfrm>
            <a:off x="5410080" y="1447920"/>
            <a:ext cx="34578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мат1"/>
          <p:cNvPicPr/>
          <p:nvPr/>
        </p:nvPicPr>
        <p:blipFill>
          <a:blip r:embed="rId1"/>
          <a:stretch/>
        </p:blipFill>
        <p:spPr>
          <a:xfrm>
            <a:off x="4226040" y="1446120"/>
            <a:ext cx="3809880" cy="35053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рёшка – это полая внутри деревянная ярко разрисованная кукла в виде полуовальной фигуры, в которую вставляются другие такие же куклы меньшего размера. (Словарь русского языка. С.И.Ожегов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995040" y="533520"/>
            <a:ext cx="25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атрёш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7" descr="гуляние"/>
          <p:cNvPicPr/>
          <p:nvPr/>
        </p:nvPicPr>
        <p:blipFill>
          <a:blip r:embed="rId1"/>
          <a:stretch/>
        </p:blipFill>
        <p:spPr>
          <a:xfrm>
            <a:off x="457200" y="228600"/>
            <a:ext cx="4952880" cy="3301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коробейники2"/>
          <p:cNvPicPr/>
          <p:nvPr/>
        </p:nvPicPr>
        <p:blipFill>
          <a:blip r:embed="rId2"/>
          <a:stretch/>
        </p:blipFill>
        <p:spPr>
          <a:xfrm>
            <a:off x="3733920" y="3429000"/>
            <a:ext cx="4876560" cy="32511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 rot="21038400">
            <a:off x="823320" y="4995720"/>
            <a:ext cx="23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атрёш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3008520" cy="673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Вышивк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8" name="Picture 7" descr="21"/>
          <p:cNvPicPr/>
          <p:nvPr/>
        </p:nvPicPr>
        <p:blipFill>
          <a:blip r:embed="rId1"/>
          <a:stretch/>
        </p:blipFill>
        <p:spPr>
          <a:xfrm>
            <a:off x="4648320" y="685800"/>
            <a:ext cx="2638440" cy="28576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2971440"/>
            <a:ext cx="3581640" cy="24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ffff"/>
                </a:solidFill>
                <a:latin typeface="Arial"/>
              </a:rPr>
              <a:t>Вышивк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ышитый разноцветными нитями узор на тка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8" descr="15"/>
          <p:cNvPicPr/>
          <p:nvPr/>
        </p:nvPicPr>
        <p:blipFill>
          <a:blip r:embed="rId2"/>
          <a:stretch/>
        </p:blipFill>
        <p:spPr>
          <a:xfrm rot="730200">
            <a:off x="5622480" y="3624120"/>
            <a:ext cx="245592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16"/>
          <p:cNvPicPr/>
          <p:nvPr/>
        </p:nvPicPr>
        <p:blipFill>
          <a:blip r:embed="rId1"/>
          <a:stretch/>
        </p:blipFill>
        <p:spPr>
          <a:xfrm rot="21096600">
            <a:off x="1080720" y="826920"/>
            <a:ext cx="2119320" cy="2438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18"/>
          <p:cNvPicPr/>
          <p:nvPr/>
        </p:nvPicPr>
        <p:blipFill>
          <a:blip r:embed="rId2"/>
          <a:stretch/>
        </p:blipFill>
        <p:spPr>
          <a:xfrm rot="888600">
            <a:off x="1328760" y="3782880"/>
            <a:ext cx="3090960" cy="2455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171"/>
          <p:cNvPicPr/>
          <p:nvPr/>
        </p:nvPicPr>
        <p:blipFill>
          <a:blip r:embed="rId3"/>
          <a:stretch/>
        </p:blipFill>
        <p:spPr>
          <a:xfrm>
            <a:off x="5867280" y="762120"/>
            <a:ext cx="230976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Изображение 021"/>
          <p:cNvPicPr/>
          <p:nvPr/>
        </p:nvPicPr>
        <p:blipFill>
          <a:blip r:embed="rId1"/>
          <a:stretch/>
        </p:blipFill>
        <p:spPr>
          <a:xfrm rot="20820600">
            <a:off x="309600" y="1174320"/>
            <a:ext cx="4038480" cy="3218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Изображение 024"/>
          <p:cNvPicPr/>
          <p:nvPr/>
        </p:nvPicPr>
        <p:blipFill>
          <a:blip r:embed="rId2"/>
          <a:stretch/>
        </p:blipFill>
        <p:spPr>
          <a:xfrm rot="468000">
            <a:off x="4622760" y="1854000"/>
            <a:ext cx="40384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167" name="Содержимое 4" descr="4.jpg"/>
          <p:cNvPicPr/>
          <p:nvPr/>
        </p:nvPicPr>
        <p:blipFill>
          <a:blip r:embed="rId2"/>
          <a:stretch/>
        </p:blipFill>
        <p:spPr>
          <a:xfrm>
            <a:off x="357120" y="1357200"/>
            <a:ext cx="2500560" cy="2344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800600" y="1371600"/>
            <a:ext cx="40384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логодское круже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самое известное, оно выплетается там с 1820 года. Особое внимание уделяется штучным изделиям: знаменитым воротникам, пелеринам, шарфам, перчаткам, салфеткам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" descr="C:\Documents and Settings\user\Рабочий стол\5.jpg"/>
          <p:cNvPicPr/>
          <p:nvPr/>
        </p:nvPicPr>
        <p:blipFill>
          <a:blip r:embed="rId3"/>
          <a:stretch/>
        </p:blipFill>
        <p:spPr>
          <a:xfrm>
            <a:off x="2643120" y="3929040"/>
            <a:ext cx="216864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мысел-это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лкое ремесленное производство, обычно как подсобное занятие при основном, сельскохозяйственн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промыслам даются по названию  места, где они развиваю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родная глиняная игруш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Picture 9" descr="Дымковская игрушка"/>
          <p:cNvPicPr/>
          <p:nvPr/>
        </p:nvPicPr>
        <p:blipFill>
          <a:blip r:embed="rId1"/>
          <a:stretch/>
        </p:blipFill>
        <p:spPr>
          <a:xfrm>
            <a:off x="3048120" y="1752480"/>
            <a:ext cx="27050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ымковская игруш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Picture 6" descr="дымка1"/>
          <p:cNvPicPr/>
          <p:nvPr/>
        </p:nvPicPr>
        <p:blipFill>
          <a:blip r:embed="rId1"/>
          <a:stretch/>
        </p:blipFill>
        <p:spPr>
          <a:xfrm>
            <a:off x="304920" y="1295280"/>
            <a:ext cx="4101840" cy="51818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5"/>
          <p:cNvSpPr/>
          <p:nvPr/>
        </p:nvSpPr>
        <p:spPr>
          <a:xfrm>
            <a:off x="4495680" y="2057400"/>
            <a:ext cx="44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боде Дымково около 500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ана она ещё при Иван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ликом князе Московском, окончательно объединившим рус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мли вокруг Москв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ымковские игрушки разнообраз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ушки-свистульки: уточки-крылатки, барашки, лошадки, всадники на кон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упные фигуры-барыни, няньки, кормилицы, водоноски, лихие гусары, крупные фигуры зверей и пти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верская игруш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изделия мастеров из Тверской области, а точнее из Торжка.Эти игрушки узнаешь сразу: птички, петушки, жар-птицы, царь рыбы, птицы-сирины,медведи и другие игрушки-свистульки покрыты чешуйками, которые затем ярко расписываются и очень нарядно смотрятся на красно-коричневом-фоне обозженной глины. Отличительной чертой тверской игрушки является их рельефное украшение в виде маленьких чешуек и обор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20" descr="Тверская игрушка"/>
          <p:cNvPicPr/>
          <p:nvPr/>
        </p:nvPicPr>
        <p:blipFill>
          <a:blip r:embed="rId1"/>
          <a:stretch/>
        </p:blipFill>
        <p:spPr>
          <a:xfrm>
            <a:off x="4572000" y="1700280"/>
            <a:ext cx="43927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284720" y="259920"/>
            <a:ext cx="4680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рпольска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груш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русском Севере, неподалеку от небольшого города Карпоголя, в почти опустевшей деревушке Гринево жила мастерица-игрушница Ульяна Бабкина. Для лепки она брала красную глину. Фигурки лепила немного грубоватыми, коренастыми, плечи сливаются с затылком, короткие ноги. Изделия просушивали, а через несколько недель обжигали, потом белили. Роспись довольно проста: полоски, штрихи, ромбы, крапинки. Набор красок: голубой, кирпично-красный, зеленая, черный, охристая. Иногда добавляются золотая и серебрянные крас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Карпольская игрушка"/>
          <p:cNvPicPr/>
          <p:nvPr/>
        </p:nvPicPr>
        <p:blipFill>
          <a:blip r:embed="rId1"/>
          <a:stretch/>
        </p:blipFill>
        <p:spPr>
          <a:xfrm>
            <a:off x="179280" y="2133720"/>
            <a:ext cx="410544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рославская игруш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в Ярославской области делали свистульки в виде коней или птиц с веретенообразными туловищами, двумя крохотными ножками и выгнутыми спинами. Игрушку покрывали глазурью или белой масляной краской с синими и красными полосами и пятнам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Ярославская игрушка"/>
          <p:cNvPicPr/>
          <p:nvPr/>
        </p:nvPicPr>
        <p:blipFill>
          <a:blip r:embed="rId1"/>
          <a:stretch/>
        </p:blipFill>
        <p:spPr>
          <a:xfrm>
            <a:off x="4284720" y="2357280"/>
            <a:ext cx="468000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48320" y="188640"/>
            <a:ext cx="44956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ашевская игруш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ил и работал в селе Абашево Пензенской области в 20-30 годах талантливый мастер Ларион Зоткин, был он один из тех кто возродил абашевскую игрушку. Все игрушки мастера Зоткина-свистульки в виде животных с длинным туловищем. Здесь можно увидеть голубого барана с могучими серебрянными рогами, зеленую в серебрянных пятнах собаку, красного оленя с великолепными многоярусными раззолоченными рогами, похожими на елку. Самые обыкновенные животные преврашались в руках Лариона Зоткина в сказочные существа неведомой породы. Традиции продолжают сейчас и другие масте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7" descr="Абашевская игрушка"/>
          <p:cNvPicPr/>
          <p:nvPr/>
        </p:nvPicPr>
        <p:blipFill>
          <a:blip r:embed="rId1"/>
          <a:stretch/>
        </p:blipFill>
        <p:spPr>
          <a:xfrm>
            <a:off x="539640" y="549360"/>
            <a:ext cx="3922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-360" y="115920"/>
            <a:ext cx="471636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имоновская игрушк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местному преданию, основателем  деревни(еще во времена Ивана Грозного) был гончар Филимон (отсюда и Филимоново). Из филимоновской глины делали разную посуду и игрушки, да не всякие, а только свистульки для праздников: зверюшек, птиц, коней, барышень, солдат. Удлиненные пропорции объясняются свойствами местной глины. Филимоновская глина при сушке быстро покрывается трещинами, ее приходится постоянно заглаживать влажной рукой, невольно сужая и вытягивая туловище фигуры. Пока глина сохнет, игрушку много раз приходится оглаживать подтягивать выравнивая ее поверхность. А подглаживать и подтягивать ее приходится дней пять. Роспись игрушки ведется и сейчас не кисточкой , а гусиным пером. С кисточки краска к чистой глине не пристанет, а с гусиного пера ложится. Делают мастера и огромные игрушки-ростом с больших кукол, для украшения жилищ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7" descr="Филимоновская игрушка"/>
          <p:cNvPicPr/>
          <p:nvPr/>
        </p:nvPicPr>
        <p:blipFill>
          <a:blip r:embed="rId1"/>
          <a:stretch/>
        </p:blipFill>
        <p:spPr>
          <a:xfrm>
            <a:off x="4788000" y="981000"/>
            <a:ext cx="415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4"/>
          <p:cNvSpPr txBox="1"/>
          <p:nvPr/>
        </p:nvSpPr>
        <p:spPr>
          <a:xfrm>
            <a:off x="539640" y="476280"/>
            <a:ext cx="7632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Найдите ответы на вопросы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395280" y="234936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декоративно-прикладное искус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виды народных промыслов вы знает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материалы при этом использовалис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де можно применить изготовленные издел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matrishki_hohlomskie"/>
          <p:cNvPicPr/>
          <p:nvPr/>
        </p:nvPicPr>
        <p:blipFill>
          <a:blip r:embed="rId1"/>
          <a:stretch/>
        </p:blipFill>
        <p:spPr>
          <a:xfrm>
            <a:off x="5181480" y="4554360"/>
            <a:ext cx="25686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MCj04379560000[1]"/>
          <p:cNvPicPr/>
          <p:nvPr/>
        </p:nvPicPr>
        <p:blipFill>
          <a:blip r:embed="rId2"/>
          <a:stretch/>
        </p:blipFill>
        <p:spPr>
          <a:xfrm rot="10800000">
            <a:off x="0" y="5084640"/>
            <a:ext cx="1822320" cy="1702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MCj04379420000[1]"/>
          <p:cNvPicPr/>
          <p:nvPr/>
        </p:nvPicPr>
        <p:blipFill>
          <a:blip r:embed="rId3"/>
          <a:stretch/>
        </p:blipFill>
        <p:spPr>
          <a:xfrm rot="10800000">
            <a:off x="7315200" y="0"/>
            <a:ext cx="18288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539640" y="476280"/>
            <a:ext cx="7632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Найдите ответы на вопросы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95280" y="234936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декоративно-прикладное искус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виды народных промыслов вы знает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материалы при этом использовалис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де можно применить изготовленные издел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matrishki_hohlomskie"/>
          <p:cNvPicPr/>
          <p:nvPr/>
        </p:nvPicPr>
        <p:blipFill>
          <a:blip r:embed="rId1"/>
          <a:stretch/>
        </p:blipFill>
        <p:spPr>
          <a:xfrm>
            <a:off x="5148360" y="4508640"/>
            <a:ext cx="2568600" cy="230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MCj04379560000[1]"/>
          <p:cNvPicPr/>
          <p:nvPr/>
        </p:nvPicPr>
        <p:blipFill>
          <a:blip r:embed="rId2"/>
          <a:stretch/>
        </p:blipFill>
        <p:spPr>
          <a:xfrm rot="10800000">
            <a:off x="0" y="5084640"/>
            <a:ext cx="1822320" cy="1702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MCj04379420000[1]"/>
          <p:cNvPicPr/>
          <p:nvPr/>
        </p:nvPicPr>
        <p:blipFill>
          <a:blip r:embed="rId3"/>
          <a:stretch/>
        </p:blipFill>
        <p:spPr>
          <a:xfrm rot="10800000">
            <a:off x="7315200" y="0"/>
            <a:ext cx="18288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2320" y="0"/>
            <a:ext cx="3008160" cy="673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Городец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5" name="Picture 6" descr="поднос всадник"/>
          <p:cNvPicPr/>
          <p:nvPr/>
        </p:nvPicPr>
        <p:blipFill>
          <a:blip r:embed="rId1"/>
          <a:stretch/>
        </p:blipFill>
        <p:spPr>
          <a:xfrm>
            <a:off x="5486400" y="914400"/>
            <a:ext cx="3314880" cy="3314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4800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ревности Городец на волге назывался малым Китеж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авился мастерами  -  «Домовиками», главным делом которых было строительство дом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ма покрывали резьбой от самого конька до завалинки. Здесь же создавались пряничные доски для печатания пряников – свадебных, поминальных, именин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раз коня – древний, связанный с культом солн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ревний человек думал и верил в то, что если нарисовать солнце в виде животного, или красного круга, или цветка, или сделать в виде коня и иметь всегда рядом, то они охранят его от бед и несчастий. Принесут достаток и радость в 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случайно в быту стали изображать коней на полотенцах, на  детских люльках, сделали коня главной игруш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 rot="20977200">
            <a:off x="6895440" y="478116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ту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ороде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9" name="Picture 7" descr="гор1"/>
          <p:cNvPicPr/>
          <p:nvPr/>
        </p:nvPicPr>
        <p:blipFill>
          <a:blip r:embed="rId1"/>
          <a:stretch/>
        </p:blipFill>
        <p:spPr>
          <a:xfrm>
            <a:off x="304920" y="175248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конекгорбунок"/>
          <p:cNvPicPr/>
          <p:nvPr/>
        </p:nvPicPr>
        <p:blipFill>
          <a:blip r:embed="rId2"/>
          <a:stretch/>
        </p:blipFill>
        <p:spPr>
          <a:xfrm>
            <a:off x="4572000" y="1447920"/>
            <a:ext cx="43434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ороде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2" name="Picture 7" descr="петушок"/>
          <p:cNvPicPr/>
          <p:nvPr/>
        </p:nvPicPr>
        <p:blipFill>
          <a:blip r:embed="rId1"/>
          <a:stretch/>
        </p:blipFill>
        <p:spPr>
          <a:xfrm>
            <a:off x="533520" y="1752480"/>
            <a:ext cx="4052880" cy="457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город"/>
          <p:cNvPicPr/>
          <p:nvPr/>
        </p:nvPicPr>
        <p:blipFill>
          <a:blip r:embed="rId2"/>
          <a:stretch/>
        </p:blipFill>
        <p:spPr>
          <a:xfrm>
            <a:off x="5257800" y="1371600"/>
            <a:ext cx="36100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5695920"/>
            <a:ext cx="41907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Гжель 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- большой район, объединяющий до 30 сёл и деревень, находится в 60 км. от Москвы по Рязанской железной дороге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Гжель 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известна массовым производством в течение всего</a:t>
            </a: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XIX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 века ( а история её началась ранее) фарфорово – фаянсовой посуды, игрушек и декоративных статуэток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Гжель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 – родина русской керамики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Гжельскую посуду отличает единство вещи и её декора.</a:t>
            </a: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Все виды росписи – цветы, птицы, люди, животные – прочно связаны с формой, объёмом и конструкцией вещи, исполнены в плоскостной манере локальными красками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5" name="Picture 6" descr="ангелы"/>
          <p:cNvPicPr/>
          <p:nvPr/>
        </p:nvPicPr>
        <p:blipFill>
          <a:blip r:embed="rId1"/>
          <a:stretch/>
        </p:blipFill>
        <p:spPr>
          <a:xfrm>
            <a:off x="5791320" y="380880"/>
            <a:ext cx="2562120" cy="3419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копилка поросенокна баксах"/>
          <p:cNvPicPr/>
          <p:nvPr/>
        </p:nvPicPr>
        <p:blipFill>
          <a:blip r:embed="rId2"/>
          <a:stretch/>
        </p:blipFill>
        <p:spPr>
          <a:xfrm>
            <a:off x="6684840" y="3581280"/>
            <a:ext cx="2459160" cy="3276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4"/>
          <p:cNvSpPr/>
          <p:nvPr/>
        </p:nvSpPr>
        <p:spPr>
          <a:xfrm>
            <a:off x="3965760" y="228600"/>
            <a:ext cx="163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же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9" name="Picture 6" descr="вечериний"/>
          <p:cNvPicPr/>
          <p:nvPr/>
        </p:nvPicPr>
        <p:blipFill>
          <a:blip r:embed="rId1"/>
          <a:stretch/>
        </p:blipFill>
        <p:spPr>
          <a:xfrm>
            <a:off x="685800" y="380880"/>
            <a:ext cx="2513160" cy="3353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даша с сыром"/>
          <p:cNvPicPr/>
          <p:nvPr/>
        </p:nvPicPr>
        <p:blipFill>
          <a:blip r:embed="rId2"/>
          <a:stretch/>
        </p:blipFill>
        <p:spPr>
          <a:xfrm rot="21096600">
            <a:off x="2971800" y="3200400"/>
            <a:ext cx="2516040" cy="3352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два веселых гуся"/>
          <p:cNvPicPr/>
          <p:nvPr/>
        </p:nvPicPr>
        <p:blipFill>
          <a:blip r:embed="rId3"/>
          <a:stretch/>
        </p:blipFill>
        <p:spPr>
          <a:xfrm rot="585600">
            <a:off x="5410080" y="380880"/>
            <a:ext cx="314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90920" y="0"/>
            <a:ext cx="3008160" cy="673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Жостово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33" name="Picture 7" descr="ж6"/>
          <p:cNvPicPr/>
          <p:nvPr/>
        </p:nvPicPr>
        <p:blipFill>
          <a:blip r:embed="rId1"/>
          <a:stretch/>
        </p:blipFill>
        <p:spPr>
          <a:xfrm>
            <a:off x="4267080" y="3581280"/>
            <a:ext cx="3000600" cy="3000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3809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далеко от Москвы, среди широких раздолий Русской равнины, в очень живописном месте находится село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Жостово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менито это село тем, что никто не может рисовать цветы лучше местных умельцев на железных подносах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ркие, сочные и крупные цветы в окружении свежей листвы. Широко и свободно брошенные на специально подготовленный фон подноса, - таков «классический» вид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жостовской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спис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8" descr="ж4"/>
          <p:cNvPicPr/>
          <p:nvPr/>
        </p:nvPicPr>
        <p:blipFill>
          <a:blip r:embed="rId2"/>
          <a:stretch/>
        </p:blipFill>
        <p:spPr>
          <a:xfrm>
            <a:off x="5257800" y="6094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ляра</cp:lastModifiedBy>
  <dcterms:modified xsi:type="dcterms:W3CDTF">2020-04-02T11:58:38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