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608-A16A-4E63-ABD5-1F7D9B1C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1C2-AD9C-4B1B-B4A7-517FAA4C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8CE-F220-4954-8B6C-1760F771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377-F6B7-4E39-9288-D5B5942D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ECDB-9996-4CC2-83B7-7FBE816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DC97-A6DF-4D3B-A3DA-7360C1AF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49C-75EE-49FA-AC6E-08155D9B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887-EA03-40F9-B3E0-DCBA9CCC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C379-6B01-4364-B44D-DCC3DE6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C2ED-C274-4E15-B3DE-EDD99ED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9F3C-240C-4C82-A63E-53667A3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59E-CF3C-400C-B420-06B61732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A2C8-36BB-4DC3-8568-A40833C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6C4-F8F3-44A9-B959-758EC7D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F05-7192-422B-B58F-F7A8966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62B-F0C8-4CD2-B432-D9D6CB5E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801-7F17-46F7-9A60-DEA5014E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74A4-3905-43EE-982B-D00BD892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D28C-54D5-4801-B9EC-DB01309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7A33-99B7-4D76-B2C8-C02F07B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B220-E443-4A1F-84DF-669C9D1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C2D6-2CB3-4A09-93DA-C1CE0C2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10B-C16A-4B57-B7F2-DF36C43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FB62-A259-499D-A7F6-A6C7E093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670A-48FA-454F-99E6-75C2114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0E98-7685-4E09-8B0D-F55E355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90B7-0337-48AC-A5AC-281BCB00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A25E-4DC1-4677-95D9-9A36FF04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3E96-57E5-4168-A60D-C09D9F29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DEE5-E7C8-45C7-8C10-7175EE87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A90A-9051-4E74-8175-31FF1FBF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0203-C856-45CF-973B-C17EEB2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0EDE-4E32-475E-9E8F-9CF3BA1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DE0-2F49-4E86-B860-8970953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6DC9-0B9D-4C94-A7DD-E78FD17D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DB0C-78B6-446C-B717-80B6164A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2497-1207-4F0E-9931-ECCA7573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11D8-9B1D-4D86-A055-85D8C93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8F4F-5BB0-405A-AE4C-77570989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351A-2902-44A5-B060-F15EACD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4DEF3-179F-40DB-8EA3-EA05271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2C4E-CA37-4B80-9346-782AFBCD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AF1C-1BB9-44EE-BCC1-A33DF8F3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FDF6-CAE9-46FC-8D6C-31B57B5C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DDD-6738-414E-872D-BB6F5C26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C13D-65E5-4E71-A8E3-479AD087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ABD5-B017-4697-A8C2-4591B8F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A860-095B-4CFD-8004-BE03E1F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CBB7-FDD4-405B-98D4-0FB2177D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2CE0-7E53-4C67-8B1C-35F2F181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E7EE-F3A0-4B4C-8FF7-2A69ADC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8D51D-8316-4416-BDC5-98B652E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5D1E-9657-45E2-BC86-EE75DD0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A76C-2CF3-4FBA-88F4-B81F398B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C497-E77E-4B53-92E4-118EEDEB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54F-D6A2-487B-9680-B0541A99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6D61-2ED3-480F-8BDE-A6156DDA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D054-C6FE-436B-987E-05BD78BF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4B70-C15A-4B73-B307-23050AA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5168-3835-4148-A592-4E8D2ECD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0F78-A8FE-4EE9-BEA9-E426C26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05C84-79C0-49A4-939C-127CA54E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A1BF3-EF10-480F-B7B9-DCD8C01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895E5-805D-420F-914B-6BDC5AE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5F2B3-3BFD-44C1-8DDD-4ED1BE7D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538EB-3960-48E7-8786-1EE6C52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54C-88D2-4545-87A9-CD0DDBC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3F464-6E6E-4FBF-BEFF-A10D14BA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8D6A-60F8-43B7-A706-36D9BCD8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C6C0-B715-4D33-94C5-01427B9A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48D3-70DF-48A8-B77E-2F9AF698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2919-6671-422F-90F1-7ABDA13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D653-15B4-42CF-A608-2EBE7DC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797A-11CD-40FE-8658-6DC5406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A1AE-A3F9-4189-AEED-69D56A12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0CC4C-C9E5-4E3C-8D0F-975112C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9090-1CDC-4B1E-87C9-7ACDFD56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1A6-108E-48CD-9513-5FCC2FE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A915E-9001-4DA5-94CB-A2C32E7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9A2E-5B40-4FD2-9AD2-0C020A7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16B5-6198-409E-9F38-B2360A8A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241CB-241A-42B2-ADE8-3C8A8A68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348A-487C-41C2-8A87-FB1C44B4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7DFB-F604-4F31-88B0-080BBAE5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5AD0-2454-4EF0-AC25-1A68A17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AA9A6-AD70-4DF2-93CF-2D78485E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FFE27-76D8-4CFB-B1FD-81B1CC5C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34E1-C792-4E57-BD07-4069DE1E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2C5-2247-44F7-BDB6-D580549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199D-72A3-4B25-99CE-78DC7E59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46EA-8D73-47F5-874D-523FE75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046BC-57D9-4397-BB4F-352BE44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73FA-9176-4C88-AEB3-C239100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DA782-13D9-4F0A-808B-17B56C0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2CC8D-354B-462C-AB37-FA210E81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A0754-6A24-471F-A3FA-1700BB71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FF8-83E7-4C68-9ACC-646BF79C537E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C6EB-9729-4525-A34B-E26EF4A31A8C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841A-FDA8-4514-8DB8-0B78CE789861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6311-0162-4B3F-9175-F90E8CEEF561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932D-62CD-4CB6-8D8B-AC42709F82D9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D86-5AE1-48A5-9926-C193737DF747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0384-C38F-4524-8FBB-E165EBB2FB77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6bc9c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6bc9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E72D-0F78-4AE9-94E1-4D6E82FD2C1C}" type="slidenum">
              <a:rPr b="1" lang="ru-RU" sz="1200" spc="-1" strike="noStrike">
                <a:solidFill>
                  <a:srgbClr val="c6bc9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196640"/>
            <a:ext cx="6400800" cy="19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ФОРМЛЕНИЕ ПРОСТРАНСТВА ДЕТСКОГО ЧТЕНИ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95959"/>
                </a:solidFill>
                <a:latin typeface="Constantia"/>
              </a:rPr>
              <a:t>Воспитатели: Ариткулова Д.В., Петросян .Э., Самарина Е.В., Соколова Ю.Н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595959"/>
                </a:solidFill>
                <a:latin typeface="Constantia"/>
              </a:rPr>
              <a:t>ГБОУ Школа № 2120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952520" y="1268280"/>
            <a:ext cx="3364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нига – верны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нига – первы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нига – лучший друг ребя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м никак нельзя без книжк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м никак нельзя без книжки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ребята говоря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Объект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Объект 7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267000" cy="44643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2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Объект 4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3208320" cy="44640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436920" cy="45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31T17:05:58Z</dcterms:created>
  <dc:creator>Кудряшка</dc:creator>
  <dc:description/>
  <dc:language>en-US</dc:language>
  <cp:lastModifiedBy>Abyssal Devil</cp:lastModifiedBy>
  <dcterms:modified xsi:type="dcterms:W3CDTF">2020-04-06T18:38:31Z</dcterms:modified>
  <cp:revision>2</cp:revision>
  <dc:subject/>
  <dc:title>Оформление пространства детского чтения</dc:title>
</cp:coreProperties>
</file>