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C81-6AFB-4E07-862C-3E3850BC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547-8440-4C0C-96C3-0ECC194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B6D-DCE8-4025-97A5-98D6EF87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037-B731-4FE1-B777-76E09F0D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5881-E821-4588-9019-61DFE400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5F86-2FAD-4EC5-9641-9918B130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4CD2-CBCB-44CD-9312-4CA7AAB6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D3DB-436B-4FCA-B7C3-118B36A1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5A9-DE42-4D18-B8B5-5D1C6FD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FD39-DB56-46E3-9ADE-016AD84D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82B9-0C37-4E28-9F90-8409ED44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BF7-47EB-41DF-BEAB-E61B2A3C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C226-2808-4A74-98F0-DD0E50D9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B70C-A8B5-49C0-B66B-AAC55655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BE94-FD7C-47F2-81DC-9A4FA737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423B-FA0C-422D-AAA9-1887DE83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54FF-7EC0-4898-992E-2DD4EE9A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65CA-20E5-45A5-9832-95675F89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0888-E936-4109-9EBD-9FBC9F85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4890-7F16-42AA-BF88-3DDBB89A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1E4A-90D6-45C5-86E5-D521D92D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10BA-590D-40F6-A680-1E846649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875-E402-4B25-8274-A9A13F6B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6BD7-6FDA-417F-8CE8-A4B36C7F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9CF8-5CFF-41E6-967D-656531A7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077B-3A1B-4813-B334-0774EC4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5958-1A39-4FC3-B03E-013EBFF1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F75E-7587-47A4-825F-C06BDA59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C5D8-1FFC-4596-AE70-937A1BED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03C9-4098-425B-B139-C072C4BC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DC74-4E74-43CD-B1A8-424FCCB3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303D8-32CE-4F6C-B36D-E99A692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7E776-D9C0-46A9-85C8-B04E46AA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44B-92C7-4D4C-A0B2-3502719B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0EB1A-C133-4978-AAD0-043768A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8E0AE-4E70-41AB-935B-9084EBDC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088CC-AC31-4FDB-9001-A47AA35A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AF46-6D17-4F46-8BDC-2842CFE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467CF-50CE-4F7E-A1A7-B219C84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9122-1F39-4486-9C0B-C1D2E806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92FD-779E-4106-B4D3-5FC0BC2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CD5C-1671-4C05-BC85-8AAFA3A5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06F3-1694-4039-B506-BFB7BF17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E53EE-CFD9-4837-9111-1DA73F5A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6A6-F54F-4E04-9AE8-36F994CC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AC70E-9F64-4CE8-ABE1-31487B66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61498-2FE2-4380-A9C0-F0DEC130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8176-1652-4BC3-BC00-2A140141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89B6-D0CE-4E0B-AD1F-D7466D86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5BB1-0388-453A-ADE2-2F7D1DFD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5B53E-4DEC-4C30-8C43-F49D3DE0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83C9-E5C4-4BB1-8C48-04E872CC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549D-F48F-4B3C-9C44-EDF56AFD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C2C6F-EC76-4DE9-A10E-A8D7163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8F9B-CCE2-4F0E-9889-D3F483EB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2B7-A83A-4419-BDAD-220CE7E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1B9D-0F1E-4AF9-9668-026D65CE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D30B-0467-40CC-869C-90B61C83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DFCE-856F-41CE-8898-0D2874C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6DC28-441F-4685-90FF-A3EB930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6F16E-3862-4B83-8598-49AAE7D6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E8F52-68E8-4943-993D-45973FFF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64FCD-3A06-4926-94B5-EB94B1E9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1D79-0527-4A9A-97ED-57B2566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32F3-A3B8-4786-A70B-EE4EE38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788B-EA27-40F1-988B-DF160F00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94E-C46F-49FC-809C-54372D30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8B362-0D7A-4CA6-A31A-9B19F72B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69E90-D505-49A1-801A-E288C441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C594-5015-44D2-9491-9465848D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02DF7-FC3D-407F-8513-8C13D425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55B45-E8D9-47A5-923A-25CC2D7E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6257-4868-4F63-AB01-87F31F01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92BFB-9FFE-46C7-B892-11720687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9C49C-62A3-489D-9656-2DBA429B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097EE-AABD-476E-9192-42A15CF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AC2A2-B793-45A2-9E9C-87E074A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8C4-932D-4434-8DA2-64AADC7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0AC9B-A079-4366-AF17-14FC87D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71789-0219-4BBE-81B8-7DB6019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28EC-F9DC-445B-A11A-EAAE691C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EDB38-E330-4EE4-B959-D8604182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C659-1FBE-4D0A-BCDD-581CD530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B3CEC-0253-4309-BB02-03493DC4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02D8C-9780-421A-981A-D090A33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8C1B5-5474-4C6A-9158-A6A76063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0EE4F-4569-44F0-B09B-2AF4F1DB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5B969-2D3E-45B6-93D2-7BD403D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86F-E22C-40FA-8449-CDEE611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46F75-F155-4797-A451-916DA9EC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B050B-2EDC-425C-84C7-4613794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6C7B4-B2C9-4362-B74E-558FF2C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E5DC1-D0EF-4446-877B-E894AA40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8F63-DCEC-4113-B0DF-69E1010D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5AC0A-B941-4EE3-BCCA-F00BBAB8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6890E-9114-48F5-9DC9-9D77B057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B4DE-7B39-411F-BC23-47666EF99DC4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82A1-9E74-4017-AB0A-2EF593BA60AF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40E3-5883-463C-AB38-038206CB3F95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1EC5-A569-4178-9164-3C45A919CE64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A6B5-34CC-4CD2-8B22-6969F8E02259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59FB-F598-4859-BA67-6769B8D02D05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2713-3BD8-4097-890E-212F533A362D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6F38-AC6B-4BDB-B969-87ACA9CF98EC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196640"/>
            <a:ext cx="6400800" cy="19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ФОРМЛЕНИЕ ПРОСТРАНСТВА ДЕТСКОГО ЧТЕНИ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95959"/>
                </a:solidFill>
                <a:latin typeface="Constantia"/>
              </a:rPr>
              <a:t>Воспитатели: Ариткулова Д.В., Петросян .Э., Самарина Е.В., Соколова Ю.Н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95959"/>
                </a:solidFill>
                <a:latin typeface="Constantia"/>
              </a:rPr>
              <a:t>ГБОУ Школа № 2120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952520" y="1268280"/>
            <a:ext cx="3364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нига – верный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нига – первый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нига – лучший друг ребя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м никак нельзя без книжк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м никак нельзя без книжки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ребята говоря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Объект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Объект 7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267000" cy="44643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2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Объект 4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3208320" cy="44640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3436920" cy="45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31T17:05:58Z</dcterms:created>
  <dc:creator>Кудряшка</dc:creator>
  <dc:description/>
  <dc:language>en-US</dc:language>
  <cp:lastModifiedBy>Abyssal Devil</cp:lastModifiedBy>
  <dcterms:modified xsi:type="dcterms:W3CDTF">2020-04-06T18:38:31Z</dcterms:modified>
  <cp:revision>2</cp:revision>
  <dc:subject/>
  <dc:title>Оформление пространства детского чтения</dc:title>
</cp:coreProperties>
</file>