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8FA-B644-4E4A-BAE1-C47B8982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1BE-616C-4AEC-AAA9-45C766A7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E32-03B9-413A-9745-566EEB29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2F2-6B67-47CD-974F-1152E95C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99E3-8AE1-475D-89CD-1A2DD0FC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210E-19CD-4697-A171-E1B68A6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C7CA-05F0-4218-BF60-7AA5F7A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3EA1-E7E7-401C-9A12-4E3D88E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C432-6A69-45FC-BCFB-081988C8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23A4-62DA-4395-99DC-F8E8F6E4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5B9B-A47D-4DC4-AFC6-8A0EBE12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B98-092D-4E84-B22E-3A7D3D95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BA6A-EC71-4950-BA36-3EF898B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0809-9E2F-4F6A-B477-3EF28AB2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517E-2B94-407F-8E69-6296CE2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4BAA-2D4B-4833-AF69-2EF4310D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6C09-E30D-4631-91EE-9E888FF7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37CC-ABE7-459B-93D6-7F713CC8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3971-CE25-4E2B-B203-519C1EBF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2618-7FAA-41EC-A5AA-C76D7529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E3B6-1BCF-4610-B5A7-0AC0ACC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144B-5E31-4305-B9E4-CCB101A6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854-9515-4C51-BD98-4A97950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F696-B008-4993-A000-2CB5851D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8A75-8B91-4C98-970E-D238BC3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E1C7-CB27-4CE4-B5C2-D5CA8B9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BC0B-D764-4B1C-8D06-17B1C5F2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D40A-1CB6-46F4-8B03-1A411D6E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08B5-E8B2-4296-B194-C18AEBA7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38D4-BCCB-49EC-9218-EEA98786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916D-DF9D-4E7A-BB7E-CE83C2BF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2F6A-4905-4E20-A4E1-055F080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0909-8B71-4A4D-89C3-E9AFDEA6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9A3-1779-49C4-B5B2-1822CCD6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0927-EE45-4329-94B4-8892F45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0599-3AEB-4F60-A8FB-725BD91B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A586-83DB-4B7B-8ED6-E7FC2D7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84E1-5DC4-459F-ADBC-133C5BC0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E8D7-41F6-4C48-964A-008F90C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CB42-8CCF-4C26-9FC2-83034C4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9222-7626-44D4-A326-AA99A02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67D4-AEA7-4DB1-AC06-5B454CFF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8794-2E4B-4745-AF1A-6C5ACDEB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8873E-33C6-4B86-88E6-B2A3E4BE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A16-1FB6-420B-96F7-3B8C04C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6B0A-84FC-4098-9164-EDA658FF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CBE6-937F-471A-951E-8C90F097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5CF6-E5B3-4AEB-9915-3B99561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927CF-764F-4938-B677-6506E531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7FA0-7C73-481A-A186-BBBD48B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A783-CE59-440B-B5D9-BAB5AF9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1706-EEAB-40A0-AABF-2B7ACE6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0500-E6E1-41EB-8DB7-A7C67B4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5BB3E-CF33-46A4-99B9-3205EC5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B68FC-BD27-44BF-B642-76AEE65B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DAC-CFA4-41A1-92B7-962AF271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99A8-97B2-40EC-A6B7-71F395A4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8EDA-7087-4354-ABA8-F1145898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3AE5-0D22-4985-82E5-D259170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CADF-EBEB-4293-AA1D-4ACD98B1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7CC6-362D-40FA-9B2B-99D2887E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61AE-E3B6-45BB-B3FF-24B68E4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96285-7803-4262-A6B6-ACA16AAE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679D-0D83-4000-9FF0-82CE19B2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D7EF-ECD9-4270-8747-7C3E42F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EEA0-A5E4-499D-B161-B70F595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668-9323-4F62-BE10-8AFF47A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AEDB-BEC8-41E9-A7B0-CC7DF51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BAE1-8DA8-4515-890C-6506DDEE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3165D-09B2-4E72-A09D-0B0FE7D6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95F0F-1583-43D4-898A-F008E6E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F3D4-A973-4AEE-8237-D63AF58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C959-D31B-4A96-BAD7-596A15A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EDD8-EE56-47E8-920E-7607DF5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24C4-62AE-46D3-AD2E-2CE78C8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0440-BD2B-4DA0-B63D-7F57274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4A7C-53EA-4228-A9C9-AC404ED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010-62ED-458D-824F-85E138A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0895-44E3-4D15-9B26-1DA4BC20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30C2-8640-433D-A053-94C912CB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B515-46D6-4C9A-9D90-87E071D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5850-8DA9-4A44-A1D2-B1B29F5B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7A03-6CFA-4E8F-B086-71951ABE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C19-9E0B-49FA-B10F-F9FAA94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0D9-9706-4D90-9F61-E57DAD9053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CEF-8A1E-431E-9137-7A62A7DF9D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785-8C1E-4EE6-B123-7B56D65831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4CD0-2C11-4D33-97F8-B5E08E6F63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4681-9139-454D-847F-5C1B5B834B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8CA0-EB40-4E56-BFAC-ED8334A9C6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850-5337-423D-9629-CD5BEB6B21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ГБОУ Школа № 2120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дуктивная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нига «Времена года» 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067280" y="3500280"/>
            <a:ext cx="4752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Изготовили дети средней группы и воспитатели: Ариткулова Д.В.,  Петросян Н.Э., Самарина Е.В., Соколова Ю.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3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3456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формление обложки: приклеивание заранее вырезанных деталей из картона, которые характеризуют каждое время года. Например, зима-снежинки, весна-цветы, лето-яблоки, осень-грибы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Объект 4" descr="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Итог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Объект 4" descr=""/>
          <p:cNvPicPr/>
          <p:nvPr/>
        </p:nvPicPr>
        <p:blipFill>
          <a:blip r:embed="rId1"/>
          <a:stretch/>
        </p:blipFill>
        <p:spPr>
          <a:xfrm>
            <a:off x="423720" y="2492280"/>
            <a:ext cx="3822840" cy="3186360"/>
          </a:xfrm>
          <a:prstGeom prst="rect">
            <a:avLst/>
          </a:prstGeom>
          <a:ln w="0">
            <a:noFill/>
          </a:ln>
        </p:spPr>
      </p:pic>
      <p:pic>
        <p:nvPicPr>
          <p:cNvPr id="364" name="Объект 5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3822840" cy="28670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"/>
          <p:cNvPicPr/>
          <p:nvPr/>
        </p:nvPicPr>
        <p:blipFill>
          <a:blip r:embed="rId3"/>
          <a:stretch/>
        </p:blipFill>
        <p:spPr>
          <a:xfrm>
            <a:off x="4672080" y="3492360"/>
            <a:ext cx="442764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т, что у нас получилось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иде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Книга.mp4" descr=""/>
          <p:cNvPicPr/>
          <p:nvPr/>
        </p:nvPicPr>
        <p:blipFill>
          <a:blip r:embed="rId1"/>
          <a:stretch/>
        </p:blipFill>
        <p:spPr>
          <a:xfrm>
            <a:off x="939960" y="1989000"/>
            <a:ext cx="6943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5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Цель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76080" y="2679480"/>
            <a:ext cx="80722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Помочь детям лучше ориентироваться во временах года, обогатить и расширить знания детей о сезонных изменениях в природе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ndara"/>
              </a:rPr>
              <a:t>Задачи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2276280"/>
            <a:ext cx="88567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вать познавательные способности детей, интерес, любознательность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Закреплять знания о характерных признаках явлений природы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оспитывать любовь к природе, развивать чувство прекрасного в разные времена года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Развивать мелкую моторику рук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Обогатить словарь детей по временам года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оспитывать любовь и бережное отношение к книг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ndara"/>
              </a:rPr>
              <a:t>Оборудование и материалы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Объект 2" descr=""/>
          <p:cNvPicPr/>
          <p:nvPr/>
        </p:nvPicPr>
        <p:blipFill>
          <a:blip r:embed="rId1"/>
          <a:stretch/>
        </p:blipFill>
        <p:spPr>
          <a:xfrm>
            <a:off x="579600" y="2498760"/>
            <a:ext cx="83152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3640" y="2637000"/>
            <a:ext cx="41749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еред началом продуктивной деятельности по каждому времени года были проведены: беседы, викторины и знакомство с художественной литературой.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Объект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8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дуктивную деятельность мы начали с прошивания листов для книги, тонирование листов по временам года в голубой, зеленый, оранжевый, синий цве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Объект 4" descr=""/>
          <p:cNvPicPr/>
          <p:nvPr/>
        </p:nvPicPr>
        <p:blipFill>
          <a:blip r:embed="rId1"/>
          <a:stretch/>
        </p:blipFill>
        <p:spPr>
          <a:xfrm>
            <a:off x="5264280" y="2679840"/>
            <a:ext cx="312408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резание из картона: деревья, кустарники, яблоки, грибы, листья, снежинки, лукошко с яблоками, зайчик, снегови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Объект 4" descr="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формление деревьев по временам года, наклеивание на затонированные листы бумаги вырезанные 3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D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игуры из картон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5" name="Объект 4" descr="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клеивание, заранее напечатанных, стихотворений о временах год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8" name="Объект 4" descr=""/>
          <p:cNvPicPr/>
          <p:nvPr/>
        </p:nvPicPr>
        <p:blipFill>
          <a:blip r:embed="rId1"/>
          <a:stretch/>
        </p:blipFill>
        <p:spPr>
          <a:xfrm>
            <a:off x="4645080" y="2970360"/>
            <a:ext cx="3822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17:24:44Z</dcterms:created>
  <dc:creator>Кудряшка</dc:creator>
  <dc:description/>
  <dc:language>en-US</dc:language>
  <cp:lastModifiedBy>Abyssal Devil</cp:lastModifiedBy>
  <dcterms:modified xsi:type="dcterms:W3CDTF">2020-04-06T12:43:16Z</dcterms:modified>
  <cp:revision>14</cp:revision>
  <dc:subject/>
  <dc:title>ГБОУ Школа № 2120  Продуктивная деятельность Книга «Времена года»</dc:title>
</cp:coreProperties>
</file>