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4614863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15200" cy="68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000160" cy="341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614680" y="0"/>
            <a:ext cx="1998720" cy="341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04440" y="511200"/>
            <a:ext cx="3406680" cy="255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61520" y="3236760"/>
            <a:ext cx="3691080" cy="30672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73880"/>
            <a:ext cx="2000160" cy="3398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614680" y="6473880"/>
            <a:ext cx="1998720" cy="3398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BD3-0175-485B-B0F5-4D4AE5853999}" type="slidenum">
              <a:rPr b="0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04800" y="511200"/>
            <a:ext cx="3406680" cy="2556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61520" y="3236760"/>
            <a:ext cx="36910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614680" y="6473880"/>
            <a:ext cx="1998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0EC-D55F-4790-B038-C872447A491B}" type="slidenum">
              <a:rPr b="0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604800" y="511200"/>
            <a:ext cx="3406680" cy="2556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61520" y="3236760"/>
            <a:ext cx="369108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614680" y="6473880"/>
            <a:ext cx="1998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B6E-C97D-44FD-9945-F662F1607FBB}" type="slidenum">
              <a:rPr b="0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FEB-43A4-4CD8-9BDB-B7EA6A12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E95-DB0D-4ABB-AE7D-C834442F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63B-7CC3-45C2-9109-1FB17CE4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F5F-62D5-4445-BE2F-45545A61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AA2-725A-472E-84E0-A3DB3952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F5C-725F-4B81-B3EC-91B7C1C8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561-30B8-4BD7-8115-4B2702D3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B19-A27C-4EFB-849D-520CC64C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D15-A936-42AF-A654-4E8E9FDA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C31-2767-47B3-B243-5560A07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6C5-417F-466F-85F7-662B83C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10F-A9EB-43FD-9418-225879A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F74-7C1A-4374-AA7B-8F7166810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ooks-clipart"/>
          <p:cNvPicPr/>
          <p:nvPr/>
        </p:nvPicPr>
        <p:blipFill>
          <a:blip r:embed="rId1"/>
          <a:stretch/>
        </p:blipFill>
        <p:spPr>
          <a:xfrm>
            <a:off x="3214800" y="392904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785880" y="2967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6" descr="C:\Users\кс\МАЙ 2011 МЕГА\Desktop\Новая папка (3)\1331772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68360" y="2602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История создания книг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Jean Michel Jarre - Oxygene 2 (космическая музыка).mp3" descr=""/>
          <p:cNvPicPr/>
          <p:nvPr/>
        </p:nvPicPr>
        <p:blipFill>
          <a:blip r:embed="rId3"/>
          <a:stretch/>
        </p:blipFill>
        <p:spPr>
          <a:xfrm>
            <a:off x="7740720" y="5661000"/>
            <a:ext cx="122400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823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5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photo_lg_athens"/>
          <p:cNvPicPr/>
          <p:nvPr/>
        </p:nvPicPr>
        <p:blipFill>
          <a:blip r:embed="rId2"/>
          <a:stretch/>
        </p:blipFill>
        <p:spPr>
          <a:xfrm>
            <a:off x="1187280" y="1484280"/>
            <a:ext cx="662472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нига из перг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5084280"/>
            <a:ext cx="771516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s41.radikal.ru/i094/1007/a4/09d7ffdd0f6a.jpg"/>
          <p:cNvPicPr/>
          <p:nvPr/>
        </p:nvPicPr>
        <p:blipFill>
          <a:blip r:embed="rId1"/>
          <a:stretch/>
        </p:blipFill>
        <p:spPr>
          <a:xfrm>
            <a:off x="324000" y="1773360"/>
            <a:ext cx="4305240" cy="39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ttp://im2-tub-ru.yandex.net/i?id=474397424-69-72&amp;n=21"/>
          <p:cNvPicPr/>
          <p:nvPr/>
        </p:nvPicPr>
        <p:blipFill>
          <a:blip r:embed="rId2"/>
          <a:stretch/>
        </p:blipFill>
        <p:spPr>
          <a:xfrm>
            <a:off x="5003640" y="1773360"/>
            <a:ext cx="3222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ревний 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15_guifang10"/>
          <p:cNvPicPr/>
          <p:nvPr/>
        </p:nvPicPr>
        <p:blipFill>
          <a:blip r:embed="rId1"/>
          <a:stretch/>
        </p:blipFill>
        <p:spPr>
          <a:xfrm>
            <a:off x="4932360" y="2133720"/>
            <a:ext cx="3282840" cy="374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http://www.arira.ru/files/images/2.jpg"/>
          <p:cNvPicPr/>
          <p:nvPr/>
        </p:nvPicPr>
        <p:blipFill>
          <a:blip r:embed="rId2"/>
          <a:stretch/>
        </p:blipFill>
        <p:spPr>
          <a:xfrm>
            <a:off x="395280" y="2133720"/>
            <a:ext cx="4305240" cy="3557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айнц"/>
          <p:cNvPicPr/>
          <p:nvPr/>
        </p:nvPicPr>
        <p:blipFill>
          <a:blip r:embed="rId1"/>
          <a:stretch/>
        </p:blipFill>
        <p:spPr>
          <a:xfrm>
            <a:off x="1547640" y="1484280"/>
            <a:ext cx="6337440" cy="5031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55640" y="1484280"/>
            <a:ext cx="7777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2260440"/>
            <a:ext cx="84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иевск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539123a81bb4"/>
          <p:cNvPicPr/>
          <p:nvPr/>
        </p:nvPicPr>
        <p:blipFill>
          <a:blip r:embed="rId1"/>
          <a:stretch/>
        </p:blipFill>
        <p:spPr>
          <a:xfrm>
            <a:off x="1258920" y="1413000"/>
            <a:ext cx="6626160" cy="495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стя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58920" y="5661000"/>
            <a:ext cx="741672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im5-tub-ru.yandex.net/i?id=541084742-56-72&amp;n=21"/>
          <p:cNvPicPr/>
          <p:nvPr/>
        </p:nvPicPr>
        <p:blipFill>
          <a:blip r:embed="rId1"/>
          <a:stretch/>
        </p:blipFill>
        <p:spPr>
          <a:xfrm>
            <a:off x="1476360" y="1628640"/>
            <a:ext cx="620712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611280" y="22604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умажная книга на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книга6"/>
          <p:cNvPicPr/>
          <p:nvPr/>
        </p:nvPicPr>
        <p:blipFill>
          <a:blip r:embed="rId1"/>
          <a:stretch/>
        </p:blipFill>
        <p:spPr>
          <a:xfrm>
            <a:off x="684360" y="1773360"/>
            <a:ext cx="3095640" cy="395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книга2"/>
          <p:cNvPicPr/>
          <p:nvPr/>
        </p:nvPicPr>
        <p:blipFill>
          <a:blip r:embed="rId2"/>
          <a:stretch/>
        </p:blipFill>
        <p:spPr>
          <a:xfrm>
            <a:off x="4284720" y="1700280"/>
            <a:ext cx="403848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чат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5373720"/>
            <a:ext cx="7715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в типографии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273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книга8"/>
          <p:cNvPicPr/>
          <p:nvPr/>
        </p:nvPicPr>
        <p:blipFill>
          <a:blip r:embed="rId2"/>
          <a:stretch/>
        </p:blipFill>
        <p:spPr>
          <a:xfrm>
            <a:off x="4356000" y="1916280"/>
            <a:ext cx="4275360" cy="359856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8" descr=""/>
          <p:cNvPicPr/>
          <p:nvPr/>
        </p:nvPicPr>
        <p:blipFill>
          <a:blip r:embed="rId3"/>
          <a:stretch/>
        </p:blipFill>
        <p:spPr>
          <a:xfrm>
            <a:off x="298440" y="4578480"/>
            <a:ext cx="354168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Picture 6" descr="http://img0.liveinternet.ru/images/attach/c/2/73/680/73680400_Neandertalcuy.jpg"/>
          <p:cNvPicPr/>
          <p:nvPr/>
        </p:nvPicPr>
        <p:blipFill>
          <a:blip r:embed="rId1"/>
          <a:stretch/>
        </p:blipFill>
        <p:spPr>
          <a:xfrm>
            <a:off x="684360" y="1413000"/>
            <a:ext cx="7488000" cy="518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6381720"/>
            <a:ext cx="822960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4" descr="Отсканировано 04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324000" y="213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мен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http://im2-tub-ru.yandex.net/i?id=271210929-24-72&amp;n=21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ревняя Месопота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кс\МАЙ 2011 МЕГА\Desktop\Новая папка (3)\114.jpg"/>
          <p:cNvPicPr/>
          <p:nvPr/>
        </p:nvPicPr>
        <p:blipFill>
          <a:blip r:embed="rId1"/>
          <a:stretch/>
        </p:blipFill>
        <p:spPr>
          <a:xfrm>
            <a:off x="826920" y="126828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755640" y="148428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линя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6840" y="5300280"/>
            <a:ext cx="7715160" cy="825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im3-tub-ru.yandex.net/i?id=8737220-12-72&amp;n=21"/>
          <p:cNvPicPr/>
          <p:nvPr/>
        </p:nvPicPr>
        <p:blipFill>
          <a:blip r:embed="rId2"/>
          <a:stretch/>
        </p:blipFill>
        <p:spPr>
          <a:xfrm>
            <a:off x="468360" y="2349360"/>
            <a:ext cx="260676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im8-tub-ru.yandex.net/i?id=377566202-01-72&amp;n=21"/>
          <p:cNvPicPr/>
          <p:nvPr/>
        </p:nvPicPr>
        <p:blipFill>
          <a:blip r:embed="rId3"/>
          <a:stretch/>
        </p:blipFill>
        <p:spPr>
          <a:xfrm>
            <a:off x="6008760" y="2205000"/>
            <a:ext cx="276696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im3-tub-ru.yandex.net/i?id=370501766-47-72&amp;n=21"/>
          <p:cNvPicPr/>
          <p:nvPr/>
        </p:nvPicPr>
        <p:blipFill>
          <a:blip r:embed="rId4"/>
          <a:stretch/>
        </p:blipFill>
        <p:spPr>
          <a:xfrm>
            <a:off x="3348000" y="1844640"/>
            <a:ext cx="2449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ревний Егип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1274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865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755640" y="1484280"/>
            <a:ext cx="77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humb"/>
          <p:cNvPicPr/>
          <p:nvPr/>
        </p:nvPicPr>
        <p:blipFill>
          <a:blip r:embed="rId1"/>
          <a:stretch/>
        </p:blipFill>
        <p:spPr>
          <a:xfrm>
            <a:off x="611280" y="1700280"/>
            <a:ext cx="3097080" cy="4176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http://im0-tub-ru.yandex.net/i?id=567072292-64-72&amp;n=21"/>
          <p:cNvPicPr/>
          <p:nvPr/>
        </p:nvPicPr>
        <p:blipFill>
          <a:blip r:embed="rId2"/>
          <a:stretch/>
        </p:blipFill>
        <p:spPr>
          <a:xfrm>
            <a:off x="3995640" y="1700280"/>
            <a:ext cx="42483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ниги из пап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5373720"/>
            <a:ext cx="77151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http://im0-tub-ru.yandex.net/i?id=296531286-69-72&amp;n=21"/>
          <p:cNvPicPr/>
          <p:nvPr/>
        </p:nvPicPr>
        <p:blipFill>
          <a:blip r:embed="rId1"/>
          <a:stretch/>
        </p:blipFill>
        <p:spPr>
          <a:xfrm>
            <a:off x="4859280" y="1844640"/>
            <a:ext cx="396396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im6-tub-ru.yandex.net/i?id=339115759-05-72&amp;n=21"/>
          <p:cNvPicPr/>
          <p:nvPr/>
        </p:nvPicPr>
        <p:blipFill>
          <a:blip r:embed="rId2"/>
          <a:stretch/>
        </p:blipFill>
        <p:spPr>
          <a:xfrm>
            <a:off x="971640" y="1700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im6-tub-ru.yandex.net/i?id=339115759-05-72&amp;n=21"/>
          <p:cNvPicPr/>
          <p:nvPr/>
        </p:nvPicPr>
        <p:blipFill>
          <a:blip r:embed="rId3"/>
          <a:stretch/>
        </p:blipFill>
        <p:spPr>
          <a:xfrm>
            <a:off x="971640" y="1700280"/>
            <a:ext cx="3456000" cy="3457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im6-tub-ru.yandex.net/i?id=339115759-05-72&amp;n=21"/>
          <p:cNvPicPr/>
          <p:nvPr/>
        </p:nvPicPr>
        <p:blipFill>
          <a:blip r:embed="rId4"/>
          <a:stretch/>
        </p:blipFill>
        <p:spPr>
          <a:xfrm>
            <a:off x="755640" y="1484280"/>
            <a:ext cx="3887640" cy="381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28:49Z</dcterms:created>
  <dc:creator>Admin</dc:creator>
  <dc:description/>
  <dc:language>en-US</dc:language>
  <cp:lastModifiedBy>рамиля утемесова</cp:lastModifiedBy>
  <dcterms:modified xsi:type="dcterms:W3CDTF">2020-04-06T16:29:07Z</dcterms:modified>
  <cp:revision>93</cp:revision>
  <dc:subject/>
  <dc:title>Слайд 1</dc:title>
</cp:coreProperties>
</file>