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2ED-B17C-49BB-97C9-EA17EFF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EE2-69E0-46B8-A492-BAFDBC4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BDA-5040-465D-A388-5E7BEEFE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2B9-F3AB-4985-A88E-6AFF3BC3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ABB-17BA-4DEE-BF82-66BF92E1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40B-8B63-4A02-AA66-4B448F2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6614-54DE-4A8F-B1D9-A43DCDC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DA7F-982D-4C68-BFA0-C5A997C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1D8-2C5A-42C6-8A00-9A0A5347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F29-F258-4596-8353-4AE7264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9039-C14F-403F-ADE4-C0ABFD8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E1F-EE04-46D3-B1B6-B9A5668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47D-3A86-4B59-8BF2-7707DE4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3386-B49D-40D8-87D3-259F115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CC07-F467-46CF-8CCF-B6EA2C9A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191A-A5AE-49AB-AAEC-135625A2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8576-1909-4373-9170-F4D9BD06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E05-C3B8-4EA8-974A-3150778A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BB4-F560-4670-9B58-12BE831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0AA-612B-4448-A674-E0695F0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108-F0AA-45E1-B233-BA282F5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BC6-6BEA-4584-9CC4-E3A841A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CF2-CFDB-4198-8C41-B60123C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C94-7175-43A9-A542-7346DE2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2967-3A1E-4B05-AF2A-6DB9BA586C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5BC-FF60-4F86-A02A-747D07EBB7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ытовые приборы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87280" y="3703680"/>
            <a:ext cx="71640" cy="2145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лектрический чайник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чай"/>
          <p:cNvPicPr/>
          <p:nvPr/>
        </p:nvPicPr>
        <p:blipFill>
          <a:blip r:embed="rId1"/>
          <a:stretch/>
        </p:blipFill>
        <p:spPr>
          <a:xfrm>
            <a:off x="3635280" y="1628640"/>
            <a:ext cx="432144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38720" y="-2950920"/>
            <a:ext cx="3049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Он всегда стоит в углу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озле печки на полу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Если кто-то сор бросает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Он охотно убирает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9966ff"/>
                </a:solidFill>
                <a:latin typeface="Arial"/>
              </a:rPr>
              <a:t>(Веник)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еник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еник"/>
          <p:cNvPicPr/>
          <p:nvPr/>
        </p:nvPicPr>
        <p:blipFill>
          <a:blip r:embed="rId1"/>
          <a:stretch/>
        </p:blipFill>
        <p:spPr>
          <a:xfrm>
            <a:off x="2556000" y="1628640"/>
            <a:ext cx="6191280" cy="43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48360" y="-3020760"/>
            <a:ext cx="9036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40464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И шипит, и кряхтит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оду быстро кипятит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Он наелся угольков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от для нас и чай готов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Кран на брюхе открывает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Кипяточек разливает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9966ff"/>
                </a:solidFill>
                <a:latin typeface="Arial"/>
              </a:rPr>
              <a:t>(Самовар)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амова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самовар"/>
          <p:cNvPicPr/>
          <p:nvPr/>
        </p:nvPicPr>
        <p:blipFill>
          <a:blip r:embed="rId1"/>
          <a:stretch/>
        </p:blipFill>
        <p:spPr>
          <a:xfrm>
            <a:off x="2268360" y="1104840"/>
            <a:ext cx="6473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тиральная дос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оска"/>
          <p:cNvPicPr/>
          <p:nvPr/>
        </p:nvPicPr>
        <p:blipFill>
          <a:blip r:embed="rId1"/>
          <a:stretch/>
        </p:blipFill>
        <p:spPr>
          <a:xfrm>
            <a:off x="3594240" y="1268280"/>
            <a:ext cx="400212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38720" y="-3039120"/>
            <a:ext cx="3049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360" y="33336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 Полотняной стране 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По реке Простыне 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Плывёт пароход 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То назад, то вперёд, 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А за ним такая гладь — 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Ни морщинки не видать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(Утю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угунный утюг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чугун"/>
          <p:cNvPicPr/>
          <p:nvPr/>
        </p:nvPicPr>
        <p:blipFill>
          <a:blip r:embed="rId1"/>
          <a:stretch/>
        </p:blipFill>
        <p:spPr>
          <a:xfrm>
            <a:off x="3059280" y="1628640"/>
            <a:ext cx="41907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0039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9966ff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400" spc="-1" strike="noStrike">
                <a:solidFill>
                  <a:srgbClr val="9966ff"/>
                </a:solidFill>
                <a:latin typeface="Arial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ff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9966ff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38720" y="-2895480"/>
            <a:ext cx="3049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10000" y="549000"/>
            <a:ext cx="635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Есть у нас в квартире ро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У него огромный хо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Любит робот чист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И гудит как лайнер: «Т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Он охотно пыль гло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Не болеет, не чихает.   (Пылес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096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ылес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пылесос-300x202"/>
          <p:cNvPicPr/>
          <p:nvPr/>
        </p:nvPicPr>
        <p:blipFill>
          <a:blip r:embed="rId1"/>
          <a:stretch/>
        </p:blipFill>
        <p:spPr>
          <a:xfrm>
            <a:off x="2556000" y="1773360"/>
            <a:ext cx="658800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38720" y="-2860200"/>
            <a:ext cx="3049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3200" y="260280"/>
            <a:ext cx="6400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 кругленьком око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Мокрые оде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Крутятся, стир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Чистые получаю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( стиральная маш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тиральная машина      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стир"/>
          <p:cNvPicPr/>
          <p:nvPr/>
        </p:nvPicPr>
        <p:blipFill>
          <a:blip r:embed="rId1"/>
          <a:stretch/>
        </p:blipFill>
        <p:spPr>
          <a:xfrm>
            <a:off x="3203640" y="1628640"/>
            <a:ext cx="40370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стир1"/>
          <p:cNvPicPr/>
          <p:nvPr/>
        </p:nvPicPr>
        <p:blipFill>
          <a:blip r:embed="rId1"/>
          <a:stretch/>
        </p:blipFill>
        <p:spPr>
          <a:xfrm>
            <a:off x="2700360" y="62064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1447920"/>
            <a:ext cx="6443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Я, не хвастая,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сех друзей омол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Идут ко мне унылы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С морщинками, со склад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Уходят очень милы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еселые и мил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Значит, я надежный друг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Электрический … утю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Электрический утюг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утюг"/>
          <p:cNvPicPr/>
          <p:nvPr/>
        </p:nvPicPr>
        <p:blipFill>
          <a:blip r:embed="rId1"/>
          <a:stretch/>
        </p:blipFill>
        <p:spPr>
          <a:xfrm>
            <a:off x="3492360" y="1628640"/>
            <a:ext cx="37785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48720" y="-2253240"/>
            <a:ext cx="395280" cy="74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40000" y="33300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На плите стоит - пыхтит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В нём вода бурлит – кипит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Из под крышки выйдет тучка,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Носик есть и с боку ручка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Чайных чашек всех начальник.</a:t>
            </a:r>
            <a:br>
              <a:rPr sz="3200"/>
            </a:b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Называется он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Arial"/>
              </a:rPr>
              <a:t>                 </a:t>
            </a:r>
            <a:r>
              <a:rPr b="1" lang="ru-RU" sz="3200" spc="-1" strike="noStrike">
                <a:solidFill>
                  <a:srgbClr val="9966ff"/>
                </a:solidFill>
                <a:latin typeface="Arial"/>
              </a:rPr>
              <a:t>(чайник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3T11:11:07Z</dcterms:created>
  <dc:creator>user</dc:creator>
  <dc:description/>
  <dc:language>en-US</dc:language>
  <cp:lastModifiedBy>Алла</cp:lastModifiedBy>
  <dcterms:modified xsi:type="dcterms:W3CDTF">2020-04-06T10:26:12Z</dcterms:modified>
  <cp:revision>4</cp:revision>
  <dc:subject/>
  <dc:title>Бытовые приборы</dc:title>
</cp:coreProperties>
</file>