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1F1535-A909-47DF-A2C5-A7E8A56807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BDC702-8111-4BF1-924C-4AABFAC041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1B6C12-2E51-4CBC-B81E-F7D938D9D2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443B-CCDC-413A-8B1D-20CAF53BA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DA03-07C4-4933-8FEC-FBACAEAE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56B5-ED7F-493F-94B9-E0220D5CF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40D2-4D4C-4A4F-9E68-02FD2C8B1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E5B4-D7EF-4B34-95DE-98B4D2DCB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C8BD-CEEA-49E7-9040-41BF8F74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31AA-5E31-4BA2-B608-8F06F632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38F4-D7E8-4983-B42E-BEDA18DE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9E3E-F6E5-4CB8-B310-039156D6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22F8-5BB5-462F-A50A-04C78FCD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57CE-049A-440B-8CA5-1F323FEA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F414-E837-4154-B9DE-1F2E7470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496E-012C-4E9A-BB1E-2E4E3344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9CE8-14A8-48E9-8F3B-90BBD4DD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270D-76D9-4F1A-81A1-738ED697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72FE-09A1-42A6-912D-5E476C3CE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4F02-F80B-4C91-B010-346F70495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83735-DDB5-49C3-84D3-D4A24D22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D6693-92B4-4A74-A379-744A2426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D15B6-3EFF-4EEF-BE6A-54A3596B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CC190-C83E-473D-89C6-8A910DBB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327B7-EEC4-4A9C-8E39-7D48495B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225D-50E2-4BCA-BBAA-118DDF21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B317C-C0CE-4410-88C2-5EA98333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E5535-1391-47CD-AFFB-4BFB9CF7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0C416-16AA-4CA3-881F-BB0811BD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4FAA2-4AD6-4B1D-BFC9-7653B53C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AAA6D-EDAB-4B26-B0DE-4CFCE47A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9ED21-5516-4612-87EC-6B83CEE41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463A6-DC2D-4F1B-ADDD-49A2D9AB5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07994-6476-4A85-B965-AC08C112A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62B39-B74A-45D5-B42F-ABCCA5DD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4080A-D485-409B-B22E-A5D82CE3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35B7-BC75-45F3-B7F3-8F88284F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EC47B-2634-449E-A166-6259DF39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C252D-3653-4E81-B5CC-49636646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E7CED-5BF0-4321-8585-A27B6E98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396CE-2162-4B0D-8A89-EBB8528D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C2221-D512-474B-812B-ECB463D2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F63C8-2812-40C3-A525-0C51FF74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1BBF8-6ACD-4AEE-BB0C-1A4476F5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90E91-63D8-4C12-A1D1-79462575F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62920-6B3C-463D-B537-077CF61ED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AB43-583B-4BFF-A672-0AA6DB76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3BCB-BA2B-41E0-9314-F2FA2758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A57C-7EF5-40BA-AFAA-A1FB6EDF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777A-7BFF-459D-BE70-33EA427A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2A55-E0F8-45EB-A10A-AD50EE5B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D007E3-92E2-4069-AD12-9878818ACDF2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DBB531-AA1D-4105-8227-0F0523936BEA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EA465D-1CAE-44DB-B1FB-2F9DF9539A3E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93D87C-B740-4431-BCE6-294CA869E87F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1"/>
          <p:cNvSpPr/>
          <p:nvPr/>
        </p:nvSpPr>
        <p:spPr>
          <a:xfrm>
            <a:off x="684360" y="549360"/>
            <a:ext cx="734364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лый стол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амообразование как один из способов повышения профессионального мастерства педагогов»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472240" cy="5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 этап – выбор формы самообразования</a:t>
            </a:r>
            <a:br>
              <a:rPr sz="2900"/>
            </a:b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1" name="Рисунок 2" descr=""/>
          <p:cNvPicPr/>
          <p:nvPr/>
        </p:nvPicPr>
        <p:blipFill>
          <a:blip r:embed="rId1"/>
          <a:stretch/>
        </p:blipFill>
        <p:spPr>
          <a:xfrm>
            <a:off x="4260960" y="1989000"/>
            <a:ext cx="4859280" cy="36450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395280" y="963720"/>
            <a:ext cx="4105440" cy="49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) специальная образовательная подготовка (получение высшего образования или второй специальности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) повышение квалификации (на курсах и в межкурсовой период)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) групповая самообразовательная работа 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бота методических объединений, творческих групп (проведение собеседований, ежегодных отчетов, посещение и анализ занятий коллег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ведение циклов лекций, семинаров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) индивидуальная самообразовательная рабо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56760" y="245880"/>
            <a:ext cx="7094520" cy="95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90c226"/>
                </a:solidFill>
                <a:latin typeface="Trebuchet MS"/>
              </a:rPr>
              <a:t>   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 этап – составление плана самообразования</a:t>
            </a:r>
            <a:br>
              <a:rPr sz="2900"/>
            </a:b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 основании выбранной темы педагог разрабатывает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ичный план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работы над поставленной перед собой проблемо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плане указываютс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звание темы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цели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адачи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едполагаемый результат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тапы работы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роки выполнения каждого этапа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ействия и мероприятия, проводимые в процессе работы над темой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особ демонстрации результата проделанной работы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форма отчета по проделанной работе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5" name="Рисунок 2" descr=""/>
          <p:cNvPicPr/>
          <p:nvPr/>
        </p:nvPicPr>
        <p:blipFill>
          <a:blip r:embed="rId1"/>
          <a:stretch/>
        </p:blipFill>
        <p:spPr>
          <a:xfrm>
            <a:off x="5016600" y="1773360"/>
            <a:ext cx="3659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 этап – определение результата самообразования</a:t>
            </a:r>
            <a:br>
              <a:rPr sz="3200"/>
            </a:b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67760" y="785520"/>
            <a:ext cx="86410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юбая деятельность предполагает создание продукта. Поэтому в личном плане самообразования педагога обязательно должен быть список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зультатов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которые будут  достигнуты за определенный срок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меры результатов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вышение качества преподавания предмета (указать показатели, по которым будет определяться эффективность и качество)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зработанные или изданные методические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собия, статьи, учебники, программы,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ценарии, исследования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зработка новых форм, методов и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риёмов обучения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оклады, выступления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зработка дидактических материалов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тестов, создание наглядности, презентаций и др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8" name="Picture 6" descr="http://teremok94.ucoz.ru/imagek.jpg"/>
          <p:cNvPicPr/>
          <p:nvPr/>
        </p:nvPicPr>
        <p:blipFill>
          <a:blip r:embed="rId1"/>
          <a:srcRect l="12095" t="14110" r="16844" b="0"/>
          <a:stretch/>
        </p:blipFill>
        <p:spPr>
          <a:xfrm>
            <a:off x="5651640" y="3005280"/>
            <a:ext cx="338436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07552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 этап – анализ и оценка деятельности в процессе самообразования, подготовка отчета</a:t>
            </a:r>
            <a:br>
              <a:rPr sz="3200"/>
            </a:b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13840" y="1700280"/>
            <a:ext cx="864396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Формами отчетных работ могут быть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общение опыта</a:t>
            </a:r>
            <a:r>
              <a:rPr b="1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клад</a:t>
            </a:r>
            <a:r>
              <a:rPr b="1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бор и анализ отчетной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кументаци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езентации результатов работ перед педагогическим коллективом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 окончании работы над темой каждый педагог должен написать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чет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с анализом, выводами и рекомендациями для коллег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1" name="Рисунок 2" descr=""/>
          <p:cNvPicPr/>
          <p:nvPr/>
        </p:nvPicPr>
        <p:blipFill>
          <a:blip r:embed="rId1"/>
          <a:stretch/>
        </p:blipFill>
        <p:spPr>
          <a:xfrm>
            <a:off x="5651640" y="1700280"/>
            <a:ext cx="334800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1756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умайтесь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24000" y="765000"/>
            <a:ext cx="850104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оспитание, полученное человеком, закончено, достигло своей цели, когда человек настолько созрел, что обладает силой и волей самого себя образовывать в течение дальнейшей жизни и знает способ и средства, как он это может осуществить в качестве индивидуума, воздействующего на мир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А. Дистервег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Рисунок 2" descr=""/>
          <p:cNvPicPr/>
          <p:nvPr/>
        </p:nvPicPr>
        <p:blipFill>
          <a:blip r:embed="rId1"/>
          <a:stretch/>
        </p:blipFill>
        <p:spPr>
          <a:xfrm>
            <a:off x="1979640" y="3976560"/>
            <a:ext cx="464184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3"/>
          <p:cNvSpPr/>
          <p:nvPr/>
        </p:nvSpPr>
        <p:spPr>
          <a:xfrm>
            <a:off x="468360" y="692280"/>
            <a:ext cx="7991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Вопросы для обсуждения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Arial Black"/>
              </a:rPr>
              <a:t>- Что является более важным                            для повышения мотивации педагогов: материально-техническое  обеспечение дошкольного учреждения или деятельность самого педагога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 Black"/>
              </a:rPr>
              <a:t>- Какая из форм организации методической работы в детском саду наиболее эффективна для профессионального роста и самореализации педагога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Качества настоящего профессионал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2" descr=""/>
          <p:cNvPicPr/>
          <p:nvPr/>
        </p:nvPicPr>
        <p:blipFill>
          <a:blip r:embed="rId2"/>
          <a:stretch/>
        </p:blipFill>
        <p:spPr>
          <a:xfrm>
            <a:off x="6357960" y="4889520"/>
            <a:ext cx="262584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2"/>
          <p:cNvSpPr/>
          <p:nvPr/>
        </p:nvSpPr>
        <p:spPr>
          <a:xfrm>
            <a:off x="611280" y="836640"/>
            <a:ext cx="6246720" cy="45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1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Является ли программа самовоспитания педагога составной частью программы саморазвити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т, не являетс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ого понятия как «программа самовоспитания» не существует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, являетс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1"/>
          <p:cNvSpPr/>
          <p:nvPr/>
        </p:nvSpPr>
        <p:spPr>
          <a:xfrm>
            <a:off x="826920" y="836640"/>
            <a:ext cx="6481800" cy="45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1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Является ли программа самовоспитания педагога составной частью программы саморазвити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т, не являетс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ого понятия как «программа самовоспитания» не существует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, являетс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Овал 2"/>
          <p:cNvSpPr/>
          <p:nvPr/>
        </p:nvSpPr>
        <p:spPr>
          <a:xfrm flipH="1" flipV="1">
            <a:off x="826920" y="4941000"/>
            <a:ext cx="379440" cy="358920"/>
          </a:xfrm>
          <a:prstGeom prst="ellips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1"/>
          <p:cNvSpPr/>
          <p:nvPr/>
        </p:nvSpPr>
        <p:spPr>
          <a:xfrm>
            <a:off x="684360" y="692280"/>
            <a:ext cx="6244920" cy="54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2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фессиональное саморазвитие педагога не будет эффективным, есл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дагог не рассмотрит направления развития профессиональных компетенций коллег по образовательной организац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дагог не согласует и не утвердит свои планы работы с руководством образовательной организац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дагог не сформулирует личностно значимые краткосрочные и долгосрочные цел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"/>
          <p:cNvSpPr/>
          <p:nvPr/>
        </p:nvSpPr>
        <p:spPr>
          <a:xfrm>
            <a:off x="539640" y="620640"/>
            <a:ext cx="741708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indent="253800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чувствую себя в праве сказать: да здравствует самообразование во всех областях!.. Только те знания прочны и ценны, которые вы добывали сами, побуждаемые собственной страстью.  Всякое знание должно быть открытием, которое вы сделали сами…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84240" indent="253800" algn="ctr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И. Чуковский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1"/>
          <p:cNvSpPr/>
          <p:nvPr/>
        </p:nvSpPr>
        <p:spPr>
          <a:xfrm>
            <a:off x="684360" y="692280"/>
            <a:ext cx="6244920" cy="49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2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фессиональное саморазвитие педагога не будет эффективным, есл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дагог не рассмотрит направления развития профессиональных компетенций коллег по образовательной организац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дагог не согласует и не утвердит свои планы работы с руководством образовательной организац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дагог не сформулирует личностно значимые краткосрочные и долгосрочные цел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Овал 2"/>
          <p:cNvSpPr/>
          <p:nvPr/>
        </p:nvSpPr>
        <p:spPr>
          <a:xfrm>
            <a:off x="755640" y="4508640"/>
            <a:ext cx="360360" cy="288720"/>
          </a:xfrm>
          <a:prstGeom prst="ellips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1"/>
          <p:cNvSpPr/>
          <p:nvPr/>
        </p:nvSpPr>
        <p:spPr>
          <a:xfrm>
            <a:off x="826920" y="620640"/>
            <a:ext cx="6031080" cy="43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3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жно ли отнести к результатам самообразования педагога разработку им методического пособ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т, нельз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, можно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жно, при условии, что разработка пособия была в плане работы методического кабинет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Прямоугольник 1"/>
          <p:cNvSpPr/>
          <p:nvPr/>
        </p:nvSpPr>
        <p:spPr>
          <a:xfrm>
            <a:off x="826920" y="620640"/>
            <a:ext cx="6031080" cy="43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3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жно ли отнести к результатам самообразования педагога разработку им методического пособ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т, нельз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, можно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жно, при условии, что разработка пособия была в плане работы методического кабинет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Овал 2"/>
          <p:cNvSpPr/>
          <p:nvPr/>
        </p:nvSpPr>
        <p:spPr>
          <a:xfrm>
            <a:off x="826920" y="3425760"/>
            <a:ext cx="289080" cy="289080"/>
          </a:xfrm>
          <a:prstGeom prst="ellips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1"/>
          <p:cNvSpPr/>
          <p:nvPr/>
        </p:nvSpPr>
        <p:spPr>
          <a:xfrm>
            <a:off x="684360" y="476280"/>
            <a:ext cx="7416720" cy="43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4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 стандартным (наиболее распространенным) методикам профессионального саморазвития педагога не относятс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а в педагогических интернет – сообщества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учение передового опыта коллег, педагогические чтен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урсы повышения квалификации, семинары, методические объединен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1"/>
          <p:cNvSpPr/>
          <p:nvPr/>
        </p:nvSpPr>
        <p:spPr>
          <a:xfrm>
            <a:off x="684360" y="476280"/>
            <a:ext cx="7416720" cy="43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4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 стандартным (наиболее распространенным) методикам профессионального саморазвития педагога не относятс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а в педагогических интернет – сообщества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учение передового опыта коллег, педагогические чтен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урсы повышения квалификации, семинары, методические объединен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Овал 2"/>
          <p:cNvSpPr/>
          <p:nvPr/>
        </p:nvSpPr>
        <p:spPr>
          <a:xfrm>
            <a:off x="755640" y="4005360"/>
            <a:ext cx="360360" cy="360360"/>
          </a:xfrm>
          <a:prstGeom prst="ellips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1"/>
          <p:cNvSpPr/>
          <p:nvPr/>
        </p:nvSpPr>
        <p:spPr>
          <a:xfrm>
            <a:off x="755640" y="620640"/>
            <a:ext cx="7272360" cy="39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5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зультатом чего (в первую очередь) является корректировка программы профессионального саморазвития педагог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поряжения администрации образовательной организац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казания методист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оконтроль педагог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"/>
          <p:cNvSpPr/>
          <p:nvPr/>
        </p:nvSpPr>
        <p:spPr>
          <a:xfrm>
            <a:off x="755640" y="620640"/>
            <a:ext cx="727236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5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зультатом чего (в первую очередь) является корректировка программы профессионального саморазвития педагог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поряжения администрации образовательной организац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казания методист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оконтроль педагог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Овал 2"/>
          <p:cNvSpPr/>
          <p:nvPr/>
        </p:nvSpPr>
        <p:spPr>
          <a:xfrm>
            <a:off x="826920" y="4653000"/>
            <a:ext cx="289080" cy="288720"/>
          </a:xfrm>
          <a:prstGeom prst="ellips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Прямоугольник 1"/>
          <p:cNvSpPr/>
          <p:nvPr/>
        </p:nvSpPr>
        <p:spPr>
          <a:xfrm>
            <a:off x="468360" y="909720"/>
            <a:ext cx="8424720" cy="46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6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фессиональное саморазвитие педагога (выберите наиболее полный ответ) – это осознанный процесс, нацеленный 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ышение самооценки и признание воспитанниками и коллегам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ышение и развитие профессиональных педагогических качеств в соответствии с социальными требованиями и программой личного развит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профессиональных компетенций в соответствии с заданием руководства образовательной организац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1"/>
          <p:cNvSpPr/>
          <p:nvPr/>
        </p:nvSpPr>
        <p:spPr>
          <a:xfrm>
            <a:off x="468360" y="909720"/>
            <a:ext cx="8424720" cy="46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6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фессиональное саморазвитие педагога (выберите наиболее полный ответ) – это осознанный процесс, нацеленный 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ышение самооценки и признание воспитанниками и коллегам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ышение и развитие профессиональных педагогических качеств в соответствии с социальными требованиями и программой личного развит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профессиональных компетенций в соответствии с заданием руководства образовательной организац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Овал 2"/>
          <p:cNvSpPr/>
          <p:nvPr/>
        </p:nvSpPr>
        <p:spPr>
          <a:xfrm>
            <a:off x="468360" y="3573360"/>
            <a:ext cx="358560" cy="360360"/>
          </a:xfrm>
          <a:prstGeom prst="ellips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рямоугольник 1"/>
          <p:cNvSpPr/>
          <p:nvPr/>
        </p:nvSpPr>
        <p:spPr>
          <a:xfrm>
            <a:off x="468360" y="549360"/>
            <a:ext cx="7343640" cy="39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7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жет ли темой самообразования быть тема, выбранная педагогом самостоятельно, с учетом его личных потребносте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т, не може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, може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мы для самообразования устанавливает только администрация образовательного учрежден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1"/>
          <p:cNvSpPr/>
          <p:nvPr/>
        </p:nvSpPr>
        <p:spPr>
          <a:xfrm>
            <a:off x="324000" y="333360"/>
            <a:ext cx="6534000" cy="33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indent="253800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овершенствование навыков самостоятельной работы педагогов по самообразованию. 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84240" indent="253800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84240" indent="253800">
              <a:lnSpc>
                <a:spcPct val="107000"/>
              </a:lnSpc>
              <a:buClr>
                <a:srgbClr val="000000"/>
              </a:buClr>
              <a:buSzPct val="50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ыть сущность процесса самообразования, его необходимость в современных условиях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84240" indent="253800">
              <a:lnSpc>
                <a:spcPct val="107000"/>
              </a:lnSpc>
              <a:buClr>
                <a:srgbClr val="000000"/>
              </a:buClr>
              <a:buSzPct val="50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влечь педагогов в коллективную деятельность, развивать умение и желание взаимодействовать друг с другом для решения нестандартных ситуаций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84240" indent="253800" algn="just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Рисунок 2" descr=""/>
          <p:cNvPicPr/>
          <p:nvPr/>
        </p:nvPicPr>
        <p:blipFill>
          <a:blip r:embed="rId1"/>
          <a:stretch/>
        </p:blipFill>
        <p:spPr>
          <a:xfrm>
            <a:off x="2484360" y="3284640"/>
            <a:ext cx="46800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1"/>
          <p:cNvSpPr/>
          <p:nvPr/>
        </p:nvSpPr>
        <p:spPr>
          <a:xfrm>
            <a:off x="468360" y="549360"/>
            <a:ext cx="7343640" cy="39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7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жет ли темой самообразования быть тема, выбранная педагогом самостоятельно, с учетом его личных потребносте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т, не може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, може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мы для самообразования устанавливает только администрация образовательного учрежден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Овал 2"/>
          <p:cNvSpPr/>
          <p:nvPr/>
        </p:nvSpPr>
        <p:spPr>
          <a:xfrm>
            <a:off x="430200" y="3249720"/>
            <a:ext cx="360360" cy="358560"/>
          </a:xfrm>
          <a:prstGeom prst="ellips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Прямоугольник 1"/>
          <p:cNvSpPr/>
          <p:nvPr/>
        </p:nvSpPr>
        <p:spPr>
          <a:xfrm>
            <a:off x="684360" y="981000"/>
            <a:ext cx="617364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8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то автор высказывания «Педагог живет до тех пор, пока учится»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.Д.Ушински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.С.Макаренко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Я.Коменкски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Прямоугольник 1"/>
          <p:cNvSpPr/>
          <p:nvPr/>
        </p:nvSpPr>
        <p:spPr>
          <a:xfrm>
            <a:off x="684360" y="981000"/>
            <a:ext cx="617364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8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то автор высказывания «Педагог живет до тех пор, пока учится»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.Д.Ушински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.С.Макаренко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Я.Коменкски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Овал 2"/>
          <p:cNvSpPr/>
          <p:nvPr/>
        </p:nvSpPr>
        <p:spPr>
          <a:xfrm>
            <a:off x="658800" y="3429000"/>
            <a:ext cx="431640" cy="360360"/>
          </a:xfrm>
          <a:prstGeom prst="ellips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1"/>
          <p:cNvSpPr/>
          <p:nvPr/>
        </p:nvSpPr>
        <p:spPr>
          <a:xfrm>
            <a:off x="539640" y="620640"/>
            <a:ext cx="6318360" cy="40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9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грамму профессионального саморазвития педагога разрабатывае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дический совет образовательной организац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 педагог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уководство образовательной организац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1"/>
          <p:cNvSpPr/>
          <p:nvPr/>
        </p:nvSpPr>
        <p:spPr>
          <a:xfrm>
            <a:off x="539640" y="620640"/>
            <a:ext cx="6318360" cy="40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9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грамму профессионального саморазвития педагога разрабатывае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дический совет образовательной организац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 педагог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уководство образовательной организац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Овал 2"/>
          <p:cNvSpPr/>
          <p:nvPr/>
        </p:nvSpPr>
        <p:spPr>
          <a:xfrm>
            <a:off x="539640" y="3860640"/>
            <a:ext cx="360360" cy="360360"/>
          </a:xfrm>
          <a:prstGeom prst="ellips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1"/>
          <p:cNvSpPr/>
          <p:nvPr/>
        </p:nvSpPr>
        <p:spPr>
          <a:xfrm>
            <a:off x="611280" y="549360"/>
            <a:ext cx="62467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10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нцип педагогического самоанализа предполагае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лиз результатов итогов учебного год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тоянный анализ результатов аттестации обучающихс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тоянный анализ педагогом своей профессиональной квалификации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Прямоугольник 1"/>
          <p:cNvSpPr/>
          <p:nvPr/>
        </p:nvSpPr>
        <p:spPr>
          <a:xfrm>
            <a:off x="611280" y="549360"/>
            <a:ext cx="62467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10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нцип педагогического самоанализа предполагае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лиз результатов итогов учебного год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тоянный анализ результатов аттестации обучающихс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тоянный анализ педагогом своей профессиональной квалификации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Овал 2"/>
          <p:cNvSpPr/>
          <p:nvPr/>
        </p:nvSpPr>
        <p:spPr>
          <a:xfrm>
            <a:off x="611280" y="4221000"/>
            <a:ext cx="360360" cy="360360"/>
          </a:xfrm>
          <a:prstGeom prst="ellips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1"/>
          <p:cNvSpPr/>
          <p:nvPr/>
        </p:nvSpPr>
        <p:spPr>
          <a:xfrm>
            <a:off x="900000" y="692280"/>
            <a:ext cx="5958000" cy="39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11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жно ли отнести к источникам самообразования педагога экскурсии и просмотры театральных пьес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т, нельз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, можно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жно, при условии, что педагог преподает дисциплину «Культурология»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Прямоугольник 1"/>
          <p:cNvSpPr/>
          <p:nvPr/>
        </p:nvSpPr>
        <p:spPr>
          <a:xfrm>
            <a:off x="900000" y="692280"/>
            <a:ext cx="5958000" cy="39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11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жно ли отнести к источникам самообразования педагога экскурсии и просмотры театральных пьес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т, нельз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, можно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жно, при условии, что педагог преподает дисциплину «Культурология»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Овал 2"/>
          <p:cNvSpPr/>
          <p:nvPr/>
        </p:nvSpPr>
        <p:spPr>
          <a:xfrm>
            <a:off x="900000" y="3429000"/>
            <a:ext cx="358920" cy="360360"/>
          </a:xfrm>
          <a:prstGeom prst="ellips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Прямоугольник 1"/>
          <p:cNvSpPr/>
          <p:nvPr/>
        </p:nvSpPr>
        <p:spPr>
          <a:xfrm>
            <a:off x="684360" y="549360"/>
            <a:ext cx="61736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12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обходимо ли при составлении плана самообразования учитывать характер образовательной деятельности педагог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, необходимо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т, это не нужно учитыва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ан самообразования составляется по одинаковому шаблону для всех педагог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такое самообразование? 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4" name="Рисунок 2" descr=""/>
          <p:cNvPicPr/>
          <p:nvPr/>
        </p:nvPicPr>
        <p:blipFill>
          <a:blip r:embed="rId1"/>
          <a:stretch/>
        </p:blipFill>
        <p:spPr>
          <a:xfrm>
            <a:off x="6485040" y="3327480"/>
            <a:ext cx="2520720" cy="32590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0" y="764640"/>
            <a:ext cx="68040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амообразование – это целенаправленная, познавательная деятельность, управляемая самой личностью с целью приобретения системных знаний в какой – либо области науки, культуры и т.п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амообразование – это приобретение знаний путем самостоятельных занятий без помощи преподавателя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амообразование – это целенаправленная работа педагога по расширению и углублению своих теоретических знаний, совершенствованию имеющихся и приобретению новых профессиональных навыков и умений в свете современных требований педагогической и психологической наук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рямоугольник 1"/>
          <p:cNvSpPr/>
          <p:nvPr/>
        </p:nvSpPr>
        <p:spPr>
          <a:xfrm>
            <a:off x="684360" y="549360"/>
            <a:ext cx="61736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12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обходимо ли при составлении плана самообразования учитывать характер образовательной деятельности педагог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, необходимо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т, это не нужно учитыва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ан самообразования составляется по одинаковому шаблону для всех педагог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Овал 2"/>
          <p:cNvSpPr/>
          <p:nvPr/>
        </p:nvSpPr>
        <p:spPr>
          <a:xfrm>
            <a:off x="684360" y="3429000"/>
            <a:ext cx="358560" cy="287280"/>
          </a:xfrm>
          <a:prstGeom prst="ellips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Прямоугольник 1"/>
          <p:cNvSpPr/>
          <p:nvPr/>
        </p:nvSpPr>
        <p:spPr>
          <a:xfrm>
            <a:off x="611280" y="836640"/>
            <a:ext cx="6246720" cy="48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13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оразвитие педагога будет наиболее эффективны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результате объединения его личностного и профессионального развит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результате четкого планирования процессов саморазвития и самовоспитан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результате тщательного изучения передового опыта коллег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Прямоугольник 1"/>
          <p:cNvSpPr/>
          <p:nvPr/>
        </p:nvSpPr>
        <p:spPr>
          <a:xfrm>
            <a:off x="611280" y="836640"/>
            <a:ext cx="6246720" cy="48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13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оразвитие педагога будет наиболее эффективны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результате объединения его личностного и профессионального развит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результате четкого планирования процессов саморазвития и самовоспитан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результате тщательного изучения передового опыта коллег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Овал 2"/>
          <p:cNvSpPr/>
          <p:nvPr/>
        </p:nvSpPr>
        <p:spPr>
          <a:xfrm>
            <a:off x="614520" y="4076640"/>
            <a:ext cx="360360" cy="360360"/>
          </a:xfrm>
          <a:prstGeom prst="ellips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Прямоугольник 1"/>
          <p:cNvSpPr/>
          <p:nvPr/>
        </p:nvSpPr>
        <p:spPr>
          <a:xfrm>
            <a:off x="539640" y="981000"/>
            <a:ext cx="7056720" cy="54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14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постоянному личностному росту и совершенствованию профессиональных навыков педагога должны стимулировать (выберите наиболее полный ответ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граммы развития образовательной организации и индивидуальные планы работ педагог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итическое отношение к собственным успехам и тщательное изучение причин неудач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струкции и другие нормативные документы образовательной организац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Прямоугольник 1"/>
          <p:cNvSpPr/>
          <p:nvPr/>
        </p:nvSpPr>
        <p:spPr>
          <a:xfrm>
            <a:off x="539640" y="981000"/>
            <a:ext cx="7056720" cy="54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14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постоянному личностному росту и совершенствованию профессиональных навыков педагога должны стимулировать (выберите наиболее полный ответ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граммы развития образовательной организации и индивидуальные планы работ педагог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итическое отношение к собственным успехам и тщательное изучение причин неудач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струкции и другие нормативные документы образовательной организац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Овал 2"/>
          <p:cNvSpPr/>
          <p:nvPr/>
        </p:nvSpPr>
        <p:spPr>
          <a:xfrm>
            <a:off x="539640" y="4941720"/>
            <a:ext cx="360360" cy="358920"/>
          </a:xfrm>
          <a:prstGeom prst="ellips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рямоугольник 1"/>
          <p:cNvSpPr/>
          <p:nvPr/>
        </p:nvSpPr>
        <p:spPr>
          <a:xfrm>
            <a:off x="755640" y="692280"/>
            <a:ext cx="610236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15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обходимо ли планирование самообразовательной работ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, необходимо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оответствии с распоряжением администрации образовательной организац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т, можно обойтись и без планирован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Прямоугольник 1"/>
          <p:cNvSpPr/>
          <p:nvPr/>
        </p:nvSpPr>
        <p:spPr>
          <a:xfrm>
            <a:off x="755640" y="692280"/>
            <a:ext cx="610236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15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обходимо ли планирование самообразовательной работ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, необходимо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оответствии с распоряжением администрации образовательной организац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т, можно обойтись и без планирован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Овал 2"/>
          <p:cNvSpPr/>
          <p:nvPr/>
        </p:nvSpPr>
        <p:spPr>
          <a:xfrm>
            <a:off x="755640" y="3141720"/>
            <a:ext cx="360360" cy="358560"/>
          </a:xfrm>
          <a:prstGeom prst="ellips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-360" y="1557360"/>
            <a:ext cx="4419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средством самообразования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 счет осознанного, обязательно ДОБРОВОЛЬНОГО участия педагога  в организованных дошкольным учреждением или Управлением образования мероприятий, которые объединяются обобщающим названием «методическая работа»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WordArt 4"/>
          <p:cNvSpPr txBox="1"/>
          <p:nvPr/>
        </p:nvSpPr>
        <p:spPr>
          <a:xfrm>
            <a:off x="468360" y="404640"/>
            <a:ext cx="82407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54a021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ути профессионально-личностного 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54a021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54a021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ста педагога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54a021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4572000" y="3429000"/>
            <a:ext cx="21096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7" name="Рисунок 7" descr=""/>
          <p:cNvPicPr/>
          <p:nvPr/>
        </p:nvPicPr>
        <p:blipFill>
          <a:blip r:embed="rId1"/>
          <a:stretch/>
        </p:blipFill>
        <p:spPr>
          <a:xfrm>
            <a:off x="4361040" y="2263680"/>
            <a:ext cx="4781520" cy="32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оугольник 4"/>
          <p:cNvSpPr/>
          <p:nvPr/>
        </p:nvSpPr>
        <p:spPr>
          <a:xfrm>
            <a:off x="1692360" y="981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9" name="Рисунок 7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6192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179280" y="259920"/>
            <a:ext cx="8445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тивы, побуждающие педагога к самообразованию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Ежедневная работа с информацией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Желание творчеств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Стремительный рост современной науки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особенно психологии и педагогики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Изменения, происходящие в жизни обществ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нкуренция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Рисунок 2" descr=""/>
          <p:cNvPicPr/>
          <p:nvPr/>
        </p:nvPicPr>
        <p:blipFill>
          <a:blip r:embed="rId1"/>
          <a:stretch/>
        </p:blipFill>
        <p:spPr>
          <a:xfrm>
            <a:off x="2987640" y="2924280"/>
            <a:ext cx="514836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179280" y="259920"/>
            <a:ext cx="8445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тивы, побуждающие педагога к самообразованию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Общественное мнение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Материальное стимулировани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Интерес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Рисунок 2" descr=""/>
          <p:cNvPicPr/>
          <p:nvPr/>
        </p:nvPicPr>
        <p:blipFill>
          <a:blip r:embed="rId1"/>
          <a:stretch/>
        </p:blipFill>
        <p:spPr>
          <a:xfrm>
            <a:off x="2556000" y="2276640"/>
            <a:ext cx="52434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9680" y="214200"/>
            <a:ext cx="818676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этап – выбор направления и темы самообразования</a:t>
            </a:r>
            <a:br>
              <a:rPr sz="2900"/>
            </a:b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47680" y="850680"/>
            <a:ext cx="83628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уществует огромное количество возможных вариантов тем самообразования. Каждый педагог выбирает тему самообразования  исходя из своих потребностей и методической темы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ормулируйте темы по схемам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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ЧТО-ТО как условие развития ЧЕГО- ЛИБО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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ЧТО-ТО как средство формирования ЧЕГО-ЛИБО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2" name="Рисунок 2" descr=""/>
          <p:cNvPicPr/>
          <p:nvPr/>
        </p:nvPicPr>
        <p:blipFill>
          <a:blip r:embed="rId1"/>
          <a:stretch/>
        </p:blipFill>
        <p:spPr>
          <a:xfrm>
            <a:off x="108000" y="2979720"/>
            <a:ext cx="4751280" cy="286848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2" descr=""/>
          <p:cNvPicPr/>
          <p:nvPr/>
        </p:nvPicPr>
        <p:blipFill>
          <a:blip r:embed="rId2"/>
          <a:stretch/>
        </p:blipFill>
        <p:spPr>
          <a:xfrm>
            <a:off x="4915080" y="3699000"/>
            <a:ext cx="421128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9280" y="214200"/>
            <a:ext cx="8964720" cy="7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200"/>
            </a:br>
            <a:r>
              <a:rPr b="0" i="1" lang="ru-RU" sz="2200" spc="-1" strike="noStrike">
                <a:solidFill>
                  <a:srgbClr val="90c226"/>
                </a:solidFill>
                <a:latin typeface="Trebuchet MS"/>
              </a:rPr>
              <a:t>           </a:t>
            </a: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этап – формулировка цели и задач самообразования</a:t>
            </a:r>
            <a:br>
              <a:rPr sz="2900"/>
            </a:b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5" name="Рисунок 2" descr=""/>
          <p:cNvPicPr/>
          <p:nvPr/>
        </p:nvPicPr>
        <p:blipFill>
          <a:blip r:embed="rId1"/>
          <a:stretch/>
        </p:blipFill>
        <p:spPr>
          <a:xfrm>
            <a:off x="4932360" y="2565360"/>
            <a:ext cx="3887640" cy="29242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395280" y="1125000"/>
            <a:ext cx="822960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ями самообразования могут быть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вышение уровня своей эрудиции и общей культуры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зучение и внедрение новых педагогических технологий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зучение и внедрение новых форм, методов и приемов обучения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вершенствование своих знаний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области педагогики и психологии и др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</a:t>
            </a:r>
            <a:r>
              <a:rPr b="1" lang="ru-RU" sz="1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этом цель должна звучать ёмко,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ажать и уточнять тему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амообразования.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 самообразования </a:t>
            </a:r>
            <a:r>
              <a:rPr b="1" lang="ru-RU" sz="1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это шаги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 достижению цели самообразования.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зучить, исследовать, проанализировать, рассмотреть, обосновать, объяснить, разработать, экспериментально проверить, доказать, апробировать и т.п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678880" cy="6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90c226"/>
                </a:solidFill>
                <a:latin typeface="Trebuchet MS"/>
              </a:rPr>
              <a:t>            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 этап – определение круга источников информации</a:t>
            </a:r>
            <a:br>
              <a:rPr sz="2900"/>
            </a:b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14200" y="1197000"/>
            <a:ext cx="8715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точниками информации для педагога могут быть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елевидение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;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азеты и журналы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;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итература (методическая, научно-популярная, художественная и др.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атериалы сети Интернет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;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формация на различных носителях (видео, аудио и т.д.)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еминары и конференции, мастер-классы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урсы повышения квалификации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нятия коллег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еатры, выставки, музеи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нцерты и т.д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Рисунок 2" descr=""/>
          <p:cNvPicPr/>
          <p:nvPr/>
        </p:nvPicPr>
        <p:blipFill>
          <a:blip r:embed="rId1"/>
          <a:stretch/>
        </p:blipFill>
        <p:spPr>
          <a:xfrm>
            <a:off x="5724360" y="4338720"/>
            <a:ext cx="327528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15:05:10Z</dcterms:created>
  <dc:creator>Speed_XP</dc:creator>
  <dc:description/>
  <dc:language>en-US</dc:language>
  <cp:lastModifiedBy>Андрей</cp:lastModifiedBy>
  <dcterms:modified xsi:type="dcterms:W3CDTF">2020-04-06T10:52:39Z</dcterms:modified>
  <cp:revision>86</cp:revision>
  <dc:subject/>
  <dc:title>«Организация процесса самообразования в педагогической деятельности учителя»</dc:title>
</cp:coreProperties>
</file>