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8EC1B-F64F-49CE-BF7E-E357477140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E9A40-6603-4DDE-92E9-44729706F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A7657-3237-4630-9355-5BE2758A8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D08-113D-40DC-B633-94D5232B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BAE-6314-4291-88E8-0D7EE2F1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3BB-39D2-4220-BB6E-85DED3AE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119-48CF-4A92-87FD-312941F5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3E2C-B963-4DD7-8F30-124E59C5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3597-3869-43AE-B724-37710AA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DAF9-F817-4C22-8DD3-6BBF744E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17A4-92F2-4EAF-B3B0-51383ED8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A56C-A717-427D-B967-07F71500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EEFF-FE50-4E26-AA35-6120AF86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5978-59AF-4FFB-A73F-25EB593C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60B-61EA-469D-8BD3-0040EB16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6BAC-6B6C-431B-926A-A39FAF46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629E-E798-4E58-B70F-71540DB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1392-BDC7-4913-A6ED-23126EED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45C1-B7B5-40D6-A1BF-464C895D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43B4-7BC2-4F69-BB68-F9D6C223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3065-6A11-4F9F-89AD-58AD4609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05C48-5835-4CD6-85BB-D17A66C2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5E0A-4477-4B79-A03E-EEA80874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70F9-9DDF-4E9F-95DE-360FFEFE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AE51-058B-4FDF-87FF-B349E2EF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515-AC44-4B0D-BCA8-208AEDBE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4E9C4-62AC-4E37-91E1-FCC3E69E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4D07-527F-4E69-BAA6-26FBB1D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00A6-84EA-4444-AC53-25EF3790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1378-8161-4444-9EB9-F410E0EA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6EDC-13A7-4341-9605-61995515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320B-A907-468C-A980-E1D07A3A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204F-BC2E-4C5C-A8C0-F7A2B647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52FA-0FFB-4231-8130-91950716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8871D-4ECB-44CD-8D11-C8CDA8ED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E019D-2815-48F8-9C7C-2B886D4E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505-8EF9-4D34-9A15-48DAA094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2E800-4FF2-4612-85F8-A097B5DD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36F0F-8090-4A5B-8750-4270053D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17E58-6E45-4A0E-BDF1-1ECCABB2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61687-B0B6-4DCC-B2BD-73D91857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B31B3-C9F6-46D9-B814-8B1CDC5B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E514-7FD3-4C71-993C-5080A87E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5BFE0-0124-4936-8774-82A34F14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AF4AB-DDB3-4AFB-86A6-7BA18FEB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FC1C-B872-42A7-877E-A7C7438B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E1E-7681-4D97-A7C7-F146FC33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8C9-5080-4F83-87FF-E2562A50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FED-F6E9-4141-847B-99FBD2D7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899-A25C-45F1-AC86-E1B731C1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64A-DD21-4F0F-9EE6-1AE4C29F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36909-40E5-4D51-BB83-956791C982E6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4A2C6-7EBA-4970-90F4-4F5ECC0D110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58D46-8C19-4CC0-83AE-7BBB61BB01F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D8787-AB83-4872-A5C9-14A10F8AA582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684360" y="549360"/>
            <a:ext cx="73436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 сто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мообразование как один из способов повышения профессионального мастерства педагогов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5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этап – выбор формы самообразования</a:t>
            </a:r>
            <a:br>
              <a:rPr sz="29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4260960" y="1989000"/>
            <a:ext cx="4859280" cy="3645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395280" y="963720"/>
            <a:ext cx="410544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специальная образовательная подготовка (получение высшего образования или второй специальности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повышение квалификации (на курсах и в межкурсовой период)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групповая самообразовательная работа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бота методических объединений, творческих групп (проведение собеседований, ежегодных отчетов, посещение и анализ занятий коллег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дение циклов лекций, семинаров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) индивидуальная самообразовательная рабо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6760" y="245880"/>
            <a:ext cx="709452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90c226"/>
                </a:solidFill>
                <a:latin typeface="Trebuchet MS"/>
              </a:rPr>
              <a:t> 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 этап – составление плана самообразования</a:t>
            </a:r>
            <a:br>
              <a:rPr sz="29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основании выбранной темы педагог разрабатывает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чный план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боты над поставленной перед собой проблемо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лане указыва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звание темы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л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дач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дполагаемый результат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апы работы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оки выполнения каждого этап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йствия и мероприятия, проводимые в процессе работы над темо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 демонстрации результата проделанной работ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а отчета по проделанной рабо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Рисунок 2" descr=""/>
          <p:cNvPicPr/>
          <p:nvPr/>
        </p:nvPicPr>
        <p:blipFill>
          <a:blip r:embed="rId1"/>
          <a:stretch/>
        </p:blipFill>
        <p:spPr>
          <a:xfrm>
            <a:off x="5016600" y="1773360"/>
            <a:ext cx="3659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 этап – определение результата самообразования</a:t>
            </a:r>
            <a:br>
              <a:rPr sz="3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67760" y="785520"/>
            <a:ext cx="86410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юбая деятельность предполагает создание продукта. Поэтому в личном плане самообразования педагога обязательно должен быть список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ов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которые будут  достигнуты за определенный срок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ы результатов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аботанные или изданные методические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собия, статьи, учебники, программы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ценарии, исследова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аботка новых форм, методов и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иёмов обуче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оклады, выступления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аботка дидактических материалов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естов, создание наглядности, презентаций и д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6" descr="http://teremok94.ucoz.ru/imagek.jpg"/>
          <p:cNvPicPr/>
          <p:nvPr/>
        </p:nvPicPr>
        <p:blipFill>
          <a:blip r:embed="rId1"/>
          <a:srcRect l="12095" t="14110" r="16844" b="0"/>
          <a:stretch/>
        </p:blipFill>
        <p:spPr>
          <a:xfrm>
            <a:off x="5651640" y="3005280"/>
            <a:ext cx="3384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 этап – анализ и оценка деятельности в процессе самообразования, подготовка отчета</a:t>
            </a:r>
            <a:br>
              <a:rPr sz="3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13840" y="1700280"/>
            <a:ext cx="86439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ормами отчетных работ могут быть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общение опыта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клад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бор и анализ отчетной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кументаци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зентации результатов работ перед педагогическим коллективо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окончании работы над темой каждый педагог должен напис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чет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 анализом, выводами и рекомендациями для коллег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2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3348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175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умайтес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4000" y="765000"/>
            <a:ext cx="850104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А. Дистервег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Рисунок 2" descr=""/>
          <p:cNvPicPr/>
          <p:nvPr/>
        </p:nvPicPr>
        <p:blipFill>
          <a:blip r:embed="rId1"/>
          <a:stretch/>
        </p:blipFill>
        <p:spPr>
          <a:xfrm>
            <a:off x="1979640" y="3976560"/>
            <a:ext cx="46418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3"/>
          <p:cNvSpPr/>
          <p:nvPr/>
        </p:nvSpPr>
        <p:spPr>
          <a:xfrm>
            <a:off x="468360" y="692280"/>
            <a:ext cx="799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опросы для обсуждения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- Что является более важным                            для повышения мотивации педагогов: материально-техническое  обеспечение дошкольного учреждения или деятельность самого педагога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- Какая из форм организации методической работы в детском саду наиболее эффективна для профессионального роста и самореализации педагога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Качества настоящего профессиона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"/>
          <p:cNvPicPr/>
          <p:nvPr/>
        </p:nvPicPr>
        <p:blipFill>
          <a:blip r:embed="rId2"/>
          <a:stretch/>
        </p:blipFill>
        <p:spPr>
          <a:xfrm>
            <a:off x="6357960" y="4889520"/>
            <a:ext cx="26258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2"/>
          <p:cNvSpPr/>
          <p:nvPr/>
        </p:nvSpPr>
        <p:spPr>
          <a:xfrm>
            <a:off x="611280" y="836640"/>
            <a:ext cx="62467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Является ли программа самовоспитания педагога составной частью программы саморазвит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 являет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ого понятия как «программа самовоспитания» не существуе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являет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826920" y="836640"/>
            <a:ext cx="648180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Является ли программа самовоспитания педагога составной частью программы саморазвит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 являет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ого понятия как «программа самовоспитания» не существуе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являет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Овал 2"/>
          <p:cNvSpPr/>
          <p:nvPr/>
        </p:nvSpPr>
        <p:spPr>
          <a:xfrm flipH="1" flipV="1">
            <a:off x="826920" y="4941000"/>
            <a:ext cx="379440" cy="3589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684360" y="692280"/>
            <a:ext cx="624492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2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е саморазвитие педагога не будет эффективным, ес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не рассмотрит направления развития профессиональных компетенций коллег по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не согласует и не утвердит свои планы работы с руководством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не сформулирует личностно значимые краткосрочные и долгосрочные це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539640" y="620640"/>
            <a:ext cx="74170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253800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увствую себя в праве сказать: да здравствует самообразование во всех областях!.. Только те знания прочны и ценны, которые вы добывали сами, побуждаемые собственной страстью.  Всякое знание должно быть открытием, которое вы сделали сами…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4240" indent="253800"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И. Чуковский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684360" y="692280"/>
            <a:ext cx="62449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2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е саморазвитие педагога не будет эффективным, ес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не рассмотрит направления развития профессиональных компетенций коллег по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не согласует и не утвердит свои планы работы с руководством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не сформулирует личностно значимые краткосрочные и долгосрочные це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Овал 2"/>
          <p:cNvSpPr/>
          <p:nvPr/>
        </p:nvSpPr>
        <p:spPr>
          <a:xfrm>
            <a:off x="755640" y="4508640"/>
            <a:ext cx="360360" cy="2887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826920" y="620640"/>
            <a:ext cx="603108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3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ли отнести к результатам самообразования педагога разработку им методического пособ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льз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можн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, при условии, что разработка пособия была в плане работы методического кабине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826920" y="620640"/>
            <a:ext cx="603108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3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ли отнести к результатам самообразования педагога разработку им методического пособ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льз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можн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, при условии, что разработка пособия была в плане работы методического кабине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Овал 2"/>
          <p:cNvSpPr/>
          <p:nvPr/>
        </p:nvSpPr>
        <p:spPr>
          <a:xfrm>
            <a:off x="826920" y="3425760"/>
            <a:ext cx="289080" cy="28908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684360" y="476280"/>
            <a:ext cx="741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4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тандартным (наиболее распространенным) методикам профессионального саморазвития педагога не относят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в педагогических интернет – сообщества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передового опыта коллег, педагогические чт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рсы повышения квалификации, семинары, методические объедин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684360" y="476280"/>
            <a:ext cx="741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4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тандартным (наиболее распространенным) методикам профессионального саморазвития педагога не относят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в педагогических интернет – сообщества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передового опыта коллег, педагогические чт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рсы повышения квалификации, семинары, методические объедин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Овал 2"/>
          <p:cNvSpPr/>
          <p:nvPr/>
        </p:nvSpPr>
        <p:spPr>
          <a:xfrm>
            <a:off x="755640" y="4005360"/>
            <a:ext cx="36036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755640" y="620640"/>
            <a:ext cx="727236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5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ом чего (в первую очередь) является корректировка программы профессионального саморазвития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я администрации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ания методист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контроль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755640" y="620640"/>
            <a:ext cx="727236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5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ом чего (в первую очередь) является корректировка программы профессионального саморазвития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я администрации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ания методист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контроль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Овал 2"/>
          <p:cNvSpPr/>
          <p:nvPr/>
        </p:nvSpPr>
        <p:spPr>
          <a:xfrm>
            <a:off x="826920" y="4653000"/>
            <a:ext cx="289080" cy="2887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468360" y="909720"/>
            <a:ext cx="842472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6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е саморазвитие педагога (выберите наиболее полный ответ) – это осознанный процесс, нацеленный 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самооценки и признание воспитанниками и коллег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и развитие профессиональных педагогических качеств в соответствии с социальными требованиями и программой личного развит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рофессиональных компетенций в соответствии с заданием руководства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468360" y="909720"/>
            <a:ext cx="842472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6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е саморазвитие педагога (выберите наиболее полный ответ) – это осознанный процесс, нацеленный 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самооценки и признание воспитанниками и коллег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и развитие профессиональных педагогических качеств в соответствии с социальными требованиями и программой личного развит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рофессиональных компетенций в соответствии с заданием руководства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Овал 2"/>
          <p:cNvSpPr/>
          <p:nvPr/>
        </p:nvSpPr>
        <p:spPr>
          <a:xfrm>
            <a:off x="468360" y="3573360"/>
            <a:ext cx="35856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468360" y="549360"/>
            <a:ext cx="734364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7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темой самообразования быть тема, выбранная педагогом самостоятельно, с учетом его личных потребност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 мож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мож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ы для самообразования устанавливает только администрация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324000" y="333360"/>
            <a:ext cx="65340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253800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ршенствование навыков самостоятельной работы педагогов по самообразованию.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84240" indent="253800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84240" indent="253800">
              <a:lnSpc>
                <a:spcPct val="107000"/>
              </a:lnSpc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сущность процесса самообразования, его необходимость в современных условия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84240" indent="253800">
              <a:lnSpc>
                <a:spcPct val="107000"/>
              </a:lnSpc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ь педагогов в коллективную деятельность, развивать умение и желание взаимодействовать друг с другом для решения нестандартных ситуаци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84240" indent="253800"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2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4680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468360" y="549360"/>
            <a:ext cx="734364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7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темой самообразования быть тема, выбранная педагогом самостоятельно, с учетом его личных потребност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 мож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мож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ы для самообразования устанавливает только администрация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Овал 2"/>
          <p:cNvSpPr/>
          <p:nvPr/>
        </p:nvSpPr>
        <p:spPr>
          <a:xfrm>
            <a:off x="430200" y="3249720"/>
            <a:ext cx="360360" cy="3585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84360" y="981000"/>
            <a:ext cx="61736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8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автор высказывания «Педагог живет до тех пор, пока учится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.Д.Ушинск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.С.Макаренк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Я.Коменкск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684360" y="981000"/>
            <a:ext cx="61736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8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автор высказывания «Педагог живет до тех пор, пока учится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.Д.Ушинск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.С.Макаренк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Я.Коменкск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Овал 2"/>
          <p:cNvSpPr/>
          <p:nvPr/>
        </p:nvSpPr>
        <p:spPr>
          <a:xfrm>
            <a:off x="658800" y="3429000"/>
            <a:ext cx="43164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539640" y="620640"/>
            <a:ext cx="631836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9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у профессионального саморазвития педагога разрабатыва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й совет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 педаго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ство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539640" y="620640"/>
            <a:ext cx="631836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9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у профессионального саморазвития педагога разрабатыва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й совет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 педаго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ство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Овал 2"/>
          <p:cNvSpPr/>
          <p:nvPr/>
        </p:nvSpPr>
        <p:spPr>
          <a:xfrm>
            <a:off x="539640" y="3860640"/>
            <a:ext cx="36036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611280" y="549360"/>
            <a:ext cx="6246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 педагогического самоанализа предполага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результатов итогов учебного год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ый анализ результатов аттестации обучающих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ый анализ педагогом своей профессиональной квалификаци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611280" y="549360"/>
            <a:ext cx="6246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 педагогического самоанализа предполага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результатов итогов учебного год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ый анализ результатов аттестации обучающих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ый анализ педагогом своей профессиональной квалификаци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Овал 2"/>
          <p:cNvSpPr/>
          <p:nvPr/>
        </p:nvSpPr>
        <p:spPr>
          <a:xfrm>
            <a:off x="611280" y="4221000"/>
            <a:ext cx="36036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900000" y="692280"/>
            <a:ext cx="595800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1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ли отнести к источникам самообразования педагога экскурсии и просмотры театральных пье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льз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можн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, при условии, что педагог преподает дисциплину «Культурология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900000" y="692280"/>
            <a:ext cx="595800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1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ли отнести к источникам самообразования педагога экскурсии и просмотры театральных пье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льз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можн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, при условии, что педагог преподает дисциплину «Культурология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Овал 2"/>
          <p:cNvSpPr/>
          <p:nvPr/>
        </p:nvSpPr>
        <p:spPr>
          <a:xfrm>
            <a:off x="900000" y="3429000"/>
            <a:ext cx="35892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684360" y="549360"/>
            <a:ext cx="617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ли при составлении плана самообразования учитывать характер образовательной деятельности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необходим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это не нужно учитыв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самообразования составляется по одинаковому шаблону для всех педагог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самообразование?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Рисунок 2" descr=""/>
          <p:cNvPicPr/>
          <p:nvPr/>
        </p:nvPicPr>
        <p:blipFill>
          <a:blip r:embed="rId1"/>
          <a:stretch/>
        </p:blipFill>
        <p:spPr>
          <a:xfrm>
            <a:off x="6485040" y="3327480"/>
            <a:ext cx="2520720" cy="3259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0" y="764640"/>
            <a:ext cx="680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образование – это целенаправленная, познавательная деятельность, управляемая самой личностью с целью приобретения системных знаний в какой – либо области науки, культуры и т.п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образование – это приобретение знаний путем самостоятельных занятий без помощи преподавател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образование – это целенаправленная работа педагога по расширению и углублению своих теоретических знаний, совершенствованию имеющихся и приобретению новых профессиональных навыков и умений в свете современных требований педагогической и психологической нау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684360" y="549360"/>
            <a:ext cx="617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ли при составлении плана самообразования учитывать характер образовательной деятельности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необходим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это не нужно учитыв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самообразования составляется по одинаковому шаблону для всех педагог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Овал 2"/>
          <p:cNvSpPr/>
          <p:nvPr/>
        </p:nvSpPr>
        <p:spPr>
          <a:xfrm>
            <a:off x="684360" y="3429000"/>
            <a:ext cx="358560" cy="28728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1"/>
          <p:cNvSpPr/>
          <p:nvPr/>
        </p:nvSpPr>
        <p:spPr>
          <a:xfrm>
            <a:off x="611280" y="836640"/>
            <a:ext cx="624672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3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развитие педагога будет наиболее эффективны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объединения его личностного и профессионального развит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четкого планирования процессов саморазвития и самовоспита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тщательного изучения передового опыта колле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1"/>
          <p:cNvSpPr/>
          <p:nvPr/>
        </p:nvSpPr>
        <p:spPr>
          <a:xfrm>
            <a:off x="611280" y="836640"/>
            <a:ext cx="624672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3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развитие педагога будет наиболее эффективны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объединения его личностного и профессионального развит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четкого планирования процессов саморазвития и самовоспита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тщательного изучения передового опыта колле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Овал 2"/>
          <p:cNvSpPr/>
          <p:nvPr/>
        </p:nvSpPr>
        <p:spPr>
          <a:xfrm>
            <a:off x="614520" y="4076640"/>
            <a:ext cx="36036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1"/>
          <p:cNvSpPr/>
          <p:nvPr/>
        </p:nvSpPr>
        <p:spPr>
          <a:xfrm>
            <a:off x="539640" y="981000"/>
            <a:ext cx="705672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4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остоянному личностному росту и совершенствованию профессиональных навыков педагога должны стимулировать (выберите наиболее полный отве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ы развития образовательной организации и индивидуальные планы работ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ическое отношение к собственным успехам и тщательное изучение причин неудач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струкции и другие нормативные документы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1"/>
          <p:cNvSpPr/>
          <p:nvPr/>
        </p:nvSpPr>
        <p:spPr>
          <a:xfrm>
            <a:off x="539640" y="981000"/>
            <a:ext cx="705672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4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остоянному личностному росту и совершенствованию профессиональных навыков педагога должны стимулировать (выберите наиболее полный отве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ы развития образовательной организации и индивидуальные планы работ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ическое отношение к собственным успехам и тщательное изучение причин неудач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струкции и другие нормативные документы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Овал 2"/>
          <p:cNvSpPr/>
          <p:nvPr/>
        </p:nvSpPr>
        <p:spPr>
          <a:xfrm>
            <a:off x="539640" y="4941720"/>
            <a:ext cx="360360" cy="3589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1"/>
          <p:cNvSpPr/>
          <p:nvPr/>
        </p:nvSpPr>
        <p:spPr>
          <a:xfrm>
            <a:off x="755640" y="692280"/>
            <a:ext cx="610236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5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ли планирование самообразовательной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необходим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распоряжением администрации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можно обойтись и без планирова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1"/>
          <p:cNvSpPr/>
          <p:nvPr/>
        </p:nvSpPr>
        <p:spPr>
          <a:xfrm>
            <a:off x="755640" y="692280"/>
            <a:ext cx="610236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5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ли планирование самообразовательной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необходим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распоряжением администрации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можно обойтись и без планирова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Овал 2"/>
          <p:cNvSpPr/>
          <p:nvPr/>
        </p:nvSpPr>
        <p:spPr>
          <a:xfrm>
            <a:off x="755640" y="3141720"/>
            <a:ext cx="360360" cy="3585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-360" y="1557360"/>
            <a:ext cx="4419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редством самообразован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 счет осознанного, обязательно ДОБРОВОЛЬНОГО участия педагога  в организованных дошкольным учреждением или Управлением образования мероприятий, которые объединяются обобщающим названием «методическая работа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WordArt 4"/>
          <p:cNvSpPr txBox="1"/>
          <p:nvPr/>
        </p:nvSpPr>
        <p:spPr>
          <a:xfrm>
            <a:off x="468360" y="404640"/>
            <a:ext cx="824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54a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и профессионально-личностного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54a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54a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 педагог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54a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4572000" y="3429000"/>
            <a:ext cx="2109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7" name="Рисунок 7" descr=""/>
          <p:cNvPicPr/>
          <p:nvPr/>
        </p:nvPicPr>
        <p:blipFill>
          <a:blip r:embed="rId1"/>
          <a:stretch/>
        </p:blipFill>
        <p:spPr>
          <a:xfrm>
            <a:off x="4361040" y="2263680"/>
            <a:ext cx="478152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4"/>
          <p:cNvSpPr/>
          <p:nvPr/>
        </p:nvSpPr>
        <p:spPr>
          <a:xfrm>
            <a:off x="1692360" y="981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Рисунок 7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6192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79280" y="25992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тивы, побуждающие педагога к самообразованию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Ежедневная работа с информаци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Желание творчеств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емительный рост современной науки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собенно психологии и педагогик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зменения, происходящие в жизни обще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нкуренци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5148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79280" y="25992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тивы, побуждающие педагога к самообразованию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Общественное мнени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атериальное стимулирован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нтерес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5243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186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этап – выбор направления и темы самообразования</a:t>
            </a:r>
            <a:br>
              <a:rPr sz="2900"/>
            </a:b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47680" y="85068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ществует огромное количество возможных вариантов тем самообразования. Каждый педагог выбирает тему самообразования  исходя из своих потребностей и методической тем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улируйте темы по схемам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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ЧТО-ТО как условие развития ЧЕГО- ЛИБ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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ЧТО-ТО как средство формирования ЧЕГО-ЛИБ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tretch/>
        </p:blipFill>
        <p:spPr>
          <a:xfrm>
            <a:off x="108000" y="2979720"/>
            <a:ext cx="4751280" cy="28684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" descr=""/>
          <p:cNvPicPr/>
          <p:nvPr/>
        </p:nvPicPr>
        <p:blipFill>
          <a:blip r:embed="rId2"/>
          <a:stretch/>
        </p:blipFill>
        <p:spPr>
          <a:xfrm>
            <a:off x="4915080" y="3699000"/>
            <a:ext cx="42112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214200"/>
            <a:ext cx="8964720" cy="7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i="1" lang="ru-RU" sz="2200" spc="-1" strike="noStrike">
                <a:solidFill>
                  <a:srgbClr val="90c226"/>
                </a:solidFill>
                <a:latin typeface="Trebuchet MS"/>
              </a:rPr>
              <a:t>          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 – формулировка цели и задач самообразования</a:t>
            </a:r>
            <a:br>
              <a:rPr sz="29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887640" cy="2924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395280" y="1125000"/>
            <a:ext cx="82296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ями самообразования могут быть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вышение уровня своей эрудиции и общей культуры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учение и внедрение новых педагогических технологий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учение и внедрение новых форм, методов и приемов обучения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ршенствование своих знаний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ласти педагогики и психологии и др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этом цель должна звучать ёмко,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ажать и уточнять тему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образования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самообразования </a:t>
            </a: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это шаги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достижению цели самообразования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учить, исследовать, проанализировать, рассмотреть, обосновать, объяснить, разработать, экспериментально проверить, доказать, апробировать и т.п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7888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90c226"/>
                </a:solidFill>
                <a:latin typeface="Trebuchet MS"/>
              </a:rPr>
              <a:t>          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этап – определение круга источников информации</a:t>
            </a:r>
            <a:br>
              <a:rPr sz="29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14200" y="119700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ами информации для педагога могут быть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левидение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азеты и журналы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тература (методическая, научно-популярная, художественная и др.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териалы сети Интернет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на различных носителях (видео, аудио и т.д.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минары и конференции, мастер-классы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урсы повышения квалификации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нятия коллег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атры, выставки, музеи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церты и т.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Рисунок 2" descr=""/>
          <p:cNvPicPr/>
          <p:nvPr/>
        </p:nvPicPr>
        <p:blipFill>
          <a:blip r:embed="rId1"/>
          <a:stretch/>
        </p:blipFill>
        <p:spPr>
          <a:xfrm>
            <a:off x="5724360" y="4338720"/>
            <a:ext cx="3275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Андрей</cp:lastModifiedBy>
  <dcterms:modified xsi:type="dcterms:W3CDTF">2020-04-06T10:52:39Z</dcterms:modified>
  <cp:revision>86</cp:revision>
  <dc:subject/>
  <dc:title>«Организация процесса самообразования в педагогической деятельности учителя»</dc:title>
</cp:coreProperties>
</file>