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B70-7D42-4830-B91D-7A40D593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8E3-8BC6-4E33-A157-3B795F9C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070E-DB6B-43DF-99C6-D5066135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79F-ED7E-45C2-96FC-05F716D6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2E8-7F5A-45B2-9B49-D8C9ABE7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3FD-F9C5-4E74-AD72-298FC6F2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27C4-70B8-4E7B-A249-18106295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62D-6398-4EDC-865F-DD2AC710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8A4-27B2-4B41-B0C5-6A0FFB17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949-918B-46EC-A585-A62A4F65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CA0-8170-466F-8BBA-070849C6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6BA2-4910-4A9F-8042-B9634942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0D10-B1F2-495B-9A13-F3A8F5CD72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4000" y="907560"/>
            <a:ext cx="665964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езентация группы №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03280" y="3860280"/>
            <a:ext cx="594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роектная педтехнолог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968720" cy="381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780000" y="2708280"/>
            <a:ext cx="504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570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ом всей нашей работы стало создание в группе игрового центра под названием «Город крышек – Крышкоград»   в нём дети всегда могут найти себе занятие по интересам и не замечают, как пролетает врем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35280" y="2133720"/>
            <a:ext cx="6049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лением проделанной работы было итоговое занятие «Путешествие по городу «Крышкограду», где воспитатели вместе с детьми отправляются в путешествие по домам в городе Крышкогра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258560" y="1989000"/>
            <a:ext cx="32367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помнили историю происхождения крыш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41749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899640" y="2636640"/>
            <a:ext cx="331164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дом «Ученые- исследовате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46796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71280" y="3573360"/>
            <a:ext cx="2808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дом: «Строите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535640" cy="3284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851280" y="2924280"/>
            <a:ext cx="5292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3715920"/>
            <a:ext cx="3456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д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Художн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68360" y="0"/>
            <a:ext cx="4392720" cy="3238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067280" y="3357720"/>
            <a:ext cx="4752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71280" y="3500280"/>
            <a:ext cx="28796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дом «Музыкан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4608360" cy="3213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995640" y="3284640"/>
            <a:ext cx="46818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гровой момент с крышками «Разложи по цвет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66960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403280" y="1915920"/>
            <a:ext cx="728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В рамках педсовета «Использование современных педагогических технологий в работе с дошкольниками»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в нашей группе с 17.02.- 21.02 был проведен краткосрочный проект «Волшебные крышечки и пробоч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пка «Божьи коровки из крыше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11640" y="3068640"/>
            <a:ext cx="4681440" cy="3529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4752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91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619280" y="2492280"/>
            <a:ext cx="706752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воображение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ллектуальное творческое саморазвитие детей, их сенсорной сферы, включая детское экспериментиров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26560" y="1268280"/>
            <a:ext cx="7859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Учить творчески инициативно подходить к решению проблемных зада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Развивать системное мышление, воображение, творчество, речь, тактильные ощущения, мелкую моторику ру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Воспитывать интерес к собственным открытиям через поисковую деяте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Закреплять и систематизировать знания о крышках: из чего сделаны, их свойства и качества, строение и назна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Формировать умение рисовать крышками на картоне, выкладывать из них простые изобра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Воспитывать нравственные качества: отзывчивость, доброту, желание помогать другим в ходе совместн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7643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ходе проектной деятельности нами были использованы следующие форм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рассматривание и сравнение крышек по фор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цвету и материал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моделирование схем рисун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разнообразные игры с крышками, создание д/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рисование крышками на бумаг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выкладывание по схемам из крышек простых изображ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чтение художественной литера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беседы о происхождении крыше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опыты и эксперименты с крышк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4392720" cy="4824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716360" y="1557360"/>
            <a:ext cx="4248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20728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3013200"/>
            <a:ext cx="4249800" cy="3655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411280" y="0"/>
            <a:ext cx="4608720" cy="321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753080" y="2997360"/>
            <a:ext cx="421164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27T06:13:35Z</dcterms:created>
  <dc:creator>1</dc:creator>
  <dc:description/>
  <dc:language>en-US</dc:language>
  <cp:lastModifiedBy>1</cp:lastModifiedBy>
  <dcterms:modified xsi:type="dcterms:W3CDTF">2020-04-06T04:53:12Z</dcterms:modified>
  <cp:revision>18</cp:revision>
  <dc:subject/>
  <dc:title>Презентация группы №14</dc:title>
</cp:coreProperties>
</file>