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5B5-240B-42FF-96C0-8A86C1CB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453-ECB9-438A-8496-68CFFA63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94A-57B6-442D-9125-75DB0158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8FD-809B-4C5B-929C-4EC052FF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BF1-9003-4FC0-BDA4-6E6016E9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7A3-C686-4EF5-BD61-3F345DA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90E-FCF6-4FA6-9480-93645836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821-FDF6-4CA3-82BD-3F9C76AD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486-317B-4D5F-8969-2240648C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073-5784-4A01-BFB7-5B87AA8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813-3FB3-4BA9-B705-3F0DA87D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D7F-9386-4911-9D38-4886AC5B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0BC4-0587-40A5-8659-94DCBF1C1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«Роль декоративного искусства в жизни человека и общест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Художественная  аппликация    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РИС3"/>
          <p:cNvPicPr/>
          <p:nvPr/>
        </p:nvPicPr>
        <p:blipFill>
          <a:blip r:embed="rId1"/>
          <a:stretch/>
        </p:blipFill>
        <p:spPr>
          <a:xfrm>
            <a:off x="3995640" y="3213000"/>
            <a:ext cx="4319640" cy="321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Изображение 003"/>
          <p:cNvPicPr/>
          <p:nvPr/>
        </p:nvPicPr>
        <p:blipFill>
          <a:blip r:embed="rId2"/>
          <a:stretch/>
        </p:blipFill>
        <p:spPr>
          <a:xfrm>
            <a:off x="395280" y="2637000"/>
            <a:ext cx="2519280" cy="367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Текстильный коллаж – аппликация, изображение, композиция, которая набирается из текстильного лоскута и наклеивается на основу (картон  или  другую твердую поверх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468360" y="189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2" marL="857160" indent="-17136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Первые упоминания об искусстве соединения различных тканей встречается в исторических описаниях, датированных в 11 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Ткань – материал недолговечный, поэтому время и место возникновения лоскутной техники и аппликации весьма условны. Принято считать, что зародилась эта техника в Англии, а затем постепенно распространилась в других местах. Изделия из лоскута стали появляться на Руси, в Европе, Америке, Австрали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"/>
          <p:cNvPicPr/>
          <p:nvPr/>
        </p:nvPicPr>
        <p:blipFill>
          <a:blip r:embed="rId1"/>
          <a:stretch/>
        </p:blipFill>
        <p:spPr>
          <a:xfrm>
            <a:off x="3564000" y="1484280"/>
            <a:ext cx="526248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Одним из видов детского творчества является рукоделие из лоскутков. Этот вид искусства имеет глубокие народные корни. В русских деревнях исстари использовали разноцветные лоскутки для украшения одежды, одеял, для создания веселых узорчатых ков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4427640" y="1125360"/>
            <a:ext cx="45370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Интересным делом считается составление из цветных лоскутков панно с сюжетным рисунком. Перед реализацией замысла проводится подготовительная работа. На занятиях по изобразительному искусству работа изображается красками, следующий этап предлагается отразить эту же тему, подобрав разноцветные лоскутки по эскизу – рисунк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Изображение"/>
          <p:cNvPicPr/>
          <p:nvPr/>
        </p:nvPicPr>
        <p:blipFill>
          <a:blip r:embed="rId1"/>
          <a:stretch/>
        </p:blipFill>
        <p:spPr>
          <a:xfrm>
            <a:off x="684360" y="3500280"/>
            <a:ext cx="3744720" cy="261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Изображение 001"/>
          <p:cNvPicPr/>
          <p:nvPr/>
        </p:nvPicPr>
        <p:blipFill>
          <a:blip r:embed="rId2"/>
          <a:stretch/>
        </p:blipFill>
        <p:spPr>
          <a:xfrm>
            <a:off x="4643280" y="3500280"/>
            <a:ext cx="3743640" cy="259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ри таком способе выполнения  аппликации есть возможность использовать самые маленькие кусочки ткани так как ткань приклеенная на бумагу, не сыпл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Для этой работы надо подготовить: разноцветные лоскутки: ситцевые, сатиновые, ножницы, бумага для аппликации – выкройки, клей П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Выполняется она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режде всего нужно подготовить лоскутки (подкрахмалить, высушить, проглад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одготовить фон основы (картон, бума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Рисунок перевести на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Детали рисунка перевести на лоску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Вырез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Тонким слоем нанести на фон кисточкой клей и уложить на него вырезанные из лоскутков детали рису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Прогладить сухой тряп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Высушить под пре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РИС2"/>
          <p:cNvPicPr/>
          <p:nvPr/>
        </p:nvPicPr>
        <p:blipFill>
          <a:blip r:embed="rId1"/>
          <a:stretch/>
        </p:blipFill>
        <p:spPr>
          <a:xfrm>
            <a:off x="4716360" y="1341360"/>
            <a:ext cx="4175280" cy="2755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324000" y="981000"/>
            <a:ext cx="46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Из картона заготовить основу, подготовить лоск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 flipV="1" rot="10800000">
            <a:off x="4065120" y="5070240"/>
            <a:ext cx="51879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В соответствии с задуманным эски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разложить заготовленные лоскутки, подготовить фон осн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4716360" y="476280"/>
            <a:ext cx="410364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Изображение 001"/>
          <p:cNvPicPr/>
          <p:nvPr/>
        </p:nvPicPr>
        <p:blipFill>
          <a:blip r:embed="rId2"/>
          <a:stretch/>
        </p:blipFill>
        <p:spPr>
          <a:xfrm>
            <a:off x="324000" y="3573360"/>
            <a:ext cx="4464000" cy="285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-820440" y="1089000"/>
            <a:ext cx="6580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На основу приклеить лоску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детали рисунка перев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вырезать, уло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вырезанные из лоскутков детали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рису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 flipV="1" rot="10800000">
            <a:off x="5076720" y="4640760"/>
            <a:ext cx="3340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Придумать украшение ра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15:17Z</dcterms:created>
  <dc:creator>L5</dc:creator>
  <dc:description/>
  <dc:language>en-US</dc:language>
  <cp:lastModifiedBy>Татьяна Агафонова</cp:lastModifiedBy>
  <dcterms:modified xsi:type="dcterms:W3CDTF">2020-04-06T19:48:59Z</dcterms:modified>
  <cp:revision>22</cp:revision>
  <dc:subject/>
  <dc:title>Слайд 1</dc:title>
</cp:coreProperties>
</file>