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F1B-2C61-4F1C-9C8B-41FFC2E8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F84-6EB6-4535-A82A-FE9A1998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051-FA6E-41E2-94A9-549F7D79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8CC-DD53-4521-84B7-995C427C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39D-6761-4215-83CC-68595C1E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151-6B68-4486-9FD6-427C454A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ECF-BC4B-4588-A9E1-E09A59B5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DE6-DA90-4D5C-8C71-E1339503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BC2-4FF6-4F5A-8D1B-AE6631B9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086-07F2-4B60-BB5F-5016757C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1FC-FFED-4A91-AA04-042246CA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5CE-B220-43FC-93DD-BFB2E306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28EB-7A48-467E-A8DA-77118EB1F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«Роль декоративного искусства в жизни человека и обществ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Художественная  аппликация    5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РИС3"/>
          <p:cNvPicPr/>
          <p:nvPr/>
        </p:nvPicPr>
        <p:blipFill>
          <a:blip r:embed="rId1"/>
          <a:stretch/>
        </p:blipFill>
        <p:spPr>
          <a:xfrm>
            <a:off x="3995640" y="3213000"/>
            <a:ext cx="4319640" cy="321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Изображение 003"/>
          <p:cNvPicPr/>
          <p:nvPr/>
        </p:nvPicPr>
        <p:blipFill>
          <a:blip r:embed="rId2"/>
          <a:stretch/>
        </p:blipFill>
        <p:spPr>
          <a:xfrm>
            <a:off x="395280" y="2637000"/>
            <a:ext cx="2519280" cy="367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Текстильный коллаж – аппликация, изображение, композиция, которая набирается из текстильного лоскута и наклеивается на основу (картон  или  другую твердую поверх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468360" y="189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2" marL="857160" indent="-17136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Первые упоминания об искусстве соединения различных тканей встречается в исторических описаниях, датированных в 11 в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Ткань – материал недолговечный, поэтому время и место возникновения лоскутной техники и аппликации весьма условны. Принято считать, что зародилась эта техника в Англии, а затем постепенно распространилась в других местах. Изделия из лоскута стали появляться на Руси, в Европе, Америке, Австралии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"/>
          <p:cNvPicPr/>
          <p:nvPr/>
        </p:nvPicPr>
        <p:blipFill>
          <a:blip r:embed="rId1"/>
          <a:stretch/>
        </p:blipFill>
        <p:spPr>
          <a:xfrm>
            <a:off x="3564000" y="1484280"/>
            <a:ext cx="5262480" cy="4025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Одним из видов детского творчества является рукоделие из лоскутков. Этот вид искусства имеет глубокие народные корни. В русских деревнях исстари использовали разноцветные лоскутки для украшения одежды, одеял, для создания веселых узорчатых ков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3"/>
          <p:cNvPicPr/>
          <p:nvPr/>
        </p:nvPicPr>
        <p:blipFill>
          <a:blip r:embed="rId1"/>
          <a:stretch/>
        </p:blipFill>
        <p:spPr>
          <a:xfrm>
            <a:off x="4427640" y="1125360"/>
            <a:ext cx="453708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Интересным делом считается составление из цветных лоскутков панно с сюжетным рисунком. Перед реализацией замысла проводится подготовительная работа. На занятиях по изобразительному искусству работа изображается красками, следующий этап предлагается отразить эту же тему, подобрав разноцветные лоскутки по эскизу – рисунк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Изображение"/>
          <p:cNvPicPr/>
          <p:nvPr/>
        </p:nvPicPr>
        <p:blipFill>
          <a:blip r:embed="rId1"/>
          <a:stretch/>
        </p:blipFill>
        <p:spPr>
          <a:xfrm>
            <a:off x="684360" y="3500280"/>
            <a:ext cx="3744720" cy="261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Изображение 001"/>
          <p:cNvPicPr/>
          <p:nvPr/>
        </p:nvPicPr>
        <p:blipFill>
          <a:blip r:embed="rId2"/>
          <a:stretch/>
        </p:blipFill>
        <p:spPr>
          <a:xfrm>
            <a:off x="4643280" y="3500280"/>
            <a:ext cx="3743640" cy="2594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При таком способе выполнения  аппликации есть возможность использовать самые маленькие кусочки ткани так как ткань приклеенная на бумагу, не сыпл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Для этой работы надо подготовить: разноцветные лоскутки: ситцевые, сатиновые, ножницы, бумага для аппликации – выкройки, клей П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Выполняется она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Прежде всего нужно подготовить лоскутки (подкрахмалить, высушить, проглади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Подготовить фон основы (картон, бума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Рисунок перевести на 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Детали рисунка перевести на лоску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Вырез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Тонким слоем нанести на фон кисточкой клей и уложить на него вырезанные из лоскутков детали рису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Прогладить сухой тряпоч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Высушить под прес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РИС2"/>
          <p:cNvPicPr/>
          <p:nvPr/>
        </p:nvPicPr>
        <p:blipFill>
          <a:blip r:embed="rId1"/>
          <a:stretch/>
        </p:blipFill>
        <p:spPr>
          <a:xfrm>
            <a:off x="4716360" y="1341360"/>
            <a:ext cx="4175280" cy="2755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324000" y="981000"/>
            <a:ext cx="46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Из картона заготовить основу, подготовить лоск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 flipV="1" rot="10800000">
            <a:off x="4065120" y="5070240"/>
            <a:ext cx="51879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В соответствии с задуманным эски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разложить заготовленные лоскутки, подготовить фон осн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4716360" y="476280"/>
            <a:ext cx="4103640" cy="271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Изображение 001"/>
          <p:cNvPicPr/>
          <p:nvPr/>
        </p:nvPicPr>
        <p:blipFill>
          <a:blip r:embed="rId2"/>
          <a:stretch/>
        </p:blipFill>
        <p:spPr>
          <a:xfrm>
            <a:off x="324000" y="3573360"/>
            <a:ext cx="4464000" cy="2859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-820440" y="1089000"/>
            <a:ext cx="6580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На основу приклеить лоску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детали рисунка переве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вырезать, у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вырезанные из лоскутков детали</a:t>
            </a: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рису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 flipV="1" rot="10800000">
            <a:off x="5076720" y="4640760"/>
            <a:ext cx="3340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Придумать украшение рам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15:17Z</dcterms:created>
  <dc:creator>L5</dc:creator>
  <dc:description/>
  <dc:language>en-US</dc:language>
  <cp:lastModifiedBy>Татьяна Агафонова</cp:lastModifiedBy>
  <dcterms:modified xsi:type="dcterms:W3CDTF">2020-04-06T19:48:59Z</dcterms:modified>
  <cp:revision>22</cp:revision>
  <dc:subject/>
  <dc:title>Слайд 1</dc:title>
</cp:coreProperties>
</file>