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1ED-AF21-456E-917E-23DE2938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450-C5A0-4141-9FCD-C6397EBE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A80-D931-4C46-9C36-A361838D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120-54C9-4482-BBE7-ADC79FA1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B35E-DF80-47FA-B552-917391EC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13D6-08B3-4E44-8826-DF29B374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FF2D-B178-499B-AB41-8FFFB8C9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282-48CB-4835-A04C-DB46A235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2E51-75F5-4E9D-983C-FC13515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7F7-DFB2-418C-9E4B-7FDCE27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7ACD-3D6D-42DC-86F2-880BCFA0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585-3B84-4D8E-8AC9-72187809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4719-0CBA-49A4-AD88-D724C19A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E428-2A23-4D87-82F8-A32A48C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4931-3590-4D0D-BF87-28D7F53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916A-EC20-4C79-8418-479D01CC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8FE-1BC9-42EC-948C-A32EDC3F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8DB-F901-46E0-8E50-2D58470B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F34-F955-429D-835F-5070D9C5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358-BEE1-4CC6-9900-1D1D461A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0F1-99C7-48E0-9E2C-823175F2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43A-0213-4FA5-AFAA-1565708C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2E9-AAF0-43AF-B987-C8732C4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611-C06B-4695-A2FA-0009E16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7275"/>
            </a:gs>
            <a:gs pos="100000">
              <a:srgbClr val="fae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361-AC29-496F-851F-519DB1913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EE4-0D1C-4551-98AB-7C2E7AAF9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9880" y="3081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52280" y="-181080"/>
            <a:ext cx="8915400" cy="67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молодежной политики 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автоном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вдинский многопрофильный технику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Видеоу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удентов 2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о и организация социального обеспечения», группа 213-ПС/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акова Ольга Александ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ПОУ СО «Ревдинский многопрофильный 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.04.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ЕРОСКЛЕРО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хроническое сердечно-сосудистое заболевание, которое характеризуется уплотнением артериальной стенки за счет разрастания соединительной ткани, сужением просвета сосудов и ухудшением кровоснабжения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Слайд4"/>
          <p:cNvPicPr/>
          <p:nvPr/>
        </p:nvPicPr>
        <p:blipFill>
          <a:blip r:embed="rId1"/>
          <a:srcRect l="11720" t="13853" r="12579" b="27270"/>
          <a:stretch/>
        </p:blipFill>
        <p:spPr>
          <a:xfrm>
            <a:off x="685800" y="2057400"/>
            <a:ext cx="800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еросклер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Слайд5"/>
          <p:cNvPicPr/>
          <p:nvPr/>
        </p:nvPicPr>
        <p:blipFill>
          <a:blip r:embed="rId1"/>
          <a:stretch/>
        </p:blipFill>
        <p:spPr>
          <a:xfrm>
            <a:off x="609480" y="106668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Слайд6"/>
          <p:cNvPicPr/>
          <p:nvPr/>
        </p:nvPicPr>
        <p:blipFill>
          <a:blip r:embed="rId2"/>
          <a:stretch/>
        </p:blipFill>
        <p:spPr>
          <a:xfrm>
            <a:off x="609480" y="3962520"/>
            <a:ext cx="355464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Слайд7"/>
          <p:cNvPicPr/>
          <p:nvPr/>
        </p:nvPicPr>
        <p:blipFill>
          <a:blip r:embed="rId3"/>
          <a:srcRect l="25472" t="5517" r="24024" b="7260"/>
          <a:stretch/>
        </p:blipFill>
        <p:spPr>
          <a:xfrm>
            <a:off x="4648320" y="990720"/>
            <a:ext cx="403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ше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едостаточный доступ крови к органу, который вызван сужением или полным закрытием просвета в арте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шемическая болезнь серд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руппа сердечно-сосудистых заболеваний, в основе которых лежит нарушение кровообращения в артериях, обеспечивающих кровью сердечную мышцу (миокард). Эти артерии называются коронарными, отсюда еще одно название ишемической болезни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нарная болезнь серд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один из частных вариантов атеросклероза, который поражает коронарную артер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Слайд8"/>
          <p:cNvPicPr/>
          <p:nvPr/>
        </p:nvPicPr>
        <p:blipFill>
          <a:blip r:embed="rId1"/>
          <a:srcRect l="2480" t="12735" r="3969" b="5706"/>
          <a:stretch/>
        </p:blipFill>
        <p:spPr>
          <a:xfrm>
            <a:off x="533520" y="762120"/>
            <a:ext cx="82296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рая и хроническая формы ишемической болезни сердц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ая форма ИБС проявляется в таких заболеваниях, как остр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иокарда, внезапная коронарная (или сердечная) смер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ническая форма ИБС про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нокардие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личными видам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тм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дечной недостаточ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формы могут встречаться как по отдельности, так и одн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нокар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одна из стадий развития ИБС. По сути, это периодические сокращения (спазмы) кровеносных сосудов и нарушения кровоснабжения серд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признаком стенокардии являются внезапно возникающие приступообразные боли в груди, которые локализуются обычно за верхней или средней частью грудины или несколько влево от нее и иррадиируют в левую лопатку, плечо, предплечье, реже — в шею, нижнюю челюсть и даже в верхнюю часть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Слайд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Слайд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Слайд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итмия серд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рушение частоты или последовательности сердечных сокращений: учащение (тахикардия) или замедление (брадикардия) ритма, преждевременные сокращения (экстрасистолия), дезорганизация ритмической деятельности (мерцательная аритмия) и т. д. Может быть следствием заболеваний мышцы сердца, неврозов, алкогольной и никотиновой интокс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то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повышенное артериальное давление. Предрасполагают к развитию гипертонии стрессы, курение, адинамия, избыточный вес, нарушение функции эндокринной системы, болезни почек, пожилой возраст, наследственность, избыток соли в пи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тонический кр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незапное повышение артериального давления, сопровождающееся признаками ухудшения мозгового, коронарного или почечного кровообращения. Гипертоническая болезнь может стать причиной инсуль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амостоятельно изучить тему учебного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Законспектировать учебный материал в тетради, о каждом заболев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ветить на вопросы в конце презентаци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ть фото конспекта и ответов на вопросы по электронной поч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ushakova_revda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ульт (апоплексический удар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очень опасное состояние, при котором происходит нарушение мозгового кровообращения из-за кровоизлияния в головной мозг или закупорки тромбом мозгового сосуда. Инсульт приводит к смерти тканей мозга, снабжавшихся кровью через поврежденный кровеносный сосу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дечно-легочная недостаточ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рушение функций кровообращения и дыхания при пороках сердца и др. заболеваниях, сопровождающихся длительным застоем крови в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Слайд16"/>
          <p:cNvPicPr/>
          <p:nvPr/>
        </p:nvPicPr>
        <p:blipFill>
          <a:blip r:embed="rId1"/>
          <a:srcRect l="2394" t="7669" r="8457" b="7391"/>
          <a:stretch/>
        </p:blipFill>
        <p:spPr>
          <a:xfrm>
            <a:off x="0" y="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кусственное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усственное сердце – это механический насос, призванный функционировать вместо больного сердца. Ритм сокращений программируется подобно нормальному сердечному сокращению. Искусственное сердце используется как временное решение проблемы до того момента, пока не найдут совместимого дон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rcRect l="22684" t="18036" r="22658" b="19720"/>
          <a:stretch/>
        </p:blipFill>
        <p:spPr>
          <a:xfrm>
            <a:off x="380880" y="685800"/>
            <a:ext cx="832968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кторы, негативно влияющие на сердечно-сосудист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5516640"/>
        </p:xfrm>
        <a:graphic>
          <a:graphicData uri="http://schemas.openxmlformats.org/drawingml/2006/table">
            <a:tbl>
              <a:tblPr/>
              <a:tblGrid>
                <a:gridCol w="2057400"/>
                <a:gridCol w="2633760"/>
                <a:gridCol w="503280"/>
                <a:gridCol w="3035160"/>
              </a:tblGrid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динами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достаток двигательной активности) ведет к атрофии сердечной мыш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когол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вляет сердечную мышцу, развивается сердечная недоста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ссовые ситуаци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стощают сердечную мышц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к кислород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атмосфере вызывает гипоксию, меняется ритм сердечных сокращ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отин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зывает устойчивый спазм сосудов, инфаркт миокар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Group 115"/>
          <p:cNvGrpSpPr/>
          <p:nvPr/>
        </p:nvGrpSpPr>
        <p:grpSpPr>
          <a:xfrm>
            <a:off x="684360" y="2205000"/>
            <a:ext cx="5182920" cy="3095640"/>
            <a:chOff x="684360" y="2205000"/>
            <a:chExt cx="5182920" cy="3095640"/>
          </a:xfrm>
        </p:grpSpPr>
        <p:sp>
          <p:nvSpPr>
            <p:cNvPr id="89" name="Line 106"/>
            <p:cNvSpPr/>
            <p:nvPr/>
          </p:nvSpPr>
          <p:spPr>
            <a:xfrm flipH="1">
              <a:off x="3571920" y="2205000"/>
              <a:ext cx="22953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07"/>
            <p:cNvSpPr/>
            <p:nvPr/>
          </p:nvSpPr>
          <p:spPr>
            <a:xfrm flipH="1" flipV="1">
              <a:off x="3643200" y="3071520"/>
              <a:ext cx="222408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8"/>
            <p:cNvSpPr/>
            <p:nvPr/>
          </p:nvSpPr>
          <p:spPr>
            <a:xfrm flipH="1" flipV="1">
              <a:off x="3571920" y="3929040"/>
              <a:ext cx="2008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9"/>
            <p:cNvSpPr/>
            <p:nvPr/>
          </p:nvSpPr>
          <p:spPr>
            <a:xfrm flipH="1" flipV="1">
              <a:off x="2357280" y="4000680"/>
              <a:ext cx="486000" cy="9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10"/>
            <p:cNvSpPr/>
            <p:nvPr/>
          </p:nvSpPr>
          <p:spPr>
            <a:xfrm flipV="1">
              <a:off x="684360" y="4000320"/>
              <a:ext cx="458640" cy="10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9" descr="Untitled-1"/>
          <p:cNvPicPr/>
          <p:nvPr/>
        </p:nvPicPr>
        <p:blipFill>
          <a:blip r:embed="rId1"/>
          <a:stretch/>
        </p:blipFill>
        <p:spPr>
          <a:xfrm>
            <a:off x="0" y="1143000"/>
            <a:ext cx="3487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76360" y="1368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ы риска заболеваний крово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052640"/>
          <a:ext cx="8642160" cy="5402160"/>
        </p:xfrm>
        <a:graphic>
          <a:graphicData uri="http://schemas.openxmlformats.org/drawingml/2006/table">
            <a:tbl>
              <a:tblPr/>
              <a:tblGrid>
                <a:gridCol w="1073160"/>
                <a:gridCol w="4713120"/>
                <a:gridCol w="28558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ы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е на органы крово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тин вызывает спазм сосудов, и ткани организма получают мало питательных веществ и кислорода. Сердце работает с большим напряжени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росклероз, ишемическая болезнь сердца, инфаркт миокарда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ение алког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 разрушает клетки сердечной мышцы, они теряют эластичность, сердце работает на пределе возмож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шемическая болезнь серд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иокар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ют частота пульса, артериальное давление, скорость кровотока, повышается температура те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иокарда стенокар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дина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движения оказывается причиной нарушений в деятельности сердца, ухудшает циркуляцию крови и лимфы. Сердце не готово к нагрузк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росклер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кар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__________________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раздел медицины, изучающий строение, функции и заболевания сердца и сосудов, а также разрабатывающий методы их леч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________________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 врач–специалист по сердечно-сосудистым заболева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 ознакомиться со строением кровеносной системы и строением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Строение кровенос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Слайд2"/>
          <p:cNvPicPr/>
          <p:nvPr/>
        </p:nvPicPr>
        <p:blipFill>
          <a:blip r:embed="rId1"/>
          <a:srcRect l="11720" t="3853" r="7024" b="8929"/>
          <a:stretch/>
        </p:blipFill>
        <p:spPr>
          <a:xfrm>
            <a:off x="990720" y="30492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троение серд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Слайд3"/>
          <p:cNvPicPr/>
          <p:nvPr/>
        </p:nvPicPr>
        <p:blipFill>
          <a:blip r:embed="rId1"/>
          <a:srcRect l="12815" t="9701" r="13752" b="14619"/>
          <a:stretch/>
        </p:blipFill>
        <p:spPr>
          <a:xfrm>
            <a:off x="1219320" y="5335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ространенные  заболева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рдечно-сосудист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еросклероз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окард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аркт миокард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тм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то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ечная недостаточ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Сергей Ушаков</cp:lastModifiedBy>
  <dcterms:modified xsi:type="dcterms:W3CDTF">2020-04-06T10:24:4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