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1B9-0018-435A-AEFE-7D7E1921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5AD-EF28-4102-BF20-40E54D6E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5BB-3668-4E64-B590-ABE5F37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9BC-E3EB-4916-BF46-1442C4AB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C24-F4FE-4BD5-8994-D1901CE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336-D418-4FEB-8098-AE0C4D2F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007-CDB9-4018-AA86-9083185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845-49E8-4980-AC5C-7D9C8A6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A97-6D0D-4FB1-B141-F06113DB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FF9-941E-449A-B522-CE2F3F5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498-4D76-49F9-9D79-C073053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337-5EF0-44DB-833B-5D6DAD3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D88-A98B-4A46-8FC4-FE80ADF5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26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572000" y="-2286000"/>
            <a:ext cx="1828800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0T18:25:32Z</dcterms:created>
  <dc:creator>Позитроника</dc:creator>
  <dc:description/>
  <dc:language>en-US</dc:language>
  <cp:lastModifiedBy>Позитроника</cp:lastModifiedBy>
  <dcterms:modified xsi:type="dcterms:W3CDTF">2019-04-10T18:31:11Z</dcterms:modified>
  <cp:revision>2</cp:revision>
  <dc:subject/>
  <dc:title>Слайд 1</dc:title>
</cp:coreProperties>
</file>