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407-E2F0-473A-AC48-2997A055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18A-B452-4E6E-BEDF-1B92862C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EAB-7875-4CD8-B8D2-CC57D72D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7DB-A137-4A6C-A83D-D41050A9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82F-1958-44F8-AA7E-AD6B4CB6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254-4894-44C6-ACD6-6FAD3CFF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BA4-C330-47CE-AC99-E1A8DD96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9E9-FC5D-4D00-A48A-6A5F736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685-26C0-4D30-8D37-4245665E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400-2C39-4513-965B-30AC95D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A2D-4400-4E41-BAB8-87CC73E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FDE-C866-4B6B-ACC4-A9371F8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22C1-8167-4E7A-897E-3B73C79DC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Monotype Corsiva"/>
              </a:rPr>
              <a:t>КОСМО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0" y="765000"/>
            <a:ext cx="3924360" cy="609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wallpaper-plus.ru/Space/96.jpg"/>
          <p:cNvPicPr/>
          <p:nvPr/>
        </p:nvPicPr>
        <p:blipFill>
          <a:blip r:embed="rId2"/>
          <a:stretch/>
        </p:blipFill>
        <p:spPr>
          <a:xfrm>
            <a:off x="3924360" y="765000"/>
            <a:ext cx="521964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692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7" descr="http://ped-kopilka.ru/images/4%28386%29.jpg"/>
          <p:cNvPicPr/>
          <p:nvPr/>
        </p:nvPicPr>
        <p:blipFill>
          <a:blip r:embed="rId1"/>
          <a:stretch/>
        </p:blipFill>
        <p:spPr>
          <a:xfrm>
            <a:off x="179280" y="917640"/>
            <a:ext cx="8820360" cy="59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смосе он увидел много разных планет, они крутились вокруг одной самой яркой планеты, которую называют Солн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5" descr="http://ped-kopilka.ru/images/5%28384%29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еще космонавты увидели там звезды. Они так далеко находятся от нашей земли, что кажутся нам лишь маленькими точ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http://ped-kopilka.ru/images/6-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http://ped-kopilka.ru/images/7%28343%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Алла</cp:lastModifiedBy>
  <dcterms:modified xsi:type="dcterms:W3CDTF">2020-04-06T10:34:18Z</dcterms:modified>
  <cp:revision>20</cp:revision>
  <dc:subject/>
  <dc:title>Слайд 1</dc:title>
</cp:coreProperties>
</file>