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580-B413-4D25-8372-F47B4D64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33E-5FFE-4F3E-A5C3-76313CB7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7EF-0789-4569-844E-10B4F116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5A3-4A4B-4AA4-9583-E957AB87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BB6-4104-44CF-90DD-22C5D38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795-39CA-45C0-8A84-219E76A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5EF-2510-43B8-A50C-6667340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94C-B19D-44E3-9596-F01AA420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FBC-FA93-484A-9723-1C4968D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B09-A35C-43A8-8084-DF13C7C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559-266C-4CBB-BF3D-B685418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4A3-E77A-4AC0-A6EC-BD3B826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A44-0F8D-44EE-B4B5-6CF24C09C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brovkov_d@mail.ru</cp:lastModifiedBy>
  <dcterms:modified xsi:type="dcterms:W3CDTF">2015-06-20T12:35:11Z</dcterms:modified>
  <cp:revision>17</cp:revision>
  <dc:subject/>
  <dc:title>Слайд 1</dc:title>
</cp:coreProperties>
</file>