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A18-5392-47EE-BA91-01B61776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EC4-FC50-4797-B947-277C4B32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DC2-1CA2-4A53-B726-2994923A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15C-7EC4-4D53-ADD5-B1AB3E73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2E24-A4A3-4952-966D-DDCAE1C4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6130-7341-4C35-B080-B3D3A517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B694-89E3-4858-9CFB-BC3033C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E566-28F4-41D6-9492-F8E3928A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62E8-ECF7-4ED4-9BD3-EB6D96AC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366C-F6EC-41F6-9320-1D37F3E2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8B26-5143-4F47-A772-AAC4ED6A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5F7-3CF0-4363-9F18-2D202EDC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87AE-7CEE-4893-8950-7C8E8761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47A-37DA-41C6-A4EA-B9EE61DD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E2C3-866A-4E5A-B970-76D94DC7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9596-9E1B-4B9D-B11D-E00CC138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94C1-8381-4443-9865-A794FD58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B1CE-7332-453F-B413-9D9748B1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073A-D6BD-4510-91CC-3CC6FCA3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8FC1-7960-40EE-A8B5-82C19DCC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178F-42E1-4B86-9BCF-4ED79C55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6561-5E08-48EA-B62E-97A206F6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986-0A6A-41FE-AE00-03291AC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D2E5-5A9C-4B7C-92CF-995B740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48F6-70DF-4C64-AE76-6BEF96D9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34C4-FAE3-409D-AE27-A87A8D3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A84D-0A15-4513-AF97-E355C01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928E-0771-417D-AC1C-189386B2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1558-D1C9-4772-BE2C-0D34D223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58AF-D816-468C-A68F-938D0662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842F-94DD-4DEE-A36D-36045FD2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5EBE-A344-4C69-ACBB-4DB2B7A4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58054-AC67-4C14-9719-3A3E7ADF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47B-23C3-4708-AB98-1F35056A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8523-5149-487D-9BB9-DA48728B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B2B5-61A2-4013-81BF-AA055603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D7F3-A70F-4F09-B66E-0F2B8C9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B9DE-B91B-467A-B17B-0FD88A4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1860-0023-410E-A1EF-3E01214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3061-207E-485A-8A96-01F58225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A219-BB51-4C6D-812B-561CDC3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3EE8-1609-48B0-B06D-F24680CD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D731-1B33-4178-8CB5-2620A133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ADA7-66D0-44F4-93D6-A5BA493C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2B5-5ABB-4589-B745-8F6AD96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4DF2-3728-47BB-BDB6-59BBB9DD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E7AD-A2F6-4282-AEA5-AB537F72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CF9C-70A9-4050-942D-03CE1BF1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1DDF5-440B-410D-A5DE-0A38B2B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43E24-6DCE-4A7F-BCD1-80009AE0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34DF-EB08-4A25-B5CF-42BD78F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F511-0BDF-46F7-985B-C01EA0F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5956-E710-4F87-A3EE-F8AB52A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486B-2F36-496E-AAC3-5372C157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1D110-02D6-418D-A9D4-A45FBE2A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8E0-06E1-48C2-B8C0-2951FC8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18178-A405-4513-8E6B-ABAE432F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2D04C-C614-42FC-BD38-35BA9369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56EE8-DD8A-48E4-AF20-A3830E9C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CFB7-E40D-4EBE-B019-409E31D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29D7-4441-4544-9526-B8F2ADC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1492F-DD36-463F-ABDE-8D00D905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2559B-7DC6-48FE-9550-B5D4A067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D20E-ED1A-490A-8007-FBBB7A30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DBA7-298E-45E7-82D0-FF4E754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29922-EEF7-4C8B-8721-9FDFFF3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1A4-CEB9-401B-9E11-28ADB5DA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3F5F9-5DE8-4E42-8179-94B53DB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372C-C945-495D-A1E2-8649242A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DE142-407E-4BEC-97E6-2D935966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B20-9290-4ABE-A7E9-4D83102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ACB-AF8C-42CF-A273-677C457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BC71-1E41-4DEE-89FD-91AE2E891A2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AA3F-319C-41BC-83FF-9140152EF76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3815-C835-4D90-88B7-9BAC0BA489A9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1FF7-4147-4AAD-BAAB-730E519B29B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93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20E-BDC5-46B8-94E4-EB2A83DC5AE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240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482C-37AF-40AA-AAB6-919785B1994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jaz-muson.r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5&amp;text=&#1080;&#1079;&#1086;&#1073;&#1088;&#1072;&#1078;&#1077;&#1085;&#1080;&#1077;%20&#1089;&#1087;&#1080;&#1088;&#1080;&#1095;&#1091;&#1101;&#1083;&#1089;&amp;spsite=enigma-world.ucoz.ru&amp;img_url=enigma-world.ucoz.ru%2F_ph%2F9%2F2%2F140212620.jpg&amp;rpt=s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2&amp;text=&#1080;&#1079;&#1086;&#1073;&#1088;&#1072;&#1078;&#1077;&#1085;&#1080;&#1077;%20&#1073;&#1083;&#1102;&#1079;&#1072;&amp;spsite=009-1497345&amp;img_url=forum.kinomania.ru%2Fpicture.php%3Fs%3D7f8e1618ac9976f1b2a70097b13f8368%26albumid%3D81%26pictureid%3D4955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7&amp;text=&#1080;&#1079;&#1086;&#1073;&#1088;&#1072;&#1078;&#1077;&#1085;&#1080;&#1077;%20&#1088;&#1077;&#1075;&#1090;&#1072;&#1081;&#1084;&#1072;&amp;spsite=015-440725&amp;img_url=www.ozon.ru%2Fmultimedia%2Fvideo_dvd_covers%2F1000607157.jpg&amp;rpt=simag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yandex.ru/yandsearch?p=1&amp;text=&#1092;&#1086;&#1090;&#1086;%20&#1089;&#1072;&#1082;&#1089;&#1086;&#1092;&#1086;&#1085;&#1072;&amp;img_url=thesound.ru%2Fwp-content%2Fuploads%2F2008%2F11%2Fsax.jpg&amp;rpt=simage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search?p=0&amp;text=&#1092;&#1086;&#1090;&#1086;%20&#1090;&#1088;&#1086;&#1084;&#1073;&#1086;&#1085;&#1072;&amp;spsite=fake-026-391723.ru&amp;img_url=upload.wikimedia.org%2Fwikipedia%2Fcommons%2Fthumb%2Fa%2Fa3%2FTrombone_CG_Bach42AG.jpg%2F800px-Trombone_CG_Bach42AG.jpg&amp;rpt=simage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foto.mail.ru/mail/motek_2000/129/559.htm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yandex.ru/search?p=11&amp;ed=1&amp;text=&#1092;&#1086;&#1090;&#1086;%20&#1084;&#1091;&#1079;&#1099;&#1082;&#1072;&#1083;&#1100;&#1085;&#1099;&#1093;%20&#1090;&#1072;&#1088;&#1077;&#1083;&#1086;&#1082;&amp;spsite=fake-007-639617.ru&amp;img_url=www.hro.org%2Ffiles%2Fimages%2Ftarelki-mednye.jpg&amp;rpt=simage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1125360"/>
            <a:ext cx="6554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«ОСТРЫЙ РИТМ- ДЖАЗА ЗВУКИ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360" y="533196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4f8fd"/>
                </a:solidFill>
                <a:latin typeface="Century Gothic"/>
              </a:rPr>
              <a:t>Выполнила: учитель музыки М</a:t>
            </a:r>
            <a:r>
              <a:rPr b="0" lang="en-US" sz="2000" spc="-1" strike="noStrike">
                <a:solidFill>
                  <a:srgbClr val="e4f8fd"/>
                </a:solidFill>
                <a:latin typeface="Century Gothic"/>
              </a:rPr>
              <a:t>А</a:t>
            </a:r>
            <a:r>
              <a:rPr b="0" lang="ru-RU" sz="2000" spc="-1" strike="noStrike">
                <a:solidFill>
                  <a:srgbClr val="e4f8fd"/>
                </a:solidFill>
                <a:latin typeface="Century Gothic"/>
              </a:rPr>
              <a:t>ОУ СОШ № </a:t>
            </a:r>
            <a:r>
              <a:rPr b="0" lang="en-US" sz="2000" spc="-1" strike="noStrike">
                <a:solidFill>
                  <a:srgbClr val="e4f8fd"/>
                </a:solidFill>
                <a:latin typeface="Century Gothic"/>
              </a:rPr>
              <a:t>77</a:t>
            </a:r>
            <a:r>
              <a:rPr b="0" lang="ru-RU" sz="2000" spc="-1" strike="noStrike">
                <a:solidFill>
                  <a:srgbClr val="e4f8f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4f8fd"/>
                </a:solidFill>
                <a:latin typeface="Century Gothic"/>
              </a:rPr>
              <a:t>Г</a:t>
            </a:r>
            <a:r>
              <a:rPr b="0" lang="en-US" sz="2000" spc="-1" strike="noStrike">
                <a:solidFill>
                  <a:srgbClr val="e4f8fd"/>
                </a:solidFill>
                <a:latin typeface="Century Gothic"/>
              </a:rPr>
              <a:t>аспарян</a:t>
            </a:r>
            <a:r>
              <a:rPr b="0" lang="ru-RU" sz="2000" spc="-1" strike="noStrike">
                <a:solidFill>
                  <a:srgbClr val="e4f8f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e4f8fd"/>
                </a:solidFill>
                <a:latin typeface="Century Gothic"/>
              </a:rPr>
              <a:t>А</a:t>
            </a:r>
            <a:r>
              <a:rPr b="0" lang="ru-RU" sz="2000" spc="-1" strike="noStrike">
                <a:solidFill>
                  <a:srgbClr val="e4f8fd"/>
                </a:solidFill>
                <a:latin typeface="Century Gothic"/>
              </a:rPr>
              <a:t>.</a:t>
            </a:r>
            <a:r>
              <a:rPr b="0" lang="en-US" sz="2000" spc="-1" strike="noStrike">
                <a:solidFill>
                  <a:srgbClr val="e4f8fd"/>
                </a:solidFill>
                <a:latin typeface="Century Gothic"/>
              </a:rPr>
              <a:t>В</a:t>
            </a:r>
            <a:r>
              <a:rPr b="0" lang="ru-RU" sz="2000" spc="-1" strike="noStrike">
                <a:solidFill>
                  <a:srgbClr val="e4f8f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6084720" y="5013360"/>
            <a:ext cx="4562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entury Gothic"/>
              </a:rPr>
              <a:t>ДЮК ЭЛЛИНГТОН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8" descr="джазовый композитор пианист Дюк Эллингтон фотографии jazz composer pianist Duke Ellington photos"/>
          <p:cNvPicPr/>
          <p:nvPr/>
        </p:nvPicPr>
        <p:blipFill>
          <a:blip r:embed="rId1"/>
          <a:stretch/>
        </p:blipFill>
        <p:spPr>
          <a:xfrm>
            <a:off x="2890800" y="1297080"/>
            <a:ext cx="1838520" cy="223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000099"/>
                </a:solidFill>
                <a:latin typeface="Century Gothic"/>
              </a:rPr>
              <a:t>ЭЛЛА ФИТЦДЖЕРАЛЬД</a:t>
            </a: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5" descr="ellafoto"/>
          <p:cNvPicPr/>
          <p:nvPr/>
        </p:nvPicPr>
        <p:blipFill>
          <a:blip r:embed="rId1"/>
          <a:stretch/>
        </p:blipFill>
        <p:spPr>
          <a:xfrm>
            <a:off x="2859120" y="798480"/>
            <a:ext cx="1905120" cy="323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6"/>
          <p:cNvSpPr/>
          <p:nvPr/>
        </p:nvSpPr>
        <p:spPr>
          <a:xfrm>
            <a:off x="1403280" y="765000"/>
            <a:ext cx="532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5724360" y="1125360"/>
            <a:ext cx="316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484360" y="260280"/>
            <a:ext cx="46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Джон Гиллесп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10" descr="birks_2_s"/>
          <p:cNvPicPr/>
          <p:nvPr/>
        </p:nvPicPr>
        <p:blipFill>
          <a:blip r:embed="rId1"/>
          <a:stretch/>
        </p:blipFill>
        <p:spPr>
          <a:xfrm>
            <a:off x="2411280" y="2060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8" descr="фото"/>
          <p:cNvPicPr/>
          <p:nvPr/>
        </p:nvPicPr>
        <p:blipFill>
          <a:blip r:embed="rId1"/>
          <a:stretch/>
        </p:blipFill>
        <p:spPr>
          <a:xfrm>
            <a:off x="395280" y="765000"/>
            <a:ext cx="3282840" cy="532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Лариса Долина Звезды.ру www.zvezdi.ru"/>
          <p:cNvPicPr/>
          <p:nvPr/>
        </p:nvPicPr>
        <p:blipFill>
          <a:blip r:embed="rId2"/>
          <a:stretch/>
        </p:blipFill>
        <p:spPr>
          <a:xfrm>
            <a:off x="4067280" y="692280"/>
            <a:ext cx="4643280" cy="2576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Ирина Отиева"/>
          <p:cNvPicPr/>
          <p:nvPr/>
        </p:nvPicPr>
        <p:blipFill>
          <a:blip r:embed="rId3"/>
          <a:stretch/>
        </p:blipFill>
        <p:spPr>
          <a:xfrm>
            <a:off x="4211640" y="3852720"/>
            <a:ext cx="4546440" cy="30052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1"/>
          <p:cNvSpPr/>
          <p:nvPr/>
        </p:nvSpPr>
        <p:spPr>
          <a:xfrm>
            <a:off x="468360" y="-7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дор Шаляп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5579640" y="81720"/>
            <a:ext cx="30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риса До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5364000" y="321228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рина Оти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7"/>
          <p:cNvSpPr/>
          <p:nvPr/>
        </p:nvSpPr>
        <p:spPr>
          <a:xfrm>
            <a:off x="2268360" y="333360"/>
            <a:ext cx="44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Джордж Гершв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12" descr="Джордж Гершвин (Gershwin)"/>
          <p:cNvPicPr/>
          <p:nvPr/>
        </p:nvPicPr>
        <p:blipFill>
          <a:blip r:embed="rId1"/>
          <a:stretch/>
        </p:blipFill>
        <p:spPr>
          <a:xfrm>
            <a:off x="3548160" y="2077920"/>
            <a:ext cx="525240" cy="67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7"/>
          <p:cNvSpPr/>
          <p:nvPr/>
        </p:nvSpPr>
        <p:spPr>
          <a:xfrm>
            <a:off x="2195640" y="404640"/>
            <a:ext cx="396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п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«Порги и Бесс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9" descr="Обложка диска &quot;Порги и Бесс&quot;, фото с сайта www.gershwinfan.com"/>
          <p:cNvPicPr/>
          <p:nvPr/>
        </p:nvPicPr>
        <p:blipFill>
          <a:blip r:embed="rId1"/>
          <a:srcRect l="0" t="0" r="0" b="15051"/>
          <a:stretch/>
        </p:blipFill>
        <p:spPr>
          <a:xfrm>
            <a:off x="1619280" y="1844640"/>
            <a:ext cx="5977080" cy="482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155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155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115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33160" y="533520"/>
            <a:ext cx="394956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entury Gothic"/>
              </a:rPr>
              <a:t>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Century Gothic"/>
              </a:rPr>
              <a:t>БЕСС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Century Gothic"/>
              </a:rPr>
              <a:t>ПОРГИ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343" name="Picture 7" descr="_newstape_472"/>
          <p:cNvPicPr/>
          <p:nvPr/>
        </p:nvPicPr>
        <p:blipFill>
          <a:blip r:embed="rId1"/>
          <a:stretch/>
        </p:blipFill>
        <p:spPr>
          <a:xfrm>
            <a:off x="324000" y="1268280"/>
            <a:ext cx="2995560" cy="4281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_newstape_473"/>
          <p:cNvPicPr/>
          <p:nvPr/>
        </p:nvPicPr>
        <p:blipFill>
          <a:blip r:embed="rId2"/>
          <a:stretch/>
        </p:blipFill>
        <p:spPr>
          <a:xfrm>
            <a:off x="5651640" y="2205000"/>
            <a:ext cx="3100320" cy="44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«МИСТЕР ЖУК»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Был когда-то я знаком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С рыжим Мистером Жуком.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ознакомились мы так: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Мистер Жук, большой чудак,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рямо, честно и открыто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ечером упал в корыто.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Мистер Жук - большой чудак.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2 КУПЛЕТ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Я спрoсил его: "Куда вы, 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от так милые забавы, 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ы, наверное, хотите 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ароходом стать в корыте?" 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Жук сказал, идя ко дну, 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"Отвяжитесь, я тону!" 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"Отвяжитесь, я тону!"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3 КУПЛЕТ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Тут при помощи сука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Мне пришлось достать Жука.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ыполз он, ворча сердито: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"Кто просил Вас лезть в корыто?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лыл я курсом вест-вест-норд,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Обожаю водный спорт,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Обожаю водный спорт!</a:t>
            </a:r>
            <a:br>
              <a:rPr sz="2000"/>
            </a:b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Саксофон..."/>
          <p:cNvPicPr/>
          <p:nvPr/>
        </p:nvPicPr>
        <p:blipFill>
          <a:blip r:embed="rId1"/>
          <a:stretch/>
        </p:blipFill>
        <p:spPr>
          <a:xfrm>
            <a:off x="108000" y="189000"/>
            <a:ext cx="4960800" cy="37670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"/>
          <p:cNvSpPr/>
          <p:nvPr/>
        </p:nvSpPr>
        <p:spPr>
          <a:xfrm>
            <a:off x="5364000" y="189000"/>
            <a:ext cx="37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жаз – это направление в музыке, которое возникло в начале XX века. В нем тесно переплетаются африканские ритмы, обрядовые песнопения, рабочие и светские песни, американская музыка прошлых столетий. Другими словами, это полуимпровизационный жанр, появившийся в результате смешивания западноевропейской и западноафриканской муз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4 КУПЛЕТ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Я сказал бы Вам спасибо,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Но, простите, слишком горд.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С детских пор, признаюсь Вам,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сё привык я делать сам.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Ползать сам и сам кусаться,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Сам тонуть и сам спасаться,</a:t>
            </a:r>
            <a:br>
              <a:rPr sz="2000"/>
            </a:b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сё привык я делать сам!"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8040" y="5794200"/>
            <a:ext cx="654984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99"/>
                </a:solidFill>
                <a:latin typeface="Century Gothic"/>
              </a:rPr>
              <a:t>«ОСТРЫЙ РИТМ-</a:t>
            </a:r>
            <a:br>
              <a:rPr sz="2900"/>
            </a:br>
            <a:r>
              <a:rPr b="1" lang="ru-RU" sz="2900" spc="-1" strike="noStrike">
                <a:solidFill>
                  <a:srgbClr val="000099"/>
                </a:solidFill>
                <a:latin typeface="Century Gothic"/>
              </a:rPr>
              <a:t> ДЖАЗА ЗВУКИ»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Джаз"/>
          <p:cNvPicPr/>
          <p:nvPr/>
        </p:nvPicPr>
        <p:blipFill>
          <a:blip r:embed="rId1"/>
          <a:stretch/>
        </p:blipFill>
        <p:spPr>
          <a:xfrm>
            <a:off x="395280" y="2587680"/>
            <a:ext cx="3916440" cy="3090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Джаз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989000"/>
            <a:ext cx="2619360" cy="43722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"/>
          <p:cNvSpPr/>
          <p:nvPr/>
        </p:nvSpPr>
        <p:spPr>
          <a:xfrm>
            <a:off x="449280" y="22068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чем особенности джазовой муз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и самая важная особенность – это импровизация. Музыканты должны уметь импровизировать как в оркестре, так и соло. Еще одна не менее значимая черта – полиритмия. Ритмовая свобода, пожалуй, это главнейший признак джазовой музыки. Именно эта свобода вызывает у музыкантов ощущение легкости и непрерывного движения впер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0"/>
          <p:cNvSpPr/>
          <p:nvPr/>
        </p:nvSpPr>
        <p:spPr>
          <a:xfrm>
            <a:off x="3276720" y="476280"/>
            <a:ext cx="511308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иричуэл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сни северо-американских негров религиозного содерж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х пели хором ещё рабы плантаций, подражая духовным гимнам белых переселенц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12" descr="i?id=65405832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2951280" cy="468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340000" y="1773000"/>
            <a:ext cx="68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entury Gothic"/>
              </a:rPr>
              <a:t>БЛЮЗ –</a:t>
            </a:r>
            <a:br>
              <a:rPr sz="4300"/>
            </a:br>
            <a:r>
              <a:rPr b="0" lang="ru-RU" sz="4300" spc="-1" strike="noStrike">
                <a:solidFill>
                  <a:srgbClr val="ffffff"/>
                </a:solidFill>
                <a:latin typeface="Century Gothic"/>
              </a:rPr>
              <a:t> НАРОДНАЯ ПЕСНЯ АМЕРИКАНСКИХ НЕГРОВ С ГРУСТНЫМ, ПЕЧАЛЬНЫМ ОТТЕНКОМ.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0" name="Picture 14" descr="i?id=9752601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398680" cy="5042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8"/>
          <p:cNvSpPr/>
          <p:nvPr/>
        </p:nvSpPr>
        <p:spPr>
          <a:xfrm>
            <a:off x="3132000" y="260280"/>
            <a:ext cx="568800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гтайм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нцевальная музыка особого ритмического склад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воначально создавалась как фортепианное произвед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0" descr="i?id=6007776&amp;tov=5">
            <a:hlinkClick r:id="rId1"/>
          </p:cNvPr>
          <p:cNvPicPr/>
          <p:nvPr/>
        </p:nvPicPr>
        <p:blipFill>
          <a:blip r:embed="rId2"/>
          <a:srcRect l="0" t="9841" r="0" b="0"/>
          <a:stretch/>
        </p:blipFill>
        <p:spPr>
          <a:xfrm>
            <a:off x="324000" y="333360"/>
            <a:ext cx="2904840" cy="53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1" descr="кларнет"/>
          <p:cNvPicPr/>
          <p:nvPr/>
        </p:nvPicPr>
        <p:blipFill>
          <a:blip r:embed="rId1"/>
          <a:stretch/>
        </p:blipFill>
        <p:spPr>
          <a:xfrm>
            <a:off x="2340000" y="1125360"/>
            <a:ext cx="1801800" cy="5400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i?id=26043027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125360"/>
            <a:ext cx="1749240" cy="5329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8" descr="i?id=27646238-01&amp;n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125360"/>
            <a:ext cx="1952640" cy="532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тромбон"/>
          <p:cNvPicPr/>
          <p:nvPr/>
        </p:nvPicPr>
        <p:blipFill>
          <a:blip r:embed="rId6"/>
          <a:stretch/>
        </p:blipFill>
        <p:spPr>
          <a:xfrm>
            <a:off x="6948360" y="1197000"/>
            <a:ext cx="1987560" cy="5256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4"/>
          <p:cNvSpPr/>
          <p:nvPr/>
        </p:nvSpPr>
        <p:spPr>
          <a:xfrm>
            <a:off x="0" y="33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аксофо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2414160" y="33264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клар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7308720" y="33264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ру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4862520" y="33264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ромб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9" descr="U1-PE"/>
          <p:cNvPicPr/>
          <p:nvPr/>
        </p:nvPicPr>
        <p:blipFill>
          <a:blip r:embed="rId1"/>
          <a:stretch/>
        </p:blipFill>
        <p:spPr>
          <a:xfrm>
            <a:off x="468360" y="620640"/>
            <a:ext cx="2797200" cy="2797200"/>
          </a:xfrm>
          <a:prstGeom prst="rect">
            <a:avLst/>
          </a:prstGeom>
          <a:ln w="0">
            <a:noFill/>
          </a:ln>
        </p:spPr>
      </p:pic>
      <p:pic>
        <p:nvPicPr>
          <p:cNvPr id="312" name="bordForPrintState_5" descr="Молдова. Бараба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620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i?id=110712291-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005360"/>
            <a:ext cx="3024360" cy="2547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i?id=11275133-00"/>
          <p:cNvPicPr/>
          <p:nvPr/>
        </p:nvPicPr>
        <p:blipFill>
          <a:blip r:embed="rId6"/>
          <a:stretch/>
        </p:blipFill>
        <p:spPr>
          <a:xfrm>
            <a:off x="6004080" y="4533840"/>
            <a:ext cx="1326960" cy="996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3"/>
          <p:cNvSpPr/>
          <p:nvPr/>
        </p:nvSpPr>
        <p:spPr>
          <a:xfrm>
            <a:off x="686880" y="-72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фортепиан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1045800" y="3499560"/>
            <a:ext cx="16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арелк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6087240" y="34282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тар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5652360" y="1152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араб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14 ХОР МАЛЬЧИКОВ-ЗАЙЧИКОВ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entury Gothic"/>
              </a:rPr>
              <a:t>ЛУИ АРМСТРОНГ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11" descr="01"/>
          <p:cNvPicPr/>
          <p:nvPr/>
        </p:nvPicPr>
        <p:blipFill>
          <a:blip r:embed="rId2"/>
          <a:stretch/>
        </p:blipFill>
        <p:spPr>
          <a:xfrm>
            <a:off x="324000" y="1341360"/>
            <a:ext cx="4876560" cy="3764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05"/>
          <p:cNvPicPr/>
          <p:nvPr/>
        </p:nvPicPr>
        <p:blipFill>
          <a:blip r:embed="rId3"/>
          <a:stretch/>
        </p:blipFill>
        <p:spPr>
          <a:xfrm>
            <a:off x="5867280" y="2781360"/>
            <a:ext cx="2997360" cy="357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25:39Z</dcterms:created>
  <dc:creator>Zver</dc:creator>
  <dc:description/>
  <dc:language>en-US</dc:language>
  <cp:lastModifiedBy>Ani Gasparyan</cp:lastModifiedBy>
  <dcterms:modified xsi:type="dcterms:W3CDTF">2020-04-06T17:27:51Z</dcterms:modified>
  <cp:revision>34</cp:revision>
  <dc:subject/>
  <dc:title>Слайд 1</dc:title>
</cp:coreProperties>
</file>