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3441-6C2F-4D10-82C0-08610AA40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755-F697-4BC1-BEEE-B068E91D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787-9979-448E-8905-0E756377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78E-BD55-4023-9672-36DCC017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A0D-7C95-41BA-801B-CF69A393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785-D042-4FDC-A7F5-C74732F0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5BF-88AE-4CC3-B82F-20FC894D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DC1-1C54-4FC7-8B03-042E1BC0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264-D352-4232-9EDB-7DE7F0FA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1AE-1C70-4359-B23D-9670C326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0E5-7C4E-478D-BEE0-6C297101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ACD-D4C1-424B-A1AD-688840D0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0E4-28DF-43CA-96E8-9869847B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ECFA-BF2D-411F-A7C3-6364C4AE8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47628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ДОРОВЬЕСБЕРЕГАЮЩИЕ ТЕХНОЛОГ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КАЗКО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441520"/>
            <a:ext cx="54734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Arial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Arial"/>
              </a:rPr>
              <a:t>воспитатель средней 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Arial"/>
              </a:rPr>
              <a:t>МБДОУ Детский сад № 185 городского округа г.Уфа 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Arial"/>
              </a:rPr>
              <a:t>Хафизова Регина Фанав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33360"/>
            <a:ext cx="71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БОРУДОВАНИЕ ДЛЯ СКАЗКОТЕРАПИИ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ЕРЧАТОЧНЫЕ КУК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568800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ПАЛЬЧИКОВЫЕ КУ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52560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ЛАСТИКОВЫЕ И ДЕРЕВЯННЫЕ ПЕРСОНАЖИ ЛЮДЕЙ И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961080" cy="311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39513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РАСОЧНЫЕ КАРТИНЫ ПО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ЮЖЕТУ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532320" cy="374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-31381" t="0" r="0" b="0"/>
          <a:stretch/>
        </p:blipFill>
        <p:spPr>
          <a:xfrm>
            <a:off x="3564000" y="1484280"/>
            <a:ext cx="36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Этапы работы со сказ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70028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1. Ритуал «вхождения в сказку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. Чтение сказки.  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3. Обсуждение сказ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4. В конце занятия - риту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выхода из сказ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476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1-ый этап рабо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итуал вхождения в ска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55736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зыкальное сопровождение, которое поможет детям настроиться на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жно использовать музыкальную игрушку, волшебную палочку или волшебный ключ от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гра «Волшебный клубочек», или стих «Сказка в гости к нам пришла, нам встречать её пора!», также новую сказку можно  «случайно найти»  в сказочной шкатулке, под «волшебным ковром» или в гости приходит Иван-Царевич (кукла бибабо) и приносит письмо. Дети заинтригованы и просят: «Почитайте! Почитайт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76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-й этап рабо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чтение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557360"/>
            <a:ext cx="7705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Например, сказка: «Как мышонок стал храбрым». Далее читаем сказку полностью, без обсуждения – это первый вариант рабо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Или 2-ой вариант: в процессе чтения можно останавливаться на наиболее важных фрагментах и задавать вопро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опросы по анализу сказ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очему боялся мышон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омог ли ему справиться со страхом зайч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очему не помо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Как справились со страхом звер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Чему удивился Крыс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44600" y="260280"/>
            <a:ext cx="465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3-ий этап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бсуждение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413000"/>
            <a:ext cx="82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Вместе с детьми обсуждаем - кого называют храбрым, кого трусливым; чем отличались герои друг от друга. Дети демонстрируют, сначала как ведет себя мышонок, как он боится, какое выражение его лица, а затем зайчик. Далее вспоминаем случаи, когда мы боялись и что при этом чувствовали. А когда были храбрыми, смелыми? Сравниваем эти чувства. Далее мы проговариваем, что ощущаем в разных состояниях. Какого цвета может быть страх, злость, трусость? Как они звучат, как пахнут? Одновременно анализируем, что ожидает человека, который не измениться.  А затем дети рассказывают как они в реальной жизни встречаются с чувством страха, тревоги, переживаний, какие поступки помогают справиться и стать храбрее.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404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итуал выхода из сказ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197000"/>
            <a:ext cx="77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1-ый вариант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: Мелодия для выхода из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ариант 2-ой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:  Дети стоят в кругу 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роговаривают: «Мы стоим рука в руке – вместе мы большая лента, можем мы большими быть, можем маленькими стать, но один никто не буд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ариант 3-ий: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Собрались все дети в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Я - твой друг и ты - м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Дружно за руки возьмё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И друг другу улыбнё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ариант 4-ый: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«Мы берем с собой всё самое важное, что было сегодня с нами, всё, чему мы научилис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87280" y="33336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Сказкотерапия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1413000"/>
            <a:ext cx="788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1. Это способ воспитания у ребенка особого отношения к миру, принятого в обществе, способ передачи ребенку необходимых моральных норм и правил, общечеловеческих ценно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2. В процессе слушания, придумывания и обсуждения сказки у ребенка развиваются фантазия, творчество. Он усваивает основные механизмы поиска и принятия ре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3. Работа со сказкой направлена непосредственно на лечение и помощь ребенку. Создаются условия, в которых ребенок, работая со сказкой (читая, придумывая, разыгрывая, продолжая), находит решения своих жизненных проблем. Учится преодолевать трудности, бороться со страх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16360" y="981000"/>
            <a:ext cx="55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Здоровье </a:t>
            </a: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- это состояние полного физического, психиче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и социального благополучия, а не просто отсутствие болезней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физических дефек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(Всемирная организация здравоохран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КАЗКОТЕРАПИЯ</a:t>
            </a:r>
            <a:br>
              <a:rPr sz="3200"/>
            </a:b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- процесс поиска смысла, расшифровки знаний о мире и системе взаимоотношений в нём;</a:t>
            </a:r>
            <a:br>
              <a:rPr sz="2800"/>
            </a:b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- процесс образования связи между сказочными событиями и поведением в реальной жизни;</a:t>
            </a:r>
            <a:br>
              <a:rPr sz="2800"/>
            </a:b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- процесс активизации ресурсов, потенциала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6480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Задачи сказкотерап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79640" y="1268280"/>
            <a:ext cx="6913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наблюдательности и зрительной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слухового и зрительного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аналитических способностей (умения сравнивать, обобщать, находить причинно-следственные связ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фантазии и творческого во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Снятие эмоционального и физического напря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умения быстро переключаться с активной деятельности на пассив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умения взаимодействовать с окружающими, совершенствование коммуникативных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403200"/>
            <a:ext cx="4897440" cy="367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59280" y="3357720"/>
            <a:ext cx="53290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Требования в работе со сказ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85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УМЕСТНОСТЬ– психотерапевтическую сказку уместно использовать лишь тогда, когда произошла подходящая ситуация (конфликт и ссора детей, непослушание, тревожность и др.). В противном случае можно исказить всю иде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ИСКРЕННОСТЬ –  безусловно, от воспитателя требуется открытость и искренность повествов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55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ДОЗИРОВАННОСТЬ–  сказкотерапия побужд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к размышлению.  Это длительный проце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оэтому нельзя «перегружать»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сихотерапевтическими сказками, чтобы он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не утратили к ним чувствитель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61405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http://player.myshared.ru/907614/data/images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0464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акие сказки можно использовать в ДО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81000"/>
            <a:ext cx="835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Развивающие и обучающие сказки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, позволяют накапливать опыт об окружающем мире, правилах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Народные художественные сказки,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способствуют воспитанию нравственных  чувств: взаимопомощи, поддержки, сочувствия, долга, ответствен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Медитативные сказки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, помогают расслабиться,  снять напря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Диагностические сказки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, позволяют определить характер ребенка и его отношение к тому, что его окруж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Психологические сказки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способствуют преодолению страхов, обретению уверенности в себе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4T17:19:33Z</dcterms:created>
  <dc:creator>Регина</dc:creator>
  <dc:description/>
  <dc:language>en-US</dc:language>
  <cp:lastModifiedBy>Регина</cp:lastModifiedBy>
  <dcterms:modified xsi:type="dcterms:W3CDTF">2020-04-06T16:35:17Z</dcterms:modified>
  <cp:revision>15</cp:revision>
  <dc:subject/>
  <dc:title>СКАЗКОТЕРАПИЯ</dc:title>
</cp:coreProperties>
</file>