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ED50-8BB7-4291-A6E6-66E004A9A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2AE-F61E-4FA1-8E13-6E59CEDD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0EC-215C-424F-A97E-97C9A0E2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627-113A-43CF-9DC3-64E3F541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2DD-0B3C-4A5E-9504-B8AB0A8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ABD-CC9C-4CD2-BD07-958A7B5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D51-B474-4751-B7BB-0112317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934-2901-48D1-9D3C-9EFC522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6E2-3811-417F-86E3-6CF6DA27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1CE-2712-40E8-B30B-9D1AA976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D15-C9D5-4BBD-A394-7F2C80F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002-62F8-4462-8083-38208E6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F3D-53FB-489D-AFF2-09DBB6A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98B5-12C3-4491-96BD-6837181A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476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ДОРОВЬЕСБЕРЕГАЮЩИЕ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КАЗК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441520"/>
            <a:ext cx="5473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воспитатель средней 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МБДОУ Детский сад № 185 городского округа г.Уфа 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</a:rPr>
              <a:t>Хафизова Регина Фанав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33360"/>
            <a:ext cx="71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БОРУДОВАНИЕ ДЛЯ СКАЗКОТЕРАПИИ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ЕРЧАТОЧНЫЕ КУК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6880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АЛЬЧИКОВЫЕ КУ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256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ЛАСТИКОВЫЕ И ДЕРЕВЯННЫЕ ПЕРСОНАЖИ ЛЮДЕ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961080" cy="311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9513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РАСОЧНЫЕ КАРТИНЫ ПО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ЮЖЕТУ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532320" cy="374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-31381" t="0" r="0" b="0"/>
          <a:stretch/>
        </p:blipFill>
        <p:spPr>
          <a:xfrm>
            <a:off x="3564000" y="148428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Этапы работы со сказ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700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. Ритуал «вхождения в сказку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Чтение сказки.  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. Обсуждение сказ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4. В конце занятия - риту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выхода из сказ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476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-ый этап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итуал вхождения в ска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557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зыкальное сопровождение, которое поможет детям настроиться на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жно использовать музыкальную игрушку, волшебную палочку или волшебный ключ от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гра «Волшебный клубочек», или стих «Сказка в гости к нам пришла, нам встречать её пора!», также новую сказку можно  «случайно найти»  в сказочной шкатулке, под «волшебным ковром» или в гости приходит Иван-Царевич (кукла бибабо) и приносит письмо. Дети заинтригованы и просят: «Почитайте! Почитай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-й этап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т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557360"/>
            <a:ext cx="770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апример, сказка: «Как мышонок стал храбрым». Далее читаем сказку полностью, без обсуждения – это первый вариант рабо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ли 2-ой вариант: в процессе чтения можно останавливаться на наиболее важных фрагментах и задавать в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опросы по анализу сказ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чему боялся мышо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мог ли ему справиться со страхом зай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очему не пом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ак справились со страхом звер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ему удивился Крыс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44600" y="260280"/>
            <a:ext cx="46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3-ий этап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бсужд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413000"/>
            <a:ext cx="82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Вместе с детьми обсуждаем - кого называют храбрым, кого трусливым; чем отличались герои друг от друга. Дети демонстрируют, сначала как ведет себя мышонок, как он боится, какое выражение его лица, а затем зайчик. Далее вспоминаем случаи, когда мы боялись и что при этом чувствовали. А когда были храбрыми, смелыми? Сравниваем эти чувства. Далее мы проговариваем, что ощущаем в разных состояниях. Какого цвета может быть страх, злость, трусость? Как они звучат, как пахнут? Одновременно анализируем, что ожидает человека, который не измениться.  А затем дети рассказывают как они в реальной жизни встречаются с чувством страха, тревоги, переживаний, какие поступки помогают справиться и стать храбрее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404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итуал выхода из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19700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1-ый вариант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 Мелодия для выхода из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2-ой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  Дети стоят в кругу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роговаривают: «Мы стоим рука в руке – вместе мы большая лента, можем мы большими быть, можем маленькими стать, но один никто не буд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3-ий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обрались все дети 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Я - твой друг и ты - м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Дружно за руки возьмё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 друг другу улыбнё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риант 4-ый: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«Мы берем с собой всё самое важное, что было сегодня с нами, всё, чему мы научили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33336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Сказкотерапия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1413000"/>
            <a:ext cx="788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1. Это способ воспитания у ребенка особого отношения к миру, принятого в обществе, способ передачи ребенку необходимых моральных норм и правил, общечеловеческих цен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2. В процессе слушания, придумывания и обсуждения сказки у ребенка развиваются фантазия, творчество. Он усваивает основные механизмы поиска и принятия ре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3. Работа со сказкой направлена непосредственно на лечение и помощь ребенку. Создаются условия, в которых ребенок, работая со сказкой (читая, придумывая, разыгрывая, продолжая), находит решения своих жизненных проблем. Учится преодолевать трудности, бороться со страх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16360" y="981000"/>
            <a:ext cx="55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доровье </a:t>
            </a: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- это состояние полного физического, псих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и социального благополучия, а не просто отсутствие болезней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физических дефе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Всемирная организация здравоохран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КАЗКОТЕРАПИЯ</a:t>
            </a:r>
            <a:br>
              <a:rPr sz="32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поиска смысла, расшифровки знаний о мире и системе взаимоотношений в нём;</a:t>
            </a:r>
            <a:br>
              <a:rPr sz="28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образования связи между сказочными событиями и поведением в реальной жизни;</a:t>
            </a:r>
            <a:br>
              <a:rPr sz="2800"/>
            </a:b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- процесс активизации ресурсов, потенциал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Задачи сказк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79640" y="1268280"/>
            <a:ext cx="6913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наблюдательности и зритель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слухового и зрительного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аналитических способностей (умения сравнивать, обобщать, находить причинно-следственные свя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фантазии и творческого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Снятие эмоционального и физического напря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умения быстро переключаться с активной деятельности на пассив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80"/>
                </a:solidFill>
                <a:latin typeface="Comic Sans MS"/>
              </a:rPr>
              <a:t>Развитие умения взаимодействовать с окружающими, совершенствование коммуникативны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403200"/>
            <a:ext cx="4897440" cy="367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59280" y="3357720"/>
            <a:ext cx="5329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Требования в работе со сказ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УМЕСТНОСТЬ– психотерапевтическую сказку уместно использовать лишь тогда, когда произошла подходящая ситуация (конфликт и ссора детей, непослушание, тревожность и др.). В противном случае можно исказить всю иде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ИСКРЕННОСТЬ –  безусловно, от воспитателя требуется открытость и искренность повеств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ДОЗИРОВАННОСТЬ–  сказкотерапия побужд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к размышлению.  Это длительный проце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оэтому нельзя «перегружать»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сихотерапевтическими сказками, чтобы о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не утратили к ним чувствитель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61405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0464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ие сказки можно использовать в ДО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Развивающие и обучающи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зволяют накапливать опыт об окружающем мире, правилах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Народные художественные сказки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пособствуют воспитанию нравственных  чувств: взаимопомощи, поддержки, сочувствия, долга, ответствен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едитативны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могают расслабиться,  снять напря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Диагностические сказки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, позволяют определить характер ребенка и его отношение к тому, что его окруж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Психологические сказки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пособствуют преодолению страхов, обретению уверенности в себ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4T17:19:33Z</dcterms:created>
  <dc:creator>Регина</dc:creator>
  <dc:description/>
  <dc:language>en-US</dc:language>
  <cp:lastModifiedBy>Регина</cp:lastModifiedBy>
  <dcterms:modified xsi:type="dcterms:W3CDTF">2020-04-06T16:35:17Z</dcterms:modified>
  <cp:revision>15</cp:revision>
  <dc:subject/>
  <dc:title>СКАЗКОТЕРАПИЯ</dc:title>
</cp:coreProperties>
</file>