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CCF4-8DE9-485C-8AC3-06E3F995BF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D557-B336-4438-BD0E-848B8DF3048C}" type="slidenum">
              <a:rPr b="0" lang="ru-RU" sz="1200" spc="-1" strike="noStrike">
                <a:solidFill>
                  <a:srgbClr val="0070c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CD73-DA0E-4DA6-9387-D2617B98CADF}" type="slidenum">
              <a:rPr b="0" lang="ru-RU" sz="1200" spc="-1" strike="noStrike">
                <a:solidFill>
                  <a:srgbClr val="0070c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22D6-96D3-42F3-87D6-4EF265F65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0CA9-0735-411C-BD29-798EFF4D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457F-2500-4524-A261-F2AAA6863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6F6B-5938-446C-9512-64A850D05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3A78-F1D4-4457-B990-6D35BF94A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155D-18DA-4DEE-98DF-6FC6FAC9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D02C-4D28-4F95-8F9B-AA1FAF0D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9653-88D8-4C56-A35D-E19DCA73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753C-B7D2-44B9-BF07-4B5BAD51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278C-6179-499A-927A-308C092F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617C-BAE6-47F0-B320-21348B61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719F-B01A-49C3-926E-A2BB71C5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AA33-CC11-4120-8FF1-A583CC77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A8CB-C118-4EE8-9F8B-4FE8A9B5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A878-6CF0-4F2F-AB52-C383E364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19B1-A019-4CB4-B182-38A2228D3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217B-A98D-4136-AB8A-153BD5169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80F82-762B-45DD-96FB-238CFD9D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6DA45-4313-48F1-90B6-25D3D640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B8D86-983C-4D7A-B0D1-49FA7B69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4F86A-B07A-46DB-8A66-24E2570F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5A14B-1685-4667-86DC-45DA31F4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4F48-9666-4DEF-B9FF-A12BB766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3D3ED-8FC7-44E7-84BD-BA54863B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5FC88-F6BD-4C97-97E4-59E604D2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4C834-1D2E-4FA4-8392-8A768E64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AF957-6C8C-4DD7-AD7B-7FACA1CE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805AB-0F73-4139-9B2A-FD83A512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AF4F5-1BF5-4FA9-871D-040253DFF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6D020-35E8-471B-8246-27E2A59DD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06796-6C47-4C00-90DE-B3F0E375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0A0B1-87C2-4093-BB27-C763A80F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FCC01-0582-49A1-AFED-F9E0C91D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C2B9-6C00-450E-8759-F19ED1A4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8AAC8-FF67-44A5-9B6D-9DBB36E1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9A4E6-7666-4D0E-8EFB-36655E4D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373D6-BB41-4781-B73B-D5890E9D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B1C50-6620-4221-A6F5-9EBBF4E1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E3039-19BE-496A-9DF1-F792E067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757B3-E518-4778-ABED-3761AC8E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9AEBA-0EBF-4D04-BC2D-0DD82347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D2183-793C-4C75-8569-B24779959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CD612-91B5-42F6-98A3-95E22C806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51327-D557-4B10-9115-DFE1D81A9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A5EC-CFD7-4ACB-B8B0-81045FF4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FFB73-85F0-4454-B55E-A42EB719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4C69E-D930-45C9-A018-6FC4D4FD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0E316-D298-4A25-A882-7827E076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99FDB-3AD8-49B8-A5A4-D289A455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0E28D-EEF1-401B-BAFC-4AAEFAA6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AB6E0-C96E-4866-B179-76C95B34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5699F-4EA9-4DD5-9954-79A7245E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256E0-0178-456D-B50F-82516B3E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44C64-428A-45E6-8A27-701259B2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5516D-5194-4A47-9D3C-6D3E7D9F3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6AFD-3020-4824-9439-626B7D2F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4F6F7-2B2D-4F6E-AB39-CDB2AB81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422DB-3A09-4B9C-BA40-265F65845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03D46-EEF6-4873-876A-7DD215FE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69517-B8B0-4F51-8351-1820A801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B7324-D044-4097-B2DD-686D5DBD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09AFF-1E1C-4041-A0D7-65C6D88B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B7D6D-2200-453D-888E-7523BE70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408CD-6060-470A-A534-49BED0F8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5BEC1-EA74-42A3-B703-32DD575D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E5CFD-0E8F-46B0-AF0E-531B1617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38EA-DB4A-4CD9-BC06-F150782F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B596F-0CA8-4855-9E22-61BF3E23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4B48E-9D4F-44AF-955A-2E8AC94E7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B556E-FBF3-4937-9428-56539C1B7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CBEA2-7A46-4AD1-BB42-6314968E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26D1C-E43C-47B0-986B-ACA6A7C5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30804-0E8D-4DF2-9B70-AEAF0ED0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CEB70-0A93-4D77-9EFF-AE3B8F72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FC8C9-6757-4B63-9663-660E0374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4E13F-DEBC-4B9B-A88A-9ED9F3D1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55AAD-B5BB-4771-8B6C-52CE9661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2830-24C9-4E75-A0CC-C39FDAFB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64BE0-D8C3-44D1-9172-4126C988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D634D-61EB-49C4-ABED-86032EBD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5E431-B7C4-4674-AE5B-929F5ED8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7DEEC-4F68-4486-B8DF-3F9399D7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C7F16-0423-4E12-AC3E-4B26A00C5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1670-8B9A-4B88-9303-DF1531B3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eeffe4">
              <a:alpha val="33000"/>
            </a:srgbClr>
          </a:solidFill>
          <a:ln cap="rnd" w="3240">
            <a:solidFill>
              <a:srgbClr val="7ee9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cfffa3"/>
            </a:solidFill>
            <a:miter/>
          </a:ln>
          <a:effectLst>
            <a:outerShdw dist="12600" dir="5400000" blurRad="0" rotWithShape="0">
              <a:srgbClr val="6bb02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ffff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7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7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bc8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A93A-2764-41C9-87FD-1BA05482114E}" type="slidenum">
              <a:rPr b="0" lang="ru-RU" sz="1200" spc="-1" strike="noStrike">
                <a:solidFill>
                  <a:srgbClr val="6bc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e599"/>
          </a:solidFill>
          <a:ln w="0">
            <a:noFill/>
          </a:ln>
          <a:effectLst>
            <a:outerShdw dist="38160" dir="10800000" blurRad="0" rotWithShape="0">
              <a:srgbClr val="44671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eeffe4">
              <a:alpha val="33000"/>
            </a:srgbClr>
          </a:solidFill>
          <a:ln cap="rnd" w="3240">
            <a:solidFill>
              <a:srgbClr val="7ee9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cfffa3"/>
            </a:solidFill>
            <a:miter/>
          </a:ln>
          <a:effectLst>
            <a:outerShdw dist="12600" dir="5400000" blurRad="0" rotWithShape="0">
              <a:srgbClr val="6bb02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e599"/>
          </a:solidFill>
          <a:ln w="0">
            <a:noFill/>
          </a:ln>
          <a:effectLst>
            <a:outerShdw dist="38160" dir="10800000" blurRad="0" rotWithShape="0">
              <a:srgbClr val="44671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e1e1e1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ffff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7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7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bc8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0B7C-4D39-4FD8-9917-38DCE3D0FD0A}" type="slidenum">
              <a:rPr b="0" lang="ru-RU" sz="1200" spc="-1" strike="noStrike">
                <a:solidFill>
                  <a:srgbClr val="6bc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e599"/>
          </a:solidFill>
          <a:ln w="0">
            <a:noFill/>
          </a:ln>
          <a:effectLst>
            <a:outerShdw dist="38160" dir="10800000" blurRad="0" rotWithShape="0">
              <a:srgbClr val="44671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e1e1e1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ffff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7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7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bc8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5818-DD08-4179-A494-CDB054BD6401}" type="slidenum">
              <a:rPr b="0" lang="ru-RU" sz="1200" spc="-1" strike="noStrike">
                <a:solidFill>
                  <a:srgbClr val="6bc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ffff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7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7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bc8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D9A8-4FBB-4E74-B7AD-690F18F37134}" type="slidenum">
              <a:rPr b="0" lang="ru-RU" sz="1200" spc="-1" strike="noStrike">
                <a:solidFill>
                  <a:srgbClr val="6bc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e599"/>
          </a:solidFill>
          <a:ln w="0">
            <a:noFill/>
          </a:ln>
          <a:effectLst>
            <a:outerShdw dist="38160" dir="10800000" blurRad="0" rotWithShape="0">
              <a:srgbClr val="44671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ffff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7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7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bc8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D3E0-544D-4C56-B99A-F4D14911EDF6}" type="slidenum">
              <a:rPr b="0" lang="ru-RU" sz="1200" spc="-1" strike="noStrike">
                <a:solidFill>
                  <a:srgbClr val="6bc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ffff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7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7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bc8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E1ED-CE07-488D-A06B-9193E3409342}" type="slidenum">
              <a:rPr b="0" lang="ru-RU" sz="1200" spc="-1" strike="noStrike">
                <a:solidFill>
                  <a:srgbClr val="6bc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8dff0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92d05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ffff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7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7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bc8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77C3-4C05-4BA3-BBA1-1941A89264FE}" type="slidenum">
              <a:rPr b="0" lang="ru-RU" sz="1200" spc="-1" strike="noStrike">
                <a:solidFill>
                  <a:srgbClr val="6bc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mailto:79224413894@yandex.ru" TargetMode="External"/><Relationship Id="rId2" Type="http://schemas.openxmlformats.org/officeDocument/2006/relationships/hyperlink" Target="mailto:79224413894@yandex.ru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1214280" y="1785600"/>
            <a:ext cx="7407360" cy="37227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0000"/>
                </a:solidFill>
                <a:latin typeface="Lucida Sans"/>
              </a:rPr>
              <a:t> 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7030a0"/>
                </a:solidFill>
                <a:latin typeface="Arial"/>
              </a:rPr>
              <a:t>Тема урока: «Подготовка к вышивке крестом. Материалы и инструменты»</a:t>
            </a: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загадки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920"/>
            <a:ext cx="749952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9721e"/>
                </a:solidFill>
                <a:latin typeface="Times New Roman"/>
              </a:rPr>
              <a:t>Всех на свете обшивает, что сошьёт не надевает.  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37" name="Прямоугольник 4"/>
          <p:cNvSpPr/>
          <p:nvPr/>
        </p:nvSpPr>
        <p:spPr>
          <a:xfrm>
            <a:off x="4291560" y="289404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Игла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143000" y="713880"/>
            <a:ext cx="749952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9721e"/>
                </a:solidFill>
                <a:latin typeface="Times New Roman"/>
              </a:rPr>
              <a:t>Утка ныряла, ныряла и хвост потеряла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39" name="Прямоугольник 4"/>
          <p:cNvSpPr/>
          <p:nvPr/>
        </p:nvSpPr>
        <p:spPr>
          <a:xfrm>
            <a:off x="3564000" y="27813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9721e"/>
                </a:solidFill>
                <a:latin typeface="Arial"/>
              </a:rPr>
              <a:t>Игла с ниткой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0" name="Прямоугольник 1"/>
          <p:cNvSpPr/>
          <p:nvPr/>
        </p:nvSpPr>
        <p:spPr>
          <a:xfrm>
            <a:off x="1042920" y="400536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Иглу подбирают с большим ушком и тупым концом.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1476360" y="836280"/>
            <a:ext cx="749952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9721e"/>
                </a:solidFill>
                <a:latin typeface="Times New Roman"/>
              </a:rPr>
              <a:t>На пальце одном, ведерко вверх дном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42" name="Прямоугольник 5"/>
          <p:cNvSpPr/>
          <p:nvPr/>
        </p:nvSpPr>
        <p:spPr>
          <a:xfrm>
            <a:off x="3788640" y="3284640"/>
            <a:ext cx="16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9721e"/>
                </a:solidFill>
                <a:latin typeface="Arial"/>
              </a:rPr>
              <a:t>Наперсток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1357200" y="285480"/>
            <a:ext cx="749952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Ткань держать устали пальцы,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Мне пришли на помощь...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44" name="Прямоугольник 5"/>
          <p:cNvSpPr/>
          <p:nvPr/>
        </p:nvSpPr>
        <p:spPr>
          <a:xfrm>
            <a:off x="6659640" y="15573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пяльцы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5" name="Прямоугольник 1"/>
          <p:cNvSpPr/>
          <p:nvPr/>
        </p:nvSpPr>
        <p:spPr>
          <a:xfrm>
            <a:off x="1403280" y="2997360"/>
            <a:ext cx="704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Чтобы выполнить вышивку, не деформируя ткань, следует использовать пяльцы. Пяльцы могут быть круглыми, квадратными, на подставке или без неё, деревянными или пластмассовыми, с винтом или без, различных размеров. Лучше подобрать пяльцы нужного размера с винтом.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25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1428480" y="285480"/>
            <a:ext cx="749916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Чтобы шить иль вышивать,</a:t>
            </a:r>
            <a:endParaRPr b="0" lang="en-US" sz="2800" spc="-1" strike="noStrike">
              <a:solidFill>
                <a:srgbClr val="0070c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Это нужно в руки взять.</a:t>
            </a:r>
            <a:endParaRPr b="0" lang="en-US" sz="2800" spc="-1" strike="noStrike">
              <a:solidFill>
                <a:srgbClr val="0070c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Разноцветные катушки</a:t>
            </a:r>
            <a:endParaRPr b="0" lang="en-US" sz="2800" spc="-1" strike="noStrike">
              <a:solidFill>
                <a:srgbClr val="0070c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У меня есть, у подружки.</a:t>
            </a:r>
            <a:endParaRPr b="0" lang="en-US" sz="2800" spc="-1" strike="noStrike">
              <a:solidFill>
                <a:srgbClr val="0070c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Вышивали мы открытки,</a:t>
            </a:r>
            <a:endParaRPr b="0" lang="en-US" sz="2800" spc="-1" strike="noStrike">
              <a:solidFill>
                <a:srgbClr val="0070c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Нам понадобились... </a:t>
            </a:r>
            <a:endParaRPr b="0" lang="en-US" sz="2800" spc="-1" strike="noStrike">
              <a:solidFill>
                <a:srgbClr val="0070c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47" name="Прямоугольник 3"/>
          <p:cNvSpPr/>
          <p:nvPr/>
        </p:nvSpPr>
        <p:spPr>
          <a:xfrm>
            <a:off x="6012000" y="407664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Нитки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000080" y="428400"/>
            <a:ext cx="7856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Нитки – мулине, шерстяные,(реже) ирис шелковые и синтетические. Нитки должны быть хорошо окрашенными, прочными, должны хорошо пружинить при растягивании. 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Нитки «мулине» продаются в моточках, поэтому после разрезания они часто путаются. Их следует наматывать на шпульки или хранить в специальных органайзерах, откуда их легко извлечь. Раньше нитки заплетали в косы.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marL="324720" indent="-2512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285560" y="285840"/>
            <a:ext cx="749916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Пара острых, тонких ног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Без туфлей и без сапог.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На ногах — по голове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Для чего, скажите мне?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По бумаге ходят ноги,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Режут все, что на дороге. 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50" name="Прямоугольник 3"/>
          <p:cNvSpPr/>
          <p:nvPr/>
        </p:nvSpPr>
        <p:spPr>
          <a:xfrm>
            <a:off x="7093080" y="35733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Ножницы</a:t>
            </a: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2" name="Прямоугольник 1"/>
          <p:cNvSpPr/>
          <p:nvPr/>
        </p:nvSpPr>
        <p:spPr>
          <a:xfrm>
            <a:off x="1332000" y="4167360"/>
            <a:ext cx="7343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Ножницы лучше применять двух видов: маленькие с острыми концами, для подрезания и выдергивания нитей, большие для разрезания ткани и мотков ниток.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86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1500120" y="285480"/>
            <a:ext cx="749952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Гладит все, чего касается,</a:t>
            </a:r>
            <a:br>
              <a:rPr sz="3200"/>
            </a:b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А дотронешься — кусается.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54" name="Прямоугольник 4"/>
          <p:cNvSpPr/>
          <p:nvPr/>
        </p:nvSpPr>
        <p:spPr>
          <a:xfrm>
            <a:off x="7236000" y="148428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Утюг</a:t>
            </a: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5" name="Прямоугольник 1"/>
          <p:cNvSpPr/>
          <p:nvPr/>
        </p:nvSpPr>
        <p:spPr>
          <a:xfrm>
            <a:off x="1547640" y="3105000"/>
            <a:ext cx="611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Утюг необходим для проутюживания ткани до работы, и после вышивания.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300"/>
                            </p:stCondLst>
                            <p:childTnLst>
                              <p:par>
                                <p:cTn id="19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4355640" y="163440"/>
            <a:ext cx="20718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Конва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pic>
        <p:nvPicPr>
          <p:cNvPr id="357" name="Picture 2" descr="https://images.ru.prom.st/698776443_w640_h640_kanva-dlya-vyshivaniya.jpg"/>
          <p:cNvPicPr/>
          <p:nvPr/>
        </p:nvPicPr>
        <p:blipFill>
          <a:blip r:embed="rId1"/>
          <a:stretch/>
        </p:blipFill>
        <p:spPr>
          <a:xfrm>
            <a:off x="1255680" y="298440"/>
            <a:ext cx="2603520" cy="2603520"/>
          </a:xfrm>
          <a:prstGeom prst="rect">
            <a:avLst/>
          </a:prstGeom>
          <a:ln w="0">
            <a:noFill/>
          </a:ln>
        </p:spPr>
      </p:pic>
      <p:sp>
        <p:nvSpPr>
          <p:cNvPr id="35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9" name="Прямоугольник 1"/>
          <p:cNvSpPr/>
          <p:nvPr/>
        </p:nvSpPr>
        <p:spPr>
          <a:xfrm>
            <a:off x="1116000" y="2898720"/>
            <a:ext cx="7559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Виды канвы: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-Пластиковая канва применяется в качестве основы, её не нужно удалять после вышивки.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-Накладная канва намётывается на ткань и выдёргивается после работы.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-Плотная канва («Рогожка») используется для постоянного назначения.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Arial"/>
              </a:rPr>
              <a:t>Рисунки для вышивки.</a:t>
            </a: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714240" y="1447560"/>
            <a:ext cx="8220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Рисунки для счетной вышивки и для свободной отличаются друг от друга. Если размер рисунка не устраивает, то следует уменьшить его или увеличить. В основном счетной вышивкой вышивают по схеме. Схема может быть цветная, а может быть и чёрно-белой с указанием цвета.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5"/>
          <p:cNvSpPr/>
          <p:nvPr/>
        </p:nvSpPr>
        <p:spPr>
          <a:xfrm>
            <a:off x="936720" y="1357200"/>
            <a:ext cx="820728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eaa2e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«Народное искусство – это прошлое, живущее в настоящем, устремленное в будущее своей мечтой о небывалом… Это культурная память народа, неотделимая от самых глубоких устремлений современности».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                                               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М.Некрасова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https://cs3.livemaster.ru/zhurnalfoto/7/b/b/1603301006117bbebcfe26c7e8e4dbfebb50ed32b28f.jpeg"/>
          <p:cNvPicPr/>
          <p:nvPr/>
        </p:nvPicPr>
        <p:blipFill>
          <a:blip r:embed="rId1"/>
          <a:stretch/>
        </p:blipFill>
        <p:spPr>
          <a:xfrm rot="20971200">
            <a:off x="549000" y="503280"/>
            <a:ext cx="3465360" cy="32148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https://avatars.mds.yandex.net/get-pdb/1745470/368d3d77-226d-4e53-a677-889ae5079241/s1200"/>
          <p:cNvPicPr/>
          <p:nvPr/>
        </p:nvPicPr>
        <p:blipFill>
          <a:blip r:embed="rId2"/>
          <a:stretch/>
        </p:blipFill>
        <p:spPr>
          <a:xfrm rot="189000">
            <a:off x="5896080" y="434880"/>
            <a:ext cx="2960640" cy="40546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https://i.pinimg.com/originals/35/5c/8f/355c8fc12177e35f237b10eda1d888c4.jpg"/>
          <p:cNvPicPr/>
          <p:nvPr/>
        </p:nvPicPr>
        <p:blipFill>
          <a:blip r:embed="rId3"/>
          <a:stretch/>
        </p:blipFill>
        <p:spPr>
          <a:xfrm rot="21155400">
            <a:off x="2414520" y="3251160"/>
            <a:ext cx="40737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4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4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4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4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4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4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4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4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4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4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4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4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7030a0"/>
                </a:solidFill>
                <a:latin typeface="Arial"/>
              </a:rPr>
              <a:t>Правила техники безопасности</a:t>
            </a:r>
            <a:endParaRPr b="0" lang="en-US" sz="39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9721e"/>
                </a:solidFill>
                <a:latin typeface="Times New Roman"/>
              </a:rPr>
              <a:t>Иглу хранить в игольнице. При потере обязательно найти её. При поломке вколоть в ткань и отдать учителю. Не размахивайте иглой по сторонам.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9721e"/>
                </a:solidFill>
                <a:latin typeface="Times New Roman"/>
              </a:rPr>
              <a:t>Ножницы передавать кольцами вперёд. Должны лежать с сомкнутыми лезвиями.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Arial"/>
              </a:rPr>
              <a:t>Задание:</a:t>
            </a: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928800" y="1447560"/>
            <a:ext cx="8005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Возьмите листочек в клеточку и попробуйте составить схему вышивки крестиком (цветную или черно-белую с указанием цветов).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Готовую схему отправите мне на проверку.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Электронная почта: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  <a:hlinkClick r:id="rId1"/>
              </a:rPr>
              <a:t>79224413894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ook Antiqua"/>
                <a:hlinkClick r:id="rId2"/>
              </a:rPr>
              <a:t>@yandex.ru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marL="331920" indent="-2570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или по номеру телефона на </a:t>
            </a:r>
            <a:r>
              <a:rPr b="1" lang="en-US" sz="3200" spc="-1" strike="noStrike">
                <a:solidFill>
                  <a:srgbClr val="0070c0"/>
                </a:solidFill>
                <a:latin typeface="Book Antiqua"/>
              </a:rPr>
              <a:t>Viber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 или </a:t>
            </a:r>
            <a:r>
              <a:rPr b="1" lang="en-US" sz="3200" spc="-1" strike="noStrike">
                <a:solidFill>
                  <a:srgbClr val="0070c0"/>
                </a:solidFill>
                <a:latin typeface="Book Antiqua"/>
              </a:rPr>
              <a:t>WhatsApp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89224413894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70c0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На следующем уроке мы будем учится вышивать крестиком. Нам потребуется: канва, игла с большим ушком, мулине необходимых цветов, наперсток, пяльцы, ножницы. 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WordArt 4"/>
          <p:cNvSpPr txBox="1"/>
          <p:nvPr/>
        </p:nvSpPr>
        <p:spPr>
          <a:xfrm rot="265200">
            <a:off x="1326960" y="1628280"/>
            <a:ext cx="7513560" cy="13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91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9721e"/>
                </a:solidFill>
                <a:latin typeface="Arial"/>
              </a:rPr>
              <a:t>Спасибо за внимание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9721e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4"/>
          <p:cNvSpPr/>
          <p:nvPr/>
        </p:nvSpPr>
        <p:spPr>
          <a:xfrm>
            <a:off x="1214280" y="304560"/>
            <a:ext cx="735840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eaa2e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eaa2e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6eaa2e"/>
                </a:solidFill>
                <a:latin typeface="Arial"/>
              </a:rPr>
              <a:t>Красивые картины могут создаваться не только художниками- это под силу каждому, кто приобщился к такому искусству, как вышивка крестом. Во время рукоделия человек вкладывает в каждый стежок частичку собственной души. Вещи, украшенные ручным шитьём, создают в доме</a:t>
            </a:r>
            <a:r>
              <a:rPr b="1" lang="en-US" sz="2400" spc="-1" strike="noStrike">
                <a:solidFill>
                  <a:srgbClr val="6eaa2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eaa2e"/>
                </a:solidFill>
                <a:latin typeface="Arial"/>
              </a:rPr>
              <a:t>уют. 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aa2e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785520" y="1447560"/>
            <a:ext cx="8148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Искусство вышивания - один из древнейших видов рукоделия. Огромное разнообразие работ объясняется множеством рисунков, узоров и швов, их комбинациями, использованием однотонных и цветных тканей.</a:t>
            </a:r>
            <a:endParaRPr b="0" lang="en-US" sz="2800" spc="-1" strike="noStrike">
              <a:solidFill>
                <a:srgbClr val="0070c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Вышивкой можно украсить одежду, сумки, куртки, джинсы и в основном, предметы интерьера.</a:t>
            </a:r>
            <a:endParaRPr b="0" lang="en-US" sz="2800" spc="-1" strike="noStrike">
              <a:solidFill>
                <a:srgbClr val="0070c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857160" y="213840"/>
            <a:ext cx="8072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43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История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marL="313920" indent="-243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Вышивка крестиком является одним из самых древнейших видов рукоделия. Точное время появления вышивки неизвестно. Нет и сведений, когда же вышивка крестиком стала отдельным видом рукоделия. В наше время имеются образцы вышивки даже 10 века. Однако, несомненно, она возникла гораздо раньше. В разных странах преобладал свой определенный цвет, и стили узора отличались между собой. В вышивке отражался национальный колорит и индивидуальное виденье прекрасного у каждого народа.</a:t>
            </a:r>
            <a:endParaRPr b="0" lang="en-US" sz="2000" spc="-1" strike="noStrike">
              <a:solidFill>
                <a:srgbClr val="0070c0"/>
              </a:solidFill>
              <a:latin typeface="Times New Roman"/>
            </a:endParaRPr>
          </a:p>
          <a:p>
            <a:pPr marL="313920" indent="-243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В ХVI веке в Западной Европ счетная вышивка приобрела особую популярность. В то время она включала в себя большую часть библейских текстов и сюжетов. Уже в 18-ом веке в вышивке стал более сильно заметен классический стежок крестом, а тематика стала более разнообразной. В восточных странах вышивкой традиционно украшали предметы домашнего обихода – накидки, ковры, вьючные мешки. Они всегда отличались огромным разнообразие цветов и сложностью орнамента. Со временем вышивка стала неотъемлемой частью костюма и домашней утвари и на Западе.</a:t>
            </a:r>
            <a:endParaRPr b="0" lang="en-US" sz="2000" spc="-1" strike="noStrike">
              <a:solidFill>
                <a:srgbClr val="007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713880" y="-360"/>
            <a:ext cx="8215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2760" indent="-234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Русская вышивка имеет свою многовековую историю. О существовании вышивки в эпоху Древней Руси говорят находки археологов, которые  относятся к IX-XII векам.  Люди издавна передавали красоту природы, свои ощущения условными знаками и узорами: крестами, линиями, ромбами и многими другими способами. Также и наши предки выражали свое восприятие к непонятным явлениям природы,  к окружающему миру   с помощью условных знаков – символов. По народным поверьям, вышивка крестом должна была не только украшать одежду, предметы быта, но и оберегать от любого зла. Особенно ценными в этом плане считались  обыденные полотенца. Над созданием такого полотенца работали одновременно несколько мастериц. Если же они начинали делать работу на рассвете и заканчивали ее до того, как сядет солнце, то изделие считалось способным оберегать от различных болезней, от злых сил или стихийных бедствий.</a:t>
            </a:r>
            <a:endParaRPr b="0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714240" y="142560"/>
            <a:ext cx="8429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Первоначально вышивка на Руси была занятием для избранных, в их число входили монахи и представители знати. Материалом для работы служили дорогие ткани – шелк или бархат, жемчуг, драгоценные камни, серебряные или золотые нити. Подобной вышивкой украшали не только одежду бояр и членов царской семьи, но и облачения церковнослужителей, убранство для храмов. Одной из самых искусных мастериц того времени была Ксения -  дочь  известного русского царя Бориса Годунова. До наших дней сохранилась ее работа, выполненная в 1601 году. Это было покрывало, которое она сделала специально для царского престола. Начиная с XVIII века, вышивка перестает быть привилегией знати. Она переходит в разряд обязательных занятий простых крестьянских девушек.  Безусловно, их работы выполнялись не из дорогих материалов. Но художественная ценность их была ничуть не меньше. </a:t>
            </a:r>
            <a:endParaRPr b="0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785880" y="213840"/>
            <a:ext cx="8143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Вышивкой в то время занимались, в основном, женщины. Девочек начинали учить вышивать уже с 5 -6 лет, а к 13 - 15 годам они должны были приготовить себе приданое. Это были вышитые крестом скатерти, подзоры, полотенца (их было около ста) и головные уборы. Уже перед самой свадьбой устраивали публичный показ приданого, что свидетельствовало о трудолюбии, аккуратности и мастерстве  невесты.</a:t>
            </a:r>
            <a:endParaRPr b="0" lang="en-US" sz="2400" spc="-1" strike="noStrike">
              <a:solidFill>
                <a:srgbClr val="0070c0"/>
              </a:solidFill>
              <a:latin typeface="Times New Roman"/>
            </a:endParaRPr>
          </a:p>
          <a:p>
            <a:pPr marL="331920" indent="-257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Times New Roman"/>
              </a:rPr>
              <a:t>   </a:t>
            </a:r>
            <a:r>
              <a:rPr b="0" i="1" lang="ru-RU" sz="2400" spc="-1" strike="noStrike">
                <a:solidFill>
                  <a:srgbClr val="0070c0"/>
                </a:solidFill>
                <a:latin typeface="Times New Roman"/>
              </a:rPr>
              <a:t>Русская вышивка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 была очень подвержена влиянию рукоделия со стороны Византии. Поэтому переплетение стилей часто присутствует в работах мастериц. Но сочетание исконно русских мотивов с наследием иностранных школ вышивания нисколько не портит, а даже наоборот, привносит в этот вид рукоделия особые прелесть и неповторимость.</a:t>
            </a:r>
            <a:endParaRPr b="0" lang="en-US" sz="2400" spc="-1" strike="noStrike">
              <a:solidFill>
                <a:srgbClr val="0070c0"/>
              </a:solidFill>
              <a:latin typeface="Times New Roman"/>
            </a:endParaRPr>
          </a:p>
          <a:p>
            <a:pPr marL="331920" indent="-2570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785880" y="214200"/>
            <a:ext cx="821520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372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Вышивка крестом современного мира немного видоизменилась, но все же начало она берет именно из древних времен. Сейчас мода на изделия ручной работы, а особенно на вышивку крестом, то проходит, то появляется вновь, заставляя брать в руки иголку и нитки не только женщин, но и мужчин. Многие представители сильного пола увлекаются именно вышиванием крестиком и создают великолепные полотна.</a:t>
            </a:r>
            <a:endParaRPr b="0" lang="en-US" sz="2000" spc="-1" strike="noStrike">
              <a:solidFill>
                <a:srgbClr val="0070c0"/>
              </a:solidFill>
              <a:latin typeface="Times New Roman"/>
            </a:endParaRPr>
          </a:p>
          <a:p>
            <a:pPr marL="306360" indent="-2372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Умение вышивать крестом позволяет внести в интерьер нотку самобытности и романтики, реализовать свои творческие способности и фантазию, сделать подарки родным и близким, и, наконец, скоротать вечер за приятным занятием. Вышивать крестом довольно легко и просто, достаточно всего лишь научиться прокладывать наклонные стежки, а со временем придут умение и опыт, которые позволят  вам быстро и аккуратно выполнять работы любой сложности.</a:t>
            </a:r>
            <a:endParaRPr b="0" lang="en-US" sz="2000" spc="-1" strike="noStrike">
              <a:solidFill>
                <a:srgbClr val="0070c0"/>
              </a:solidFill>
              <a:latin typeface="Times New Roman"/>
            </a:endParaRPr>
          </a:p>
          <a:p>
            <a:pPr marL="306360" indent="-2372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Надеюсь, что данная история возникновения и развития вышивки крестом поможет вам глубже изучить истоки вашего любимого вида рукоделия. Давайте и мы постараемся сохранить этот великолепный вид искусства, и будем радовать не только себя, но и людей, которые смогут полюбоваться вашей работой, вышитой крестом. </a:t>
            </a:r>
            <a:endParaRPr b="0" lang="en-US" sz="2000" spc="-1" strike="noStrike">
              <a:solidFill>
                <a:srgbClr val="0070c0"/>
              </a:solidFill>
              <a:latin typeface="Times New Roman"/>
            </a:endParaRPr>
          </a:p>
          <a:p>
            <a:pPr marL="306360" indent="-2372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5:58:25Z</dcterms:created>
  <dc:creator>USER</dc:creator>
  <dc:description/>
  <dc:language>en-US</dc:language>
  <cp:lastModifiedBy>психолог</cp:lastModifiedBy>
  <dcterms:modified xsi:type="dcterms:W3CDTF">2020-04-06T09:55:43Z</dcterms:modified>
  <cp:revision>116</cp:revision>
  <dc:subject/>
  <dc:title>Слайд 1</dc:title>
</cp:coreProperties>
</file>