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5D9C-F4D8-42F8-8DF1-AB68A0C7E0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02E2-A389-485B-83B8-3DAE79A1AE00}" type="slidenum">
              <a:rPr b="0" lang="ru-RU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E363-42CA-473C-B299-0E06FC8E6E84}" type="slidenum">
              <a:rPr b="0" lang="ru-RU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330-FBAF-42CA-80D1-15B47FAD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279-2332-4262-B6B4-A74111D2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9CD-AE4F-41A5-862F-4B0B8023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586-AFF8-4E24-A45D-92148AE4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F724-7F75-445E-AFA9-E45299DF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7B6A-F53C-4108-BF09-152E38B1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B2F6-FD2C-48E7-B3E7-90301ED2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0360-1653-4472-9A1F-C1E05EDC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6FA5-1384-45AB-8663-2BBB52D0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5E52-BAF9-4933-8B59-7CEFBAAF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53AD-E8DF-4DC0-B8C7-DFD195CA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324-09F6-43AE-B016-67147394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49D3-2DA9-45E1-94EF-83F61EB8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6719-5413-4F0D-8960-EA8FD479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2097-5D5B-4846-AECB-3EFFE720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15E7-4BF0-4DBE-8FFC-4010B7AF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C9A1-7F97-43F3-8AD5-07F513CF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C1510-4667-4BB1-BCFA-70534066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EEFA1-B763-4EF8-A9B2-D03F9A4E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40E12-9201-45AE-8402-9CF8E5BC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41304-B4AE-488D-BDE4-F2320F03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9BCDE-E373-4574-8851-32D00DE0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4BE8-55D0-4EA5-9A6F-0D24E2FE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86D7D-E129-41CF-BE5C-86082B72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1A75E-3F69-41EE-984A-8708F668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43A58-5F98-42C5-8889-6DA02C32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11271-5A14-4ADF-A555-C277C557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E5582-7603-4B20-8A12-9F0FFF21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6FF88-F2DF-4090-B6F4-C3AB2B3C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96505-0D8B-4624-AE54-5E1EEB8D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4742D-70C4-4E31-9D5D-3B9D01BC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911DF-A000-4607-83FD-B0E296A2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0F1D9-6C1E-48E7-967D-6B17E2F4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CED0-7A6A-4514-BE47-A59DC8F8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D2FAD-94F1-4FBF-8AC0-6AA26B26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A38F8-FD2C-418A-99EC-B4B701A8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04E5C-0560-400C-9D65-98B82F2F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607B6-B8F9-4BA6-8609-D75D2444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7D321-4931-4A4B-BEB7-5BD76111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8B51E-7FB9-4390-A61E-93667420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52F2E-AE18-4D47-B9D5-E8A32B2F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FF336-58A0-4E37-B2A6-D27301C2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C65EF-8559-4C3F-9B4D-81B008DC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917DA-09DD-4E44-9EA0-FAC9F933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E07E-E950-4E75-AD21-F4917F05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B3243-E062-46A3-A07D-019476B0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6D13E-7995-4E7D-A941-E30F5DA6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1C02A-EFCD-41CF-AD6B-681679AB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24159-54EE-4BCB-BA07-5BE35836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65EC6-F364-4233-9E6A-C7F1AD11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0DF2A-AA90-49F3-98DC-FE398D15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97306-E549-496C-AC2A-0D8B9EE3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86C6D-CE9A-4F1D-A967-E7D703C7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4B3FB-EE80-4CCC-ACE4-91C129A3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88861-5AA2-4A7B-B6E4-0038D97B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17E-8C13-475E-B6D2-27DCEE49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AB803-EE5F-48E9-BB3B-F72260B2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357E0-ABF6-4B5A-9CC5-CC0B62FB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BE333-75DA-4202-A5CB-D90775F0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992B9-706A-421D-A813-655FC35D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77795-9F57-4E31-AA9E-B3B8F06A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68A7E-5E01-437D-9720-994BBE69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9314E-A8A9-4F67-AC69-253ADC88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2A30D-8471-4E70-A33F-664EEBCE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7CDBD-4A78-485F-87EF-E2D9DAA6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89EC9-26DA-4246-9B13-017047C5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495-432A-4E69-89E0-882A805B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47D28-3C36-42E0-B15B-DF0CA7A2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6535F-8E0B-4040-AD48-D722BA07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62DC2-3543-4855-BBAC-60DA1809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D471D-0A78-4C57-9756-F9F0EEAE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1E304-71A7-40D3-A4A8-E7661A61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3245A-5368-4663-8D91-39396528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98911-16D0-46C9-BF49-6255EFED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F1E4F-0CF4-4356-8B0F-4C1231C5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4333C-FC4A-42C1-AE54-7DB08BD5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73142-3192-405E-A999-C15044A2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761-D0FE-4C59-AFF6-A2E75D92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15425-3998-4292-8372-AE7FF3FA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39289-CE74-4425-A76A-C5E4C983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6860A-9C67-42EB-B8F8-2EA2BC0D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82631-2C8E-4BD8-80DA-903191B1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D7D81-803A-4370-AD9C-06CC4E9C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F65-B69E-425E-8825-0D6B9FA1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eeffe4">
              <a:alpha val="33000"/>
            </a:srgbClr>
          </a:solidFill>
          <a:ln cap="rnd" w="3240">
            <a:solidFill>
              <a:srgbClr val="7ee9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cfffa3"/>
            </a:solidFill>
            <a:miter/>
          </a:ln>
          <a:effectLst>
            <a:outerShdw dist="12600" dir="5400000" blurRad="0" rotWithShape="0">
              <a:srgbClr val="6bb02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bc8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EDFE-E3CD-49B6-80D1-5268789921A5}" type="slidenum">
              <a:rPr b="0" lang="ru-RU" sz="1200" spc="-1" strike="noStrike">
                <a:solidFill>
                  <a:srgbClr val="6bc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e599"/>
          </a:solidFill>
          <a:ln w="0">
            <a:noFill/>
          </a:ln>
          <a:effectLst>
            <a:outerShdw dist="38160" dir="10800000" blurRad="0" rotWithShape="0">
              <a:srgbClr val="44671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eeffe4">
              <a:alpha val="33000"/>
            </a:srgbClr>
          </a:solidFill>
          <a:ln cap="rnd" w="3240">
            <a:solidFill>
              <a:srgbClr val="7ee9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cfffa3"/>
            </a:solidFill>
            <a:miter/>
          </a:ln>
          <a:effectLst>
            <a:outerShdw dist="12600" dir="5400000" blurRad="0" rotWithShape="0">
              <a:srgbClr val="6bb02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e599"/>
          </a:solidFill>
          <a:ln w="0">
            <a:noFill/>
          </a:ln>
          <a:effectLst>
            <a:outerShdw dist="38160" dir="10800000" blurRad="0" rotWithShape="0">
              <a:srgbClr val="44671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e1e1e1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bc8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F1B9-C9D8-4220-A8FA-FA5332F62938}" type="slidenum">
              <a:rPr b="0" lang="ru-RU" sz="1200" spc="-1" strike="noStrike">
                <a:solidFill>
                  <a:srgbClr val="6bc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e599"/>
          </a:solidFill>
          <a:ln w="0">
            <a:noFill/>
          </a:ln>
          <a:effectLst>
            <a:outerShdw dist="38160" dir="10800000" blurRad="0" rotWithShape="0">
              <a:srgbClr val="44671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e1e1e1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bc8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C5C1-F8DB-453F-A4BA-C0EA39D24EB5}" type="slidenum">
              <a:rPr b="0" lang="ru-RU" sz="1200" spc="-1" strike="noStrike">
                <a:solidFill>
                  <a:srgbClr val="6bc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bc8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3109-85A0-4346-B011-EFF1C79906C9}" type="slidenum">
              <a:rPr b="0" lang="ru-RU" sz="1200" spc="-1" strike="noStrike">
                <a:solidFill>
                  <a:srgbClr val="6bc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e599"/>
          </a:solidFill>
          <a:ln w="0">
            <a:noFill/>
          </a:ln>
          <a:effectLst>
            <a:outerShdw dist="38160" dir="10800000" blurRad="0" rotWithShape="0">
              <a:srgbClr val="44671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bc8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40C9-70C6-4DC0-961C-C48F914AB7D3}" type="slidenum">
              <a:rPr b="0" lang="ru-RU" sz="1200" spc="-1" strike="noStrike">
                <a:solidFill>
                  <a:srgbClr val="6bc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bc8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EDE4-C47A-4A87-B611-250F7B3FFAB9}" type="slidenum">
              <a:rPr b="0" lang="ru-RU" sz="1200" spc="-1" strike="noStrike">
                <a:solidFill>
                  <a:srgbClr val="6bc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8dff0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92d05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7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bc8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62A0-25C7-4C3B-85D5-732EE0959394}" type="slidenum">
              <a:rPr b="0" lang="ru-RU" sz="1200" spc="-1" strike="noStrike">
                <a:solidFill>
                  <a:srgbClr val="6bc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79224413894@yandex.ru" TargetMode="External"/><Relationship Id="rId2" Type="http://schemas.openxmlformats.org/officeDocument/2006/relationships/hyperlink" Target="mailto:79224413894@yandex.ru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214280" y="1785600"/>
            <a:ext cx="7407360" cy="3722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0000"/>
                </a:solidFill>
                <a:latin typeface="Lucida Sans"/>
              </a:rPr>
              <a:t> 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7030a0"/>
                </a:solidFill>
                <a:latin typeface="Arial"/>
              </a:rPr>
              <a:t>Тема урока: «Подготовка к вышивке крестом. Материалы и инструменты»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721e"/>
                </a:solidFill>
                <a:latin typeface="Times New Roman"/>
              </a:rPr>
              <a:t>Всех на свете обшивает, что сошьёт не надевает.  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7" name="Прямоугольник 4"/>
          <p:cNvSpPr/>
          <p:nvPr/>
        </p:nvSpPr>
        <p:spPr>
          <a:xfrm>
            <a:off x="4291560" y="289404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Игла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143000" y="713880"/>
            <a:ext cx="74995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721e"/>
                </a:solidFill>
                <a:latin typeface="Times New Roman"/>
              </a:rPr>
              <a:t>Утка ныряла, ныряла и хвост потеряла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9" name="Прямоугольник 4"/>
          <p:cNvSpPr/>
          <p:nvPr/>
        </p:nvSpPr>
        <p:spPr>
          <a:xfrm>
            <a:off x="3564000" y="2781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9721e"/>
                </a:solidFill>
                <a:latin typeface="Arial"/>
              </a:rPr>
              <a:t>Игла с ниткой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0" name="Прямоугольник 1"/>
          <p:cNvSpPr/>
          <p:nvPr/>
        </p:nvSpPr>
        <p:spPr>
          <a:xfrm>
            <a:off x="1042920" y="40053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Иглу подбирают с большим ушком и тупым концом.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476360" y="836280"/>
            <a:ext cx="74995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9721e"/>
                </a:solidFill>
                <a:latin typeface="Times New Roman"/>
              </a:rPr>
              <a:t>На пальце одном, ведерко вверх дном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2" name="Прямоугольник 5"/>
          <p:cNvSpPr/>
          <p:nvPr/>
        </p:nvSpPr>
        <p:spPr>
          <a:xfrm>
            <a:off x="3788640" y="328464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9721e"/>
                </a:solidFill>
                <a:latin typeface="Arial"/>
              </a:rPr>
              <a:t>Наперсток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357200" y="285480"/>
            <a:ext cx="74995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Ткань держать устали пальцы,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Мне пришли на помощь...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4" name="Прямоугольник 5"/>
          <p:cNvSpPr/>
          <p:nvPr/>
        </p:nvSpPr>
        <p:spPr>
          <a:xfrm>
            <a:off x="6659640" y="15573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яльцы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5" name="Прямоугольник 1"/>
          <p:cNvSpPr/>
          <p:nvPr/>
        </p:nvSpPr>
        <p:spPr>
          <a:xfrm>
            <a:off x="1403280" y="2997360"/>
            <a:ext cx="704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Чтобы выполнить вышивку, не деформируя ткань, следует использовать пяльцы. Пяльцы могут быть круглыми, квадратными, на подставке или без неё, деревянными или пластмассовыми, с винтом или без, различных размеров. Лучше подобрать пяльцы нужного размера с винтом.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25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428480" y="285480"/>
            <a:ext cx="74991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Чтобы шить иль вышивать,</a:t>
            </a:r>
            <a:endParaRPr b="0" lang="en-US" sz="28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Это нужно в руки взять.</a:t>
            </a:r>
            <a:endParaRPr b="0" lang="en-US" sz="28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Разноцветные катушки</a:t>
            </a:r>
            <a:endParaRPr b="0" lang="en-US" sz="28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У меня есть, у подружки.</a:t>
            </a:r>
            <a:endParaRPr b="0" lang="en-US" sz="28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Вышивали мы открытки,</a:t>
            </a:r>
            <a:endParaRPr b="0" lang="en-US" sz="28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Нам понадобились... </a:t>
            </a:r>
            <a:endParaRPr b="0" lang="en-US" sz="28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7" name="Прямоугольник 3"/>
          <p:cNvSpPr/>
          <p:nvPr/>
        </p:nvSpPr>
        <p:spPr>
          <a:xfrm>
            <a:off x="6012000" y="407664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Нитки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000080" y="428400"/>
            <a:ext cx="7856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Нитки – мулине, шерстяные,(реже) ирис шелковые и синтетические. Нитки должны быть хорошо окрашенными, прочными, должны хорошо пружинить при растягивании. 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Нитки «мулине» продаются в моточках, поэтому после разрезания они часто путаются. Их следует наматывать на шпульки или хранить в специальных органайзерах, откуда их легко извлечь. Раньше нитки заплетали в косы.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24720" indent="-2512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285560" y="285840"/>
            <a:ext cx="74991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Пара острых, тонких ног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Без туфлей и без сапог.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На ногах — по голове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Для чего, скажите мне?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По бумаге ходят ноги,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Режут все, что на дороге. 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0" name="Прямоугольник 3"/>
          <p:cNvSpPr/>
          <p:nvPr/>
        </p:nvSpPr>
        <p:spPr>
          <a:xfrm>
            <a:off x="7093080" y="35733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Ножницы</a:t>
            </a: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2" name="Прямоугольник 1"/>
          <p:cNvSpPr/>
          <p:nvPr/>
        </p:nvSpPr>
        <p:spPr>
          <a:xfrm>
            <a:off x="1332000" y="4167360"/>
            <a:ext cx="734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Ножницы лучше применять двух видов: маленькие с острыми концами, для подрезания и выдергивания нитей, большие для разрезания ткани и мотков ниток.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6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500120" y="285480"/>
            <a:ext cx="74995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Гладит все, чего касается,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А дотронешься — кусается.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4" name="Прямоугольник 4"/>
          <p:cNvSpPr/>
          <p:nvPr/>
        </p:nvSpPr>
        <p:spPr>
          <a:xfrm>
            <a:off x="7236000" y="14842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Утюг</a:t>
            </a: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5" name="Прямоугольник 1"/>
          <p:cNvSpPr/>
          <p:nvPr/>
        </p:nvSpPr>
        <p:spPr>
          <a:xfrm>
            <a:off x="1547640" y="3105000"/>
            <a:ext cx="611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Утюг необходим для проутюживания ткани до работы, и после вышивания.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300"/>
                            </p:stCondLst>
                            <p:childTnLst>
                              <p:par>
                                <p:cTn id="1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355640" y="163440"/>
            <a:ext cx="2071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Конва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  <p:pic>
        <p:nvPicPr>
          <p:cNvPr id="357" name="Picture 2" descr="https://images.ru.prom.st/698776443_w640_h640_kanva-dlya-vyshivaniya.jpg"/>
          <p:cNvPicPr/>
          <p:nvPr/>
        </p:nvPicPr>
        <p:blipFill>
          <a:blip r:embed="rId1"/>
          <a:stretch/>
        </p:blipFill>
        <p:spPr>
          <a:xfrm>
            <a:off x="1255680" y="298440"/>
            <a:ext cx="2603520" cy="260352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9" name="Прямоугольник 1"/>
          <p:cNvSpPr/>
          <p:nvPr/>
        </p:nvSpPr>
        <p:spPr>
          <a:xfrm>
            <a:off x="1116000" y="2898720"/>
            <a:ext cx="755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Виды канвы: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-Пластиковая канва применяется в качестве основы, её не нужно удалять после вышивки.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-Накладная канва намётывается на ткань и выдёргивается после работы.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-Плотная канва («Рогожка») используется для постоянного назначения.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Arial"/>
              </a:rPr>
              <a:t>Рисунки для вышивки.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714240" y="1447560"/>
            <a:ext cx="8220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Рисунки для счетной вышивки и для свободной отличаются друг от друга. Если размер рисунка не устраивает, то следует уменьшить его или увеличить. В основном счетной вышивкой вышивают по схеме. Схема может быть цветная, а может быть и чёрно-белой с указанием цвета.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936720" y="1357200"/>
            <a:ext cx="82072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eaa2e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«Народное искусство – это прошлое, живущее в настоящем, устремленное в будущее своей мечтой о небывалом… Это культурная память народа, неотделимая от самых глубоких устремлений современности».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                         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М.Некрасова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https://cs3.livemaster.ru/zhurnalfoto/7/b/b/1603301006117bbebcfe26c7e8e4dbfebb50ed32b28f.jpeg"/>
          <p:cNvPicPr/>
          <p:nvPr/>
        </p:nvPicPr>
        <p:blipFill>
          <a:blip r:embed="rId1"/>
          <a:stretch/>
        </p:blipFill>
        <p:spPr>
          <a:xfrm rot="20971200">
            <a:off x="549000" y="503280"/>
            <a:ext cx="3465360" cy="3214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https://avatars.mds.yandex.net/get-pdb/1745470/368d3d77-226d-4e53-a677-889ae5079241/s1200"/>
          <p:cNvPicPr/>
          <p:nvPr/>
        </p:nvPicPr>
        <p:blipFill>
          <a:blip r:embed="rId2"/>
          <a:stretch/>
        </p:blipFill>
        <p:spPr>
          <a:xfrm rot="189000">
            <a:off x="5896080" y="434880"/>
            <a:ext cx="2960640" cy="40546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https://i.pinimg.com/originals/35/5c/8f/355c8fc12177e35f237b10eda1d888c4.jpg"/>
          <p:cNvPicPr/>
          <p:nvPr/>
        </p:nvPicPr>
        <p:blipFill>
          <a:blip r:embed="rId3"/>
          <a:stretch/>
        </p:blipFill>
        <p:spPr>
          <a:xfrm rot="21155400">
            <a:off x="2414520" y="3251160"/>
            <a:ext cx="40737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4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4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4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4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4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4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4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4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4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4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4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4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7030a0"/>
                </a:solidFill>
                <a:latin typeface="Arial"/>
              </a:rPr>
              <a:t>Правила техники безопасности</a:t>
            </a:r>
            <a:endParaRPr b="0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9721e"/>
                </a:solidFill>
                <a:latin typeface="Times New Roman"/>
              </a:rPr>
              <a:t>Иглу хранить в игольнице. При потере обязательно найти её. При поломке вколоть в ткань и отдать учителю. Не размахивайте иглой по сторонам.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9721e"/>
                </a:solidFill>
                <a:latin typeface="Times New Roman"/>
              </a:rPr>
              <a:t>Ножницы передавать кольцами вперёд. Должны лежать с сомкнутыми лезвиями.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Arial"/>
              </a:rPr>
              <a:t>Задание: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28800" y="1447560"/>
            <a:ext cx="8005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Возьмите листочек в клеточку и попробуйте составить схему вышивки крестиком (цветную или черно-белую с указанием цветов).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Готовую схему отправите мне на проверку.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Электронная почта: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79224413894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  <a:hlinkClick r:id="rId2"/>
              </a:rPr>
              <a:t>@yandex.ru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31920" indent="-2570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или по номеру телефона на </a:t>
            </a:r>
            <a:r>
              <a:rPr b="1" lang="en-US" sz="3200" spc="-1" strike="noStrike">
                <a:solidFill>
                  <a:srgbClr val="0070c0"/>
                </a:solidFill>
                <a:latin typeface="Book Antiqua"/>
              </a:rPr>
              <a:t>Viber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 или </a:t>
            </a:r>
            <a:r>
              <a:rPr b="1" lang="en-US" sz="3200" spc="-1" strike="noStrike">
                <a:solidFill>
                  <a:srgbClr val="0070c0"/>
                </a:solidFill>
                <a:latin typeface="Book Antiqua"/>
              </a:rPr>
              <a:t>WhatsApp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89224413894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70c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На следующем уроке мы будем учится вышивать крестиком. Нам потребуется: канва, игла с большим ушком, мулине необходимых цветов, наперсток, пяльцы, ножницы. 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WordArt 4"/>
          <p:cNvSpPr txBox="1"/>
          <p:nvPr/>
        </p:nvSpPr>
        <p:spPr>
          <a:xfrm rot="265200">
            <a:off x="1326960" y="1628280"/>
            <a:ext cx="7513560" cy="13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9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9721e"/>
                </a:solidFill>
                <a:latin typeface="Arial"/>
              </a:rPr>
              <a:t>Спасибо за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9721e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4"/>
          <p:cNvSpPr/>
          <p:nvPr/>
        </p:nvSpPr>
        <p:spPr>
          <a:xfrm>
            <a:off x="1214280" y="304560"/>
            <a:ext cx="73584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eaa2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eaa2e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eaa2e"/>
                </a:solidFill>
                <a:latin typeface="Arial"/>
              </a:rPr>
              <a:t>Красивые картины могут создаваться не только художниками- это под силу каждому, кто приобщился к такому искусству, как вышивка крестом. Во время рукоделия человек вкладывает в каждый стежок частичку собственной души. Вещи, украшенные ручным шитьём, создают в доме</a:t>
            </a:r>
            <a:r>
              <a:rPr b="1" lang="en-US" sz="2400" spc="-1" strike="noStrike">
                <a:solidFill>
                  <a:srgbClr val="6eaa2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eaa2e"/>
                </a:solidFill>
                <a:latin typeface="Arial"/>
              </a:rPr>
              <a:t>уют. 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aa2e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85520" y="1447560"/>
            <a:ext cx="8148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Искусство вышивания - один из древнейших видов рукоделия. Огромное разнообразие работ объясняется множеством рисунков, узоров и швов, их комбинациями, использованием однотонных и цветных тканей.</a:t>
            </a:r>
            <a:endParaRPr b="0" lang="en-US" sz="28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Вышивкой можно украсить одежду, сумки, куртки, джинсы и в основном, предметы интерьера.</a:t>
            </a:r>
            <a:endParaRPr b="0" lang="en-US" sz="2800" spc="-1" strike="noStrike">
              <a:solidFill>
                <a:srgbClr val="0070c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857160" y="213840"/>
            <a:ext cx="8072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История</a:t>
            </a:r>
            <a:endParaRPr b="0" lang="en-US" sz="3200" spc="-1" strike="noStrike">
              <a:solidFill>
                <a:srgbClr val="0070c0"/>
              </a:solidFill>
              <a:latin typeface="Times New Roman"/>
            </a:endParaRPr>
          </a:p>
          <a:p>
            <a:pPr marL="313920" indent="-243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Вышивка крестиком является одним из самых древнейших видов рукоделия. Точное время появления вышивки неизвестно. Нет и сведений, когда же вышивка крестиком стала отдельным видом рукоделия. В наше время имеются образцы вышивки даже 10 века. Однако, несомненно, она возникла гораздо раньше. В разных странах преобладал свой определенный цвет, и стили узора отличались между собой. В вышивке отражался национальный колорит и индивидуальное виденье прекрасного у каждого народа.</a:t>
            </a:r>
            <a:endParaRPr b="0" lang="en-US" sz="2000" spc="-1" strike="noStrike">
              <a:solidFill>
                <a:srgbClr val="0070c0"/>
              </a:solidFill>
              <a:latin typeface="Times New Roman"/>
            </a:endParaRPr>
          </a:p>
          <a:p>
            <a:pPr marL="313920" indent="-243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В ХVI веке в Западной Европ счетная вышивка приобрела особую популярность. В то время она включала в себя большую часть библейских текстов и сюжетов. Уже в 18-ом веке в вышивке стал более сильно заметен классический стежок крестом, а тематика стала более разнообразной. В восточных странах вышивкой традиционно украшали предметы домашнего обихода – накидки, ковры, вьючные мешки. Они всегда отличались огромным разнообразие цветов и сложностью орнамента. Со временем вышивка стала неотъемлемой частью костюма и домашней утвари и на Западе.</a:t>
            </a:r>
            <a:endParaRPr b="0" lang="en-US" sz="20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713880" y="-360"/>
            <a:ext cx="821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Русская вышивка имеет свою многовековую историю. О существовании вышивки в эпоху Древней Руси говорят находки археологов, которые  относятся к IX-XII векам.  Люди издавна передавали красоту природы, свои ощущения условными знаками и узорами: крестами, линиями, ромбами и многими другими способами. Также и наши предки выражали свое восприятие к непонятным явлениям природы,  к окружающему миру   с помощью условных знаков – символов. По народным поверьям, вышивка крестом должна была не только украшать одежду, предметы быта, но и оберегать от любого зла. Особенно ценными в этом плане считались  обыденные полотенца. Над созданием такого полотенца работали одновременно несколько мастериц. Если же они начинали делать работу на рассвете и заканчивали ее до того, как сядет солнце, то изделие считалось способным оберегать от различных болезней, от злых сил или стихийных бедствий.</a:t>
            </a:r>
            <a:endParaRPr b="0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714240" y="142560"/>
            <a:ext cx="842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Первоначально вышивка на Руси была занятием для избранных, в их число входили монахи и представители знати. Материалом для работы служили дорогие ткани – шелк или бархат, жемчуг, драгоценные камни, серебряные или золотые нити. Подобной вышивкой украшали не только одежду бояр и членов царской семьи, но и облачения церковнослужителей, убранство для храмов. Одной из самых искусных мастериц того времени была Ксения -  дочь  известного русского царя Бориса Годунова. До наших дней сохранилась ее работа, выполненная в 1601 году. Это было покрывало, которое она сделала специально для царского престола. Начиная с XVIII века, вышивка перестает быть привилегией знати. Она переходит в разряд обязательных занятий простых крестьянских девушек.  Безусловно, их работы выполнялись не из дорогих материалов. Но художественная ценность их была ничуть не меньше. </a:t>
            </a:r>
            <a:endParaRPr b="0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85880" y="213840"/>
            <a:ext cx="8143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Вышивкой в то время занимались, в основном, женщины. Девочек начинали учить вышивать уже с 5 -6 лет, а к 13 - 15 годам они должны были приготовить себе приданое. Это были вышитые крестом скатерти, подзоры, полотенца (их было около ста) и головные уборы. Уже перед самой свадьбой устраивали публичный показ приданого, что свидетельствовало о трудолюбии, аккуратности и мастерстве  невесты.</a:t>
            </a:r>
            <a:endParaRPr b="0" lang="en-US" sz="2400" spc="-1" strike="noStrike">
              <a:solidFill>
                <a:srgbClr val="0070c0"/>
              </a:solidFill>
              <a:latin typeface="Times New Roman"/>
            </a:endParaRPr>
          </a:p>
          <a:p>
            <a:pPr marL="331920" indent="-257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</a:rPr>
              <a:t>Русская вышивка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 была очень подвержена влиянию рукоделия со стороны Византии. Поэтому переплетение стилей часто присутствует в работах мастериц. Но сочетание исконно русских мотивов с наследием иностранных школ вышивания нисколько не портит, а даже наоборот, привносит в этот вид рукоделия особые прелесть и неповторимость.</a:t>
            </a:r>
            <a:endParaRPr b="0" lang="en-US" sz="2400" spc="-1" strike="noStrike">
              <a:solidFill>
                <a:srgbClr val="0070c0"/>
              </a:solidFill>
              <a:latin typeface="Times New Roman"/>
            </a:endParaRPr>
          </a:p>
          <a:p>
            <a:pPr marL="331920" indent="-2570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785880" y="214200"/>
            <a:ext cx="821520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Вышивка крестом современного мира немного видоизменилась, но все же начало она берет именно из древних времен. Сейчас мода на изделия ручной работы, а особенно на вышивку крестом, то проходит, то появляется вновь, заставляя брать в руки иголку и нитки не только женщин, но и мужчин. Многие представители сильного пола увлекаются именно вышиванием крестиком и создают великолепные полотна.</a:t>
            </a:r>
            <a:endParaRPr b="0" lang="en-US" sz="2000" spc="-1" strike="noStrike">
              <a:solidFill>
                <a:srgbClr val="0070c0"/>
              </a:solidFill>
              <a:latin typeface="Times New Roman"/>
            </a:endParaRPr>
          </a:p>
          <a:p>
            <a:pPr marL="306360" indent="-2372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Умение вышивать крестом позволяет внести в интерьер нотку самобытности и романтики, реализовать свои творческие способности и фантазию, сделать подарки родным и близким, и, наконец, скоротать вечер за приятным занятием. Вышивать крестом довольно легко и просто, достаточно всего лишь научиться прокладывать наклонные стежки, а со временем придут умение и опыт, которые позволят  вам быстро и аккуратно выполнять работы любой сложности.</a:t>
            </a:r>
            <a:endParaRPr b="0" lang="en-US" sz="2000" spc="-1" strike="noStrike">
              <a:solidFill>
                <a:srgbClr val="0070c0"/>
              </a:solidFill>
              <a:latin typeface="Times New Roman"/>
            </a:endParaRPr>
          </a:p>
          <a:p>
            <a:pPr marL="306360" indent="-2372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Надеюсь, что данная история возникновения и развития вышивки крестом поможет вам глубже изучить истоки вашего любимого вида рукоделия. Давайте и мы постараемся сохранить этот великолепный вид искусства, и будем радовать не только себя, но и людей, которые смогут полюбоваться вашей работой, вышитой крестом. </a:t>
            </a:r>
            <a:endParaRPr b="0" lang="en-US" sz="2000" spc="-1" strike="noStrike">
              <a:solidFill>
                <a:srgbClr val="0070c0"/>
              </a:solidFill>
              <a:latin typeface="Times New Roman"/>
            </a:endParaRPr>
          </a:p>
          <a:p>
            <a:pPr marL="306360" indent="-2372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5:58:25Z</dcterms:created>
  <dc:creator>USER</dc:creator>
  <dc:description/>
  <dc:language>en-US</dc:language>
  <cp:lastModifiedBy>психолог</cp:lastModifiedBy>
  <dcterms:modified xsi:type="dcterms:W3CDTF">2020-04-06T09:55:43Z</dcterms:modified>
  <cp:revision>116</cp:revision>
  <dc:subject/>
  <dc:title>Слайд 1</dc:title>
</cp:coreProperties>
</file>