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6.jpeg" ContentType="image/jpeg"/>
  <Override PartName="/ppt/media/image23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4B5-1A97-43A3-B2CA-2F599291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7CF5-EBCF-415A-8B90-1693F3BC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D30-936E-4FF7-B58F-C1B38E1B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078-2193-48DA-88EB-9AF5EA4B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44FC-FA2A-4D99-9955-6DF518C2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0CFE-13D4-4D0D-A7D5-D720E197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B231-DC9D-4F82-93DE-80E50C1D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4E00-0E17-4117-98C1-097CFA02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BD75-97F7-44D5-B4BA-C5DA2451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31DB-E004-41A9-9AE8-CCD53737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58FB-583A-48EC-9CCE-266431D2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2794-C4DC-46C4-B3FC-0709B6BD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5CFD-0C1E-4FF3-9BD2-56F75DB8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99C1-66C9-48F5-9159-3B0994E0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AAEF-92EA-43B6-80E3-F40A8100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9A7A-5557-4399-AB9F-71EA758E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C4A6-128F-4400-B5C6-AE7F1074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A411C-E65E-4C48-84C5-88DE6011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82379-4E42-4E56-BDC9-36D1A903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768A4-C5DB-4F72-AE43-7398FBC8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EE97D-C909-4956-9F64-202F486C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EE53B-0FCA-4B7A-92F1-31A15AA3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EF5-B880-48EC-8EEC-119C9ECC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AAA48-3CC8-4DE8-AFD8-ECBD93DD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7CDBF-C652-4166-A3A1-35360108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1E9B7-35FD-4868-A5E7-E8C2BD19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E4A73-7C02-495F-AE2E-2EB47267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5163E-B0CD-48EB-83F7-F2FF9681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21233-8AB1-4147-92AE-0FBC2B39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4733B-CA88-49CE-9835-1E3E8AB5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DC1FA-BC08-42B3-A850-9CB5EB7F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A1EF3-8754-4395-A159-06205D4B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1757B-696D-44B8-8FBD-53A2DB0C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E08-8805-40A5-9855-5A14E3A8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99CD0-45D3-476B-B58B-B78688F1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0E5F4-F6FD-4E85-B24C-72D8CDFE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4E751-0239-4639-B5E0-8CB91434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DA45C-6044-4B84-8DD6-DF04479F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D3C1B-5367-4781-859E-0549842E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1BBED-24BE-4268-B7CC-A3962F02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82044-A86B-4DA0-901A-5CC009CD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336BA-31FA-42E4-A474-E7EA89AD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76196-3775-4A51-A715-ED097B7C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4846C-341E-4CA4-BD5B-B0D92BD4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7B4C-FBFE-400F-A19E-7E63A3BD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E0EEA-2A06-4326-98A1-7D38F378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24D20-1074-4A4D-9A9D-699E77F3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9B94F-F541-424D-A27D-FCB2EA05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BB4F6-DB65-481A-ABD3-D1CA2BBA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F2452-1C79-4FB7-99CC-1D49A828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9DAFC-173F-44CD-8903-22CB6792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A36FA-6252-4BC3-AA93-88872EE9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75B27-FAD5-4F6B-89D7-7B6B8D41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78A7E-B374-45D9-A499-1A6B75E4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45AD0-024A-4A4F-891B-1E8EA763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A82F-B333-4B72-872E-1D576AF5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1A4A1-1D88-43CA-9835-E0731588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8A89-C7C8-49D2-A10C-37A7B0FC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F11-B561-42CA-A09A-77D7CD5F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479C-8DFE-4AEC-BE86-2875F56C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AB5F-F54C-4631-83B5-4C37A422BE3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F046-E001-4AA0-96BA-38033F09013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D0C5-965B-47A3-A922-B46F3DBFDE8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0AF5-3F65-4BF5-8254-72B65C412B3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7C2E-12D9-42AA-9DCF-67BCBB5DE37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923000" y="5013000"/>
            <a:ext cx="3970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Бублий Светлана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евн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96960" y="17827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енеджмент решает всё!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719280" y="26028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автономное профессиональное образовательное учреждение Свердловской области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ральский горнозаводской колледж им. Демидовых»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Прямоугольник 4"/>
          <p:cNvSpPr/>
          <p:nvPr/>
        </p:nvSpPr>
        <p:spPr>
          <a:xfrm>
            <a:off x="2050920" y="3141720"/>
            <a:ext cx="57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«Выдающиеся менеджеры в России и за рубежом»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9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529080" cy="4233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72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Билл Гейт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 -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основатель известной компании по производству программного обеспечения — Майкрософт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2" name="Прямоугольник 7"/>
          <p:cNvSpPr/>
          <p:nvPr/>
        </p:nvSpPr>
        <p:spPr>
          <a:xfrm>
            <a:off x="3492360" y="2205000"/>
            <a:ext cx="496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Ее девиз – «компьютер на каждый стол и в каждый дом».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Коносуке Мацусит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–</a:t>
            </a: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известный японский предприниматель, основатель «MATSUSHITA ELECTRIC» (с 2008 года название изменено на «PANASONIC CORPORATION»), торговых марок «NATIONAL», «PANASONIC», «TECHNICS», «QUASAR»</a:t>
            </a:r>
            <a:br>
              <a:rPr sz="2400"/>
            </a:b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492000" y="2133720"/>
            <a:ext cx="5410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июле 1933 года разработал кодекс, состоявший из семи принципов для стимулирования усилий каждого сотрудника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) дух сервис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2) дух справедливост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3) дух гармонии и сотрудничеств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4) дух стремления к прогрессу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5) дух учтивости и смир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(позднее, в августе 1937 года он добавил еще два пункта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6) дух следования законам природы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7) дух благодарност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5" name="Picture 4" descr="Принципы успеха Коносукэ Мацуситы"/>
          <p:cNvPicPr/>
          <p:nvPr/>
        </p:nvPicPr>
        <p:blipFill>
          <a:blip r:embed="rId1"/>
          <a:stretch/>
        </p:blipFill>
        <p:spPr>
          <a:xfrm>
            <a:off x="179280" y="2349360"/>
            <a:ext cx="31687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1"/>
          <p:cNvSpPr/>
          <p:nvPr/>
        </p:nvSpPr>
        <p:spPr>
          <a:xfrm>
            <a:off x="900000" y="62064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7" name="Picture 1" descr=""/>
          <p:cNvPicPr/>
          <p:nvPr/>
        </p:nvPicPr>
        <p:blipFill>
          <a:blip r:embed="rId1"/>
          <a:stretch/>
        </p:blipFill>
        <p:spPr>
          <a:xfrm>
            <a:off x="1717560" y="2421000"/>
            <a:ext cx="5708880" cy="381312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2"/>
          <p:cNvSpPr/>
          <p:nvPr/>
        </p:nvSpPr>
        <p:spPr>
          <a:xfrm>
            <a:off x="1116000" y="382680"/>
            <a:ext cx="7416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й Борисович Милле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й экономист, региональный глава, государственный деятель. Председатель правления и заместитель председателя совета директоров ПАО «Газпром». 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Дуров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356000" y="1196640"/>
            <a:ext cx="43308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оссийский предприниматель, программист, один из основателей самой популярной социальной сети в странах СНГ. Бывший генеральный директор «В Контакте» и один из богатейших людей Росси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1" name="Рисунок 3" descr="павел дуров ушел из вконтакте"/>
          <p:cNvPicPr/>
          <p:nvPr/>
        </p:nvPicPr>
        <p:blipFill>
          <a:blip r:embed="rId1"/>
          <a:stretch/>
        </p:blipFill>
        <p:spPr>
          <a:xfrm>
            <a:off x="250920" y="170028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гений Касперски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916360" y="1341360"/>
            <a:ext cx="5898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сменный руководитель антивирусных исследований компании. В 2007 году он назначен генеральным директором «Лаборатории Касперского»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годняшний день «Лаборатория Касперского» — одна из наиболее динамично развивающихся компаний в сфере информационной безопасности, которая осуществляет свою деятельность в почти 200 странах и территориях мира. В компании работает около 3000 высококвалифицированных специалистов, а локальные представительства «Лаборатории Касперского» открыты в 30 странах. 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 и технологии, производимые компанией, защищают более 400 млн пользователей по всему миру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4" name="Picture 2" descr="Eugene Kaspersky"/>
          <p:cNvPicPr/>
          <p:nvPr/>
        </p:nvPicPr>
        <p:blipFill>
          <a:blip r:embed="rId1"/>
          <a:stretch/>
        </p:blipFill>
        <p:spPr>
          <a:xfrm>
            <a:off x="250920" y="1413000"/>
            <a:ext cx="26654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оугольник 3"/>
          <p:cNvSpPr/>
          <p:nvPr/>
        </p:nvSpPr>
        <p:spPr>
          <a:xfrm>
            <a:off x="714240" y="404640"/>
            <a:ext cx="81057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Борис Нуралиев -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учредитель и бессменный руководитель компании «1С»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6" name="Picture 2" descr="http://cdn.forbes.ru/sites/default/files/styles/900_566/public/forbes_import/f_/f_m_img_1024_0.jpg?itok=EUBR5UXz"/>
          <p:cNvPicPr/>
          <p:nvPr/>
        </p:nvPicPr>
        <p:blipFill>
          <a:blip r:embed="rId1"/>
          <a:stretch/>
        </p:blipFill>
        <p:spPr>
          <a:xfrm>
            <a:off x="3995640" y="2233440"/>
            <a:ext cx="5011920" cy="3151440"/>
          </a:xfrm>
          <a:prstGeom prst="rect">
            <a:avLst/>
          </a:prstGeom>
          <a:ln w="0">
            <a:noFill/>
          </a:ln>
        </p:spPr>
      </p:pic>
      <p:sp>
        <p:nvSpPr>
          <p:cNvPr id="297" name="Прямоугольник 4"/>
          <p:cNvSpPr/>
          <p:nvPr/>
        </p:nvSpPr>
        <p:spPr>
          <a:xfrm>
            <a:off x="61920" y="2481120"/>
            <a:ext cx="39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Борис НУРАЛИЕВ сумел построить крупнейшую в софтверной индустрии СНГ компанию, лидирующую по количеству создаваемых и продаваемых программ и размеру дилерской сети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1"/>
          <p:cNvSpPr/>
          <p:nvPr/>
        </p:nvSpPr>
        <p:spPr>
          <a:xfrm>
            <a:off x="1258920" y="206064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Спасибо за внимание!!!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3" descr="Выдающиеся менеджеры 20 века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Times New Roman"/>
              </a:rPr>
              <a:t>Генри Форд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95280" y="1196640"/>
            <a:ext cx="51847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ий промышленник, владелец заводов по производству автомобилей по всему миру, изобретатель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лозунгом было «автомобиль для всех» — завод Форда выпускал наиболее дешёвые автомобили в начале эпохи автомобилестроения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Ford Motor Company» существует и по сей день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5651640" y="1413000"/>
            <a:ext cx="314964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169920"/>
            <a:ext cx="8142480" cy="1800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д подчеркивал наличие двух основных моментов в деятельности предпринимателя – экономии производства и сбыт. Свои советы о том, что необходимо предпринимателю для успешной деятельности, Форд сформулировал в виде следующих положений.</a:t>
            </a:r>
            <a:br>
              <a:rPr sz="2000"/>
            </a:b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grpSp>
        <p:nvGrpSpPr>
          <p:cNvPr id="237" name="Прямоугольник 4"/>
          <p:cNvGrpSpPr/>
          <p:nvPr/>
        </p:nvGrpSpPr>
        <p:grpSpPr>
          <a:xfrm>
            <a:off x="268200" y="2535120"/>
            <a:ext cx="2200320" cy="1366920"/>
            <a:chOff x="268200" y="2535120"/>
            <a:chExt cx="2200320" cy="1366920"/>
          </a:xfrm>
        </p:grpSpPr>
        <p:pic>
          <p:nvPicPr>
            <p:cNvPr id="238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68200" y="2535120"/>
              <a:ext cx="220032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24000" y="2565360"/>
              <a:ext cx="2087280" cy="12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mbria"/>
                </a:rPr>
                <a:t>Уверенность в том, что задумано</a:t>
              </a:r>
              <a:r>
                <a:rPr b="0" lang="ru-RU" sz="1800" spc="-1" strike="noStrike">
                  <a:solidFill>
                    <a:srgbClr val="000000"/>
                  </a:solidFill>
                  <a:latin typeface="Cambria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40" name="Прямоугольник 5"/>
          <p:cNvGrpSpPr/>
          <p:nvPr/>
        </p:nvGrpSpPr>
        <p:grpSpPr>
          <a:xfrm>
            <a:off x="268200" y="4840200"/>
            <a:ext cx="2266920" cy="1474920"/>
            <a:chOff x="268200" y="4840200"/>
            <a:chExt cx="2266920" cy="1474920"/>
          </a:xfrm>
        </p:grpSpPr>
        <p:pic>
          <p:nvPicPr>
            <p:cNvPr id="241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68200" y="4840200"/>
              <a:ext cx="226692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324000" y="4869000"/>
              <a:ext cx="21603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mbria"/>
                </a:rPr>
                <a:t>Результат работы впереди денег. 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43" name="Прямоугольник 6"/>
          <p:cNvGrpSpPr/>
          <p:nvPr/>
        </p:nvGrpSpPr>
        <p:grpSpPr>
          <a:xfrm>
            <a:off x="2560680" y="1957320"/>
            <a:ext cx="2249280" cy="1554120"/>
            <a:chOff x="2560680" y="1957320"/>
            <a:chExt cx="2249280" cy="1554120"/>
          </a:xfrm>
        </p:grpSpPr>
        <p:pic>
          <p:nvPicPr>
            <p:cNvPr id="244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560680" y="1957320"/>
              <a:ext cx="22492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627280" y="2060640"/>
              <a:ext cx="208908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mbria"/>
                </a:rPr>
                <a:t>Необходимо иметь альтернативные варианты решений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46" name="Прямоугольник 7"/>
          <p:cNvGrpSpPr/>
          <p:nvPr/>
        </p:nvGrpSpPr>
        <p:grpSpPr>
          <a:xfrm>
            <a:off x="2571840" y="3998880"/>
            <a:ext cx="2341440" cy="1311480"/>
            <a:chOff x="2571840" y="3998880"/>
            <a:chExt cx="2341440" cy="1311480"/>
          </a:xfrm>
        </p:grpSpPr>
        <p:pic>
          <p:nvPicPr>
            <p:cNvPr id="247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571840" y="3998880"/>
              <a:ext cx="234144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627280" y="4076640"/>
              <a:ext cx="223200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mbria"/>
                </a:rPr>
                <a:t>Постоянные изменения в технологии производства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49" name="Прямоугольник 8"/>
          <p:cNvGrpSpPr/>
          <p:nvPr/>
        </p:nvGrpSpPr>
        <p:grpSpPr>
          <a:xfrm>
            <a:off x="4950000" y="1670040"/>
            <a:ext cx="2060280" cy="1274760"/>
            <a:chOff x="4950000" y="1670040"/>
            <a:chExt cx="2060280" cy="1274760"/>
          </a:xfrm>
        </p:grpSpPr>
        <p:pic>
          <p:nvPicPr>
            <p:cNvPr id="250" name="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4950000" y="1670040"/>
              <a:ext cx="206028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003640" y="1790640"/>
              <a:ext cx="19447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mbria"/>
                </a:rPr>
                <a:t>Необходимость планирования своей деятельности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52" name="Прямоугольник 9"/>
          <p:cNvGrpSpPr/>
          <p:nvPr/>
        </p:nvGrpSpPr>
        <p:grpSpPr>
          <a:xfrm>
            <a:off x="4950000" y="3181320"/>
            <a:ext cx="2054160" cy="1335240"/>
            <a:chOff x="4950000" y="3181320"/>
            <a:chExt cx="2054160" cy="1335240"/>
          </a:xfrm>
        </p:grpSpPr>
        <p:pic>
          <p:nvPicPr>
            <p:cNvPr id="253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4950000" y="3181320"/>
              <a:ext cx="205416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003640" y="3213000"/>
              <a:ext cx="194472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mbria"/>
                </a:rPr>
                <a:t>Серийность – нормализация – удешевление. 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55" name="Прямоугольник 10"/>
          <p:cNvGrpSpPr/>
          <p:nvPr/>
        </p:nvGrpSpPr>
        <p:grpSpPr>
          <a:xfrm>
            <a:off x="4797360" y="4979880"/>
            <a:ext cx="2133720" cy="1695600"/>
            <a:chOff x="4797360" y="4979880"/>
            <a:chExt cx="2133720" cy="1695600"/>
          </a:xfrm>
        </p:grpSpPr>
        <p:pic>
          <p:nvPicPr>
            <p:cNvPr id="256" name="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4797360" y="4979880"/>
              <a:ext cx="213372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859280" y="5013360"/>
              <a:ext cx="198612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mbria"/>
                </a:rPr>
                <a:t>Очень важно анализировать соприкосновение продукции с потребителем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58" name="Прямоугольник 11"/>
          <p:cNvGrpSpPr/>
          <p:nvPr/>
        </p:nvGrpSpPr>
        <p:grpSpPr>
          <a:xfrm>
            <a:off x="7095960" y="2352600"/>
            <a:ext cx="2035440" cy="1371600"/>
            <a:chOff x="7095960" y="2352600"/>
            <a:chExt cx="2035440" cy="1371600"/>
          </a:xfrm>
        </p:grpSpPr>
        <p:pic>
          <p:nvPicPr>
            <p:cNvPr id="259" name="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095960" y="2352600"/>
              <a:ext cx="203544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7164360" y="2384280"/>
              <a:ext cx="1871640" cy="12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mbria"/>
                </a:rPr>
                <a:t>Необходимость обратной связи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61" name="Прямоугольник 12"/>
          <p:cNvGrpSpPr/>
          <p:nvPr/>
        </p:nvGrpSpPr>
        <p:grpSpPr>
          <a:xfrm>
            <a:off x="7034040" y="3790800"/>
            <a:ext cx="1957680" cy="2524320"/>
            <a:chOff x="7034040" y="3790800"/>
            <a:chExt cx="1957680" cy="2524320"/>
          </a:xfrm>
        </p:grpSpPr>
        <p:pic>
          <p:nvPicPr>
            <p:cNvPr id="262" name="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034040" y="3790800"/>
              <a:ext cx="195768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093080" y="3824280"/>
              <a:ext cx="1800000" cy="24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mbria"/>
                </a:rPr>
                <a:t>Нельзя останавливаться в своих поисках совершенствования управленческой деятельности</a:t>
              </a:r>
              <a:endParaRPr b="0" lang="en-US" sz="14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64" name="Прямоугольник 13"/>
          <p:cNvGrpSpPr/>
          <p:nvPr/>
        </p:nvGrpSpPr>
        <p:grpSpPr>
          <a:xfrm>
            <a:off x="2719440" y="5614920"/>
            <a:ext cx="2054160" cy="1060560"/>
            <a:chOff x="2719440" y="5614920"/>
            <a:chExt cx="2054160" cy="1060560"/>
          </a:xfrm>
        </p:grpSpPr>
        <p:pic>
          <p:nvPicPr>
            <p:cNvPr id="265" name="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719440" y="5614920"/>
              <a:ext cx="20541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771640" y="5661000"/>
              <a:ext cx="19447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mbria"/>
                </a:rPr>
                <a:t>Непрестанное применение новых идей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267" name="Рисунок 5" descr="ford.gif"/>
          <p:cNvPicPr/>
          <p:nvPr/>
        </p:nvPicPr>
        <p:blipFill>
          <a:blip r:embed="rId11"/>
          <a:stretch/>
        </p:blipFill>
        <p:spPr>
          <a:xfrm>
            <a:off x="179280" y="922320"/>
            <a:ext cx="18003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6560" y="1699920"/>
            <a:ext cx="7788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Ли Якокк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самый успешный менеджер, президент компании Ford и председатель правления корпорации Chrysler, успешно реализовал антикризисные программ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9" name="Содержимое 4" descr="Lee%20Iacocca.jpg"/>
          <p:cNvPicPr/>
          <p:nvPr/>
        </p:nvPicPr>
        <p:blipFill>
          <a:blip r:embed="rId1"/>
          <a:stretch/>
        </p:blipFill>
        <p:spPr>
          <a:xfrm>
            <a:off x="250920" y="2171880"/>
            <a:ext cx="2808360" cy="4205160"/>
          </a:xfrm>
          <a:prstGeom prst="rect">
            <a:avLst/>
          </a:prstGeom>
          <a:ln w="0">
            <a:noFill/>
          </a:ln>
        </p:spPr>
      </p:pic>
      <p:sp>
        <p:nvSpPr>
          <p:cNvPr id="270" name="TextBox 6"/>
          <p:cNvSpPr/>
          <p:nvPr/>
        </p:nvSpPr>
        <p:spPr>
          <a:xfrm>
            <a:off x="3203640" y="2421000"/>
            <a:ext cx="57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Ли Якокка смог спасти от банкротства и вернуть утерянные позиции на автомобильном рынке компании «Крайслер»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Умение принимать управленческие решения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Система квартальных отчетов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Мотивация сотрудников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Готовность к сложным ситуация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98480" y="11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Карлос Г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-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президент и генеральный директор компаний Renault и Nissan, фактический глава альянса Renault-Nissan. 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2" name="Picture 2" descr="http://imotor.su/uploads/2017-01/1485538549_Karlos-Gon-ne-brosaet-pop_2.jpg"/>
          <p:cNvPicPr/>
          <p:nvPr/>
        </p:nvPicPr>
        <p:blipFill>
          <a:blip r:embed="rId1"/>
          <a:srcRect l="10428" t="0" r="2889" b="0"/>
          <a:stretch/>
        </p:blipFill>
        <p:spPr>
          <a:xfrm>
            <a:off x="179280" y="2430360"/>
            <a:ext cx="4505400" cy="289080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3"/>
          <p:cNvSpPr/>
          <p:nvPr/>
        </p:nvSpPr>
        <p:spPr>
          <a:xfrm>
            <a:off x="4859280" y="2637000"/>
            <a:ext cx="403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Получил известность в связи с блестящим воплощением в жизнь плана по выводу компании Nissan из тяжёлого кризиса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755640" y="18900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Акио Мори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ahoma"/>
              </a:rPr>
              <a:t>известный японский предприниматель, основатель корпорации «SONY»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5" name="Picture 2" descr="http://images.myshared.ru/4/168771/slide_1.jpg"/>
          <p:cNvPicPr/>
          <p:nvPr/>
        </p:nvPicPr>
        <p:blipFill>
          <a:blip r:embed="rId1"/>
          <a:stretch/>
        </p:blipFill>
        <p:spPr>
          <a:xfrm>
            <a:off x="755640" y="1481040"/>
            <a:ext cx="74883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71640" y="41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Марк Цукербер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 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- разработчик и основатель социальной сети Facebook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7" name="Picture 4" descr="https://pp.vk.me/c631431/v631431852/2b1ac/ZTEflgFhW0c.jpg"/>
          <p:cNvPicPr/>
          <p:nvPr/>
        </p:nvPicPr>
        <p:blipFill>
          <a:blip r:embed="rId1"/>
          <a:stretch/>
        </p:blipFill>
        <p:spPr>
          <a:xfrm>
            <a:off x="755640" y="1557360"/>
            <a:ext cx="759456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Стив Джоб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- 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основатель и гендиректор компании Apple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9" name="Picture 5" descr="http://cs623831.vk.me/v623831946/3ce96/p3U5GaY4z54.jpg"/>
          <p:cNvPicPr/>
          <p:nvPr/>
        </p:nvPicPr>
        <p:blipFill>
          <a:blip r:embed="rId1"/>
          <a:stretch/>
        </p:blipFill>
        <p:spPr>
          <a:xfrm>
            <a:off x="108000" y="1197000"/>
            <a:ext cx="8928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07:55:30Z</dcterms:created>
  <dc:creator>acer</dc:creator>
  <dc:description/>
  <dc:language>en-US</dc:language>
  <cp:lastModifiedBy>USER</cp:lastModifiedBy>
  <dcterms:modified xsi:type="dcterms:W3CDTF">2020-04-06T19:25:01Z</dcterms:modified>
  <cp:revision>32</cp:revision>
  <dc:subject/>
  <dc:title>Форд: история, методы управления.</dc:title>
</cp:coreProperties>
</file>