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6.jpeg" ContentType="image/jpeg"/>
  <Override PartName="/ppt/media/image23.png" ContentType="image/png"/>
  <Override PartName="/ppt/media/image2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25.png" ContentType="image/png"/>
  <Override PartName="/ppt/media/image2.png" ContentType="image/pn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10E1-AAE3-4008-9940-3A8A9D0E6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4B09-D58D-40EA-92BC-97AAB40B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A375-4940-4702-9DEB-D25B5B4D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1532-B6D0-4910-B5B8-BA4FC234C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58C4-02E1-43E0-8259-FEEC7743E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9C8A-1DFA-4C17-B7BC-E314D626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B9EB-A8C2-4116-A2ED-7F5F8101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D8CB-6E3D-4591-80D1-288E7A12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F2FD-7BFC-4D94-82F8-C30ACC40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C686-8BD4-4EE7-8F93-87A152C7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918B-4A76-4A69-A5AC-D31F1603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CB16-FB94-4CF6-8BA8-1E7A2130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D895-3504-41C5-85EB-A4730A14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9A68-82AE-4AF3-BEC5-AA11C546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9AC6-FE28-4C41-A47C-847E49C4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F3FE-B12F-4365-8804-0298E40BA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FF25-9A3D-4CA9-8990-07FFD4504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A2DB4-005D-4003-8EF7-D58FE495C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9058F-F199-4376-9E04-9C66982D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E4964-4113-408E-B4C2-E5B793E9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73CD8-4217-4EB7-9B24-905533F1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32DB0-8299-4A3A-93DC-380406CB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F34D-5DC1-4EDA-999A-2A511E32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D1200-08B1-4F0A-96DC-C32F35DA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1FC9E-D5F1-4E9F-9A19-BA8F0EC2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7E802-8B8A-46BE-BC84-5A2D0143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A6530-8BDA-4476-A7DE-517DDFB0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1682D-A0CF-489D-AEFC-7AE001C2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16E50-F9E6-48EA-9D0C-55CB3E387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844A0-A833-4052-A98C-64B1910CA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30269-86CC-40F5-B900-BC6CFCF2C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DB50A-49F1-4BA9-993F-EE837D0D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04C88-3E6F-4265-980D-F5DC13F6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161A-7BC2-45F2-93CB-D04C67E7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1E9C7-34F9-4DD5-99FF-2423EC5A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3CF65-F88C-48E0-BF53-1F023E15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E7AC7-C5C5-4BEE-90C5-EE74DBEF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9F22C-1F16-4741-A00B-494E67FD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1C931-CC54-4398-B43D-64C661F3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00F2C-F554-4302-8585-F2F3C79A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39DEF-956B-4E54-8667-A026BC11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9140F-4A5E-4ECE-96F7-C019E9C3E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0E16B-65CC-4FAD-9F35-70579AFC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D5EFA-E912-4B30-A26F-DF7D9BAA6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A347-A40E-4AF7-8513-B0127EC5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6A6F5-E336-45BE-8BB6-C794015D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B5BC4-A06E-4BC1-A2B6-8E1812D5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E90D9-9ED5-436F-B5E3-9FD329F0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62A62-4ACF-4A3E-8B9A-50960EFD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31005-7409-4D92-AC6D-3B47128E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16A79-67A8-4423-9166-FE7A1834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B9A9E-B664-4F77-8E91-85EFC9B7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4CC1D-3C08-4615-91ED-FF5793F1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488C7-6280-40C8-A22B-70406709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59A7A-AFB8-4CC1-9EB1-2FDFCCB8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F353-0196-44A9-A7FB-1D2DCE32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4A0B9-9FA9-46B0-9A6F-0BEAB116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C89E-8A2F-4059-900B-47A5B8F4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F95C-0DC1-4F5C-86FB-BFA41B0A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EBEA-C808-4D99-A087-A15F8FF8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0626-CE56-43E3-8C4D-8AF5BC86631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BB99-7C31-4F2F-968D-8F18A336FBB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2DC3-9082-430D-9796-376CFD1D13A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280F-6E66-4724-8AD2-5A93EE771C1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1E20-DDF4-42E9-A424-FF0BE3D5684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923000" y="5013000"/>
            <a:ext cx="39700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Бублий Светлана   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лаевн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696960" y="178272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я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Менеджмент решает всё!»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0" name="Прямоугольник 3"/>
          <p:cNvSpPr/>
          <p:nvPr/>
        </p:nvSpPr>
        <p:spPr>
          <a:xfrm>
            <a:off x="719280" y="260280"/>
            <a:ext cx="79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автономное профессиональное образовательное учреждение Свердловской области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ральский горнозаводской колледж им. Демидовых»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Прямоугольник 4"/>
          <p:cNvSpPr/>
          <p:nvPr/>
        </p:nvSpPr>
        <p:spPr>
          <a:xfrm>
            <a:off x="2050920" y="3141720"/>
            <a:ext cx="57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«Выдающиеся менеджеры в России и за рубежом»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9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529080" cy="4233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72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Билл Гейт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 -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основатель известной компании по производству программного обеспечения — Майкрософт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2" name="Прямоугольник 7"/>
          <p:cNvSpPr/>
          <p:nvPr/>
        </p:nvSpPr>
        <p:spPr>
          <a:xfrm>
            <a:off x="3492360" y="2205000"/>
            <a:ext cx="4967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Ее девиз – «компьютер на каждый стол и в каждый дом».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Коносуке Мацусит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–</a:t>
            </a:r>
            <a:br>
              <a:rPr sz="32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известный японский предприниматель, основатель «MATSUSHITA ELECTRIC» (с 2008 года название изменено на «PANASONIC CORPORATION»), торговых марок «NATIONAL», «PANASONIC», «TECHNICS», «QUASAR»</a:t>
            </a:r>
            <a:br>
              <a:rPr sz="2400"/>
            </a:br>
            <a:endParaRPr b="0" lang="en-US" sz="2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492000" y="2133720"/>
            <a:ext cx="5410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июле 1933 года разработал кодекс, состоявший из семи принципов для стимулирования усилий каждого сотрудника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1) дух сервис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2) дух справедливост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3) дух гармонии и сотрудничеств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4) дух стремления к прогрессу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5) дух учтивости и смирен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(позднее, в августе 1937 года он добавил еще два пункта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6) дух следования законам природы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7) дух благодарност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5" name="Picture 4" descr="Принципы успеха Коносукэ Мацуситы"/>
          <p:cNvPicPr/>
          <p:nvPr/>
        </p:nvPicPr>
        <p:blipFill>
          <a:blip r:embed="rId1"/>
          <a:stretch/>
        </p:blipFill>
        <p:spPr>
          <a:xfrm>
            <a:off x="179280" y="2349360"/>
            <a:ext cx="316872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1"/>
          <p:cNvSpPr/>
          <p:nvPr/>
        </p:nvSpPr>
        <p:spPr>
          <a:xfrm>
            <a:off x="900000" y="620640"/>
            <a:ext cx="73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7" name="Picture 1" descr=""/>
          <p:cNvPicPr/>
          <p:nvPr/>
        </p:nvPicPr>
        <p:blipFill>
          <a:blip r:embed="rId1"/>
          <a:stretch/>
        </p:blipFill>
        <p:spPr>
          <a:xfrm>
            <a:off x="1717560" y="2421000"/>
            <a:ext cx="5708880" cy="381312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2"/>
          <p:cNvSpPr/>
          <p:nvPr/>
        </p:nvSpPr>
        <p:spPr>
          <a:xfrm>
            <a:off x="1116000" y="382680"/>
            <a:ext cx="7416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ей Борисович Милле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ий экономист, региональный глава, государственный деятель. Председатель правления и заместитель председателя совета директоров ПАО «Газпром». 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ел Дуров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356000" y="1196640"/>
            <a:ext cx="43308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оссийский предприниматель, программист, один из основателей самой популярной социальной сети в странах СНГ. Бывший генеральный директор «В Контакте» и один из богатейших людей Росси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91" name="Рисунок 3" descr="павел дуров ушел из вконтакте"/>
          <p:cNvPicPr/>
          <p:nvPr/>
        </p:nvPicPr>
        <p:blipFill>
          <a:blip r:embed="rId1"/>
          <a:stretch/>
        </p:blipFill>
        <p:spPr>
          <a:xfrm>
            <a:off x="250920" y="1700280"/>
            <a:ext cx="4176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гений Касперский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916360" y="1341360"/>
            <a:ext cx="5898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сменный руководитель антивирусных исследований компании. В 2007 году он назначен генеральным директором «Лаборатории Касперского»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годняшний день «Лаборатория Касперского» — одна из наиболее динамично развивающихся компаний в сфере информационной безопасности, которая осуществляет свою деятельность в почти 200 странах и территориях мира. В компании работает около 3000 высококвалифицированных специалистов, а локальные представительства «Лаборатории Касперского» открыты в 30 странах. 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ы и технологии, производимые компанией, защищают более 400 млн пользователей по всему миру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94" name="Picture 2" descr="Eugene Kaspersky"/>
          <p:cNvPicPr/>
          <p:nvPr/>
        </p:nvPicPr>
        <p:blipFill>
          <a:blip r:embed="rId1"/>
          <a:stretch/>
        </p:blipFill>
        <p:spPr>
          <a:xfrm>
            <a:off x="250920" y="1413000"/>
            <a:ext cx="26654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Прямоугольник 3"/>
          <p:cNvSpPr/>
          <p:nvPr/>
        </p:nvSpPr>
        <p:spPr>
          <a:xfrm>
            <a:off x="714240" y="404640"/>
            <a:ext cx="81057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Борис Нуралиев - 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учредитель и бессменный руководитель компании «1С»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6" name="Picture 2" descr="http://cdn.forbes.ru/sites/default/files/styles/900_566/public/forbes_import/f_/f_m_img_1024_0.jpg?itok=EUBR5UXz"/>
          <p:cNvPicPr/>
          <p:nvPr/>
        </p:nvPicPr>
        <p:blipFill>
          <a:blip r:embed="rId1"/>
          <a:stretch/>
        </p:blipFill>
        <p:spPr>
          <a:xfrm>
            <a:off x="3995640" y="2233440"/>
            <a:ext cx="5011920" cy="3151440"/>
          </a:xfrm>
          <a:prstGeom prst="rect">
            <a:avLst/>
          </a:prstGeom>
          <a:ln w="0">
            <a:noFill/>
          </a:ln>
        </p:spPr>
      </p:pic>
      <p:sp>
        <p:nvSpPr>
          <p:cNvPr id="297" name="Прямоугольник 4"/>
          <p:cNvSpPr/>
          <p:nvPr/>
        </p:nvSpPr>
        <p:spPr>
          <a:xfrm>
            <a:off x="61920" y="2481120"/>
            <a:ext cx="3933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Борис НУРАЛИЕВ сумел построить крупнейшую в софтверной индустрии СНГ компанию, лидирующую по количеству создаваемых и продаваемых программ и размеру дилерской сети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Box 1"/>
          <p:cNvSpPr/>
          <p:nvPr/>
        </p:nvSpPr>
        <p:spPr>
          <a:xfrm>
            <a:off x="1258920" y="206064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Спасибо за внимание!!!</a:t>
            </a:r>
            <a:endParaRPr b="0" lang="en-US" sz="6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3" descr="Выдающиеся менеджеры 20 века"/>
          <p:cNvPicPr/>
          <p:nvPr/>
        </p:nvPicPr>
        <p:blipFill>
          <a:blip r:embed="rId1"/>
          <a:stretch/>
        </p:blipFill>
        <p:spPr>
          <a:xfrm>
            <a:off x="179280" y="260280"/>
            <a:ext cx="86407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00"/>
                </a:solidFill>
                <a:latin typeface="Times New Roman"/>
              </a:rPr>
              <a:t>Генри Форд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95280" y="1196640"/>
            <a:ext cx="518472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ий промышленник, владелец заводов по производству автомобилей по всему миру, изобретатель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лозунгом было «автомобиль для всех» — завод Форда выпускал наиболее дешёвые автомобили в начале эпохи автомобилестроения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Ford Motor Company» существует и по сей день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5651640" y="1413000"/>
            <a:ext cx="314964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169920"/>
            <a:ext cx="8142480" cy="1800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д подчеркивал наличие двух основных моментов в деятельности предпринимателя – экономии производства и сбыт. Свои советы о том, что необходимо предпринимателю для успешной деятельности, Форд сформулировал в виде следующих положений.</a:t>
            </a:r>
            <a:br>
              <a:rPr sz="2000"/>
            </a:br>
            <a:endParaRPr b="0" lang="en-US" sz="2000" spc="-1" strike="noStrike">
              <a:solidFill>
                <a:srgbClr val="696464"/>
              </a:solidFill>
              <a:latin typeface="Calibri"/>
            </a:endParaRPr>
          </a:p>
        </p:txBody>
      </p:sp>
      <p:grpSp>
        <p:nvGrpSpPr>
          <p:cNvPr id="237" name="Прямоугольник 4"/>
          <p:cNvGrpSpPr/>
          <p:nvPr/>
        </p:nvGrpSpPr>
        <p:grpSpPr>
          <a:xfrm>
            <a:off x="268200" y="2535120"/>
            <a:ext cx="2200320" cy="1366920"/>
            <a:chOff x="268200" y="2535120"/>
            <a:chExt cx="2200320" cy="1366920"/>
          </a:xfrm>
        </p:grpSpPr>
        <p:pic>
          <p:nvPicPr>
            <p:cNvPr id="238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68200" y="2535120"/>
              <a:ext cx="2200320" cy="13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24000" y="2565360"/>
              <a:ext cx="2087280" cy="12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ambria"/>
                </a:rPr>
                <a:t>Уверенность в том, что задумано</a:t>
              </a:r>
              <a:r>
                <a:rPr b="0" lang="ru-RU" sz="1800" spc="-1" strike="noStrike">
                  <a:solidFill>
                    <a:srgbClr val="000000"/>
                  </a:solidFill>
                  <a:latin typeface="Cambria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grpSp>
        <p:nvGrpSpPr>
          <p:cNvPr id="240" name="Прямоугольник 5"/>
          <p:cNvGrpSpPr/>
          <p:nvPr/>
        </p:nvGrpSpPr>
        <p:grpSpPr>
          <a:xfrm>
            <a:off x="268200" y="4840200"/>
            <a:ext cx="2266920" cy="1474920"/>
            <a:chOff x="268200" y="4840200"/>
            <a:chExt cx="2266920" cy="1474920"/>
          </a:xfrm>
        </p:grpSpPr>
        <p:pic>
          <p:nvPicPr>
            <p:cNvPr id="241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68200" y="4840200"/>
              <a:ext cx="226692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324000" y="4869000"/>
              <a:ext cx="21603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ambria"/>
                </a:rPr>
                <a:t>Результат работы впереди денег. </a:t>
              </a: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grpSp>
        <p:nvGrpSpPr>
          <p:cNvPr id="243" name="Прямоугольник 6"/>
          <p:cNvGrpSpPr/>
          <p:nvPr/>
        </p:nvGrpSpPr>
        <p:grpSpPr>
          <a:xfrm>
            <a:off x="2560680" y="1957320"/>
            <a:ext cx="2249280" cy="1554120"/>
            <a:chOff x="2560680" y="1957320"/>
            <a:chExt cx="2249280" cy="1554120"/>
          </a:xfrm>
        </p:grpSpPr>
        <p:pic>
          <p:nvPicPr>
            <p:cNvPr id="244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560680" y="1957320"/>
              <a:ext cx="22492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2627280" y="2060640"/>
              <a:ext cx="208908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ambria"/>
                </a:rPr>
                <a:t>Необходимо иметь альтернативные варианты решений</a:t>
              </a: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grpSp>
        <p:nvGrpSpPr>
          <p:cNvPr id="246" name="Прямоугольник 7"/>
          <p:cNvGrpSpPr/>
          <p:nvPr/>
        </p:nvGrpSpPr>
        <p:grpSpPr>
          <a:xfrm>
            <a:off x="2571840" y="3998880"/>
            <a:ext cx="2341440" cy="1311480"/>
            <a:chOff x="2571840" y="3998880"/>
            <a:chExt cx="2341440" cy="1311480"/>
          </a:xfrm>
        </p:grpSpPr>
        <p:pic>
          <p:nvPicPr>
            <p:cNvPr id="247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2571840" y="3998880"/>
              <a:ext cx="2341440" cy="13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2627280" y="4076640"/>
              <a:ext cx="223200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ambria"/>
                </a:rPr>
                <a:t>Постоянные изменения в технологии производства</a:t>
              </a: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grpSp>
        <p:nvGrpSpPr>
          <p:cNvPr id="249" name="Прямоугольник 8"/>
          <p:cNvGrpSpPr/>
          <p:nvPr/>
        </p:nvGrpSpPr>
        <p:grpSpPr>
          <a:xfrm>
            <a:off x="4950000" y="1670040"/>
            <a:ext cx="2060280" cy="1274760"/>
            <a:chOff x="4950000" y="1670040"/>
            <a:chExt cx="2060280" cy="1274760"/>
          </a:xfrm>
        </p:grpSpPr>
        <p:pic>
          <p:nvPicPr>
            <p:cNvPr id="250" name="Прямоугольник 8" descr=""/>
            <p:cNvPicPr/>
            <p:nvPr/>
          </p:nvPicPr>
          <p:blipFill>
            <a:blip r:embed="rId5"/>
            <a:stretch/>
          </p:blipFill>
          <p:spPr>
            <a:xfrm>
              <a:off x="4950000" y="1670040"/>
              <a:ext cx="206028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5003640" y="1790640"/>
              <a:ext cx="194472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ambria"/>
                </a:rPr>
                <a:t>Необходимость планирования своей деятельности</a:t>
              </a: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grpSp>
        <p:nvGrpSpPr>
          <p:cNvPr id="252" name="Прямоугольник 9"/>
          <p:cNvGrpSpPr/>
          <p:nvPr/>
        </p:nvGrpSpPr>
        <p:grpSpPr>
          <a:xfrm>
            <a:off x="4950000" y="3181320"/>
            <a:ext cx="2054160" cy="1335240"/>
            <a:chOff x="4950000" y="3181320"/>
            <a:chExt cx="2054160" cy="1335240"/>
          </a:xfrm>
        </p:grpSpPr>
        <p:pic>
          <p:nvPicPr>
            <p:cNvPr id="253" name="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4950000" y="3181320"/>
              <a:ext cx="205416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5003640" y="3213000"/>
              <a:ext cx="194472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ambria"/>
                </a:rPr>
                <a:t>Серийность – нормализация – удешевление. </a:t>
              </a: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grpSp>
        <p:nvGrpSpPr>
          <p:cNvPr id="255" name="Прямоугольник 10"/>
          <p:cNvGrpSpPr/>
          <p:nvPr/>
        </p:nvGrpSpPr>
        <p:grpSpPr>
          <a:xfrm>
            <a:off x="4797360" y="4979880"/>
            <a:ext cx="2133720" cy="1695600"/>
            <a:chOff x="4797360" y="4979880"/>
            <a:chExt cx="2133720" cy="1695600"/>
          </a:xfrm>
        </p:grpSpPr>
        <p:pic>
          <p:nvPicPr>
            <p:cNvPr id="256" name="Прямоугольник 10" descr=""/>
            <p:cNvPicPr/>
            <p:nvPr/>
          </p:nvPicPr>
          <p:blipFill>
            <a:blip r:embed="rId7"/>
            <a:stretch/>
          </p:blipFill>
          <p:spPr>
            <a:xfrm>
              <a:off x="4797360" y="4979880"/>
              <a:ext cx="213372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4859280" y="5013360"/>
              <a:ext cx="198612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ambria"/>
                </a:rPr>
                <a:t>Очень важно анализировать соприкосновение продукции с потребителем</a:t>
              </a: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grpSp>
        <p:nvGrpSpPr>
          <p:cNvPr id="258" name="Прямоугольник 11"/>
          <p:cNvGrpSpPr/>
          <p:nvPr/>
        </p:nvGrpSpPr>
        <p:grpSpPr>
          <a:xfrm>
            <a:off x="7095960" y="2352600"/>
            <a:ext cx="2035440" cy="1371600"/>
            <a:chOff x="7095960" y="2352600"/>
            <a:chExt cx="2035440" cy="1371600"/>
          </a:xfrm>
        </p:grpSpPr>
        <p:pic>
          <p:nvPicPr>
            <p:cNvPr id="259" name="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7095960" y="2352600"/>
              <a:ext cx="203544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7164360" y="2384280"/>
              <a:ext cx="1871640" cy="12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ambria"/>
                </a:rPr>
                <a:t>Необходимость обратной связи</a:t>
              </a: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grpSp>
        <p:nvGrpSpPr>
          <p:cNvPr id="261" name="Прямоугольник 12"/>
          <p:cNvGrpSpPr/>
          <p:nvPr/>
        </p:nvGrpSpPr>
        <p:grpSpPr>
          <a:xfrm>
            <a:off x="7034040" y="3790800"/>
            <a:ext cx="1957680" cy="2524320"/>
            <a:chOff x="7034040" y="3790800"/>
            <a:chExt cx="1957680" cy="2524320"/>
          </a:xfrm>
        </p:grpSpPr>
        <p:pic>
          <p:nvPicPr>
            <p:cNvPr id="262" name="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034040" y="3790800"/>
              <a:ext cx="1957680" cy="25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7093080" y="3824280"/>
              <a:ext cx="1800000" cy="24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Cambria"/>
                </a:rPr>
                <a:t>Нельзя останавливаться в своих поисках совершенствования управленческой деятельности</a:t>
              </a:r>
              <a:endParaRPr b="0" lang="en-US" sz="14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grpSp>
        <p:nvGrpSpPr>
          <p:cNvPr id="264" name="Прямоугольник 13"/>
          <p:cNvGrpSpPr/>
          <p:nvPr/>
        </p:nvGrpSpPr>
        <p:grpSpPr>
          <a:xfrm>
            <a:off x="2719440" y="5614920"/>
            <a:ext cx="2054160" cy="1060560"/>
            <a:chOff x="2719440" y="5614920"/>
            <a:chExt cx="2054160" cy="1060560"/>
          </a:xfrm>
        </p:grpSpPr>
        <p:pic>
          <p:nvPicPr>
            <p:cNvPr id="265" name="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2719440" y="5614920"/>
              <a:ext cx="20541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2771640" y="5661000"/>
              <a:ext cx="194472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ambria"/>
                </a:rPr>
                <a:t>Непрестанное применение новых идей</a:t>
              </a: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pic>
        <p:nvPicPr>
          <p:cNvPr id="267" name="Рисунок 5" descr="ford.gif"/>
          <p:cNvPicPr/>
          <p:nvPr/>
        </p:nvPicPr>
        <p:blipFill>
          <a:blip r:embed="rId11"/>
          <a:stretch/>
        </p:blipFill>
        <p:spPr>
          <a:xfrm>
            <a:off x="179280" y="922320"/>
            <a:ext cx="18003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6560" y="1699920"/>
            <a:ext cx="7788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Ли Якокка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самый успешный менеджер, президент компании Ford и председатель правления корпорации Chrysler, успешно реализовал антикризисные программы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9" name="Содержимое 4" descr="Lee%20Iacocca.jpg"/>
          <p:cNvPicPr/>
          <p:nvPr/>
        </p:nvPicPr>
        <p:blipFill>
          <a:blip r:embed="rId1"/>
          <a:stretch/>
        </p:blipFill>
        <p:spPr>
          <a:xfrm>
            <a:off x="250920" y="2171880"/>
            <a:ext cx="2808360" cy="4205160"/>
          </a:xfrm>
          <a:prstGeom prst="rect">
            <a:avLst/>
          </a:prstGeom>
          <a:ln w="0">
            <a:noFill/>
          </a:ln>
        </p:spPr>
      </p:pic>
      <p:sp>
        <p:nvSpPr>
          <p:cNvPr id="270" name="TextBox 6"/>
          <p:cNvSpPr/>
          <p:nvPr/>
        </p:nvSpPr>
        <p:spPr>
          <a:xfrm>
            <a:off x="3203640" y="2421000"/>
            <a:ext cx="57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Ли Якокка смог спасти от банкротства и вернуть утерянные позиции на автомобильном рынке компании «Крайслер»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Умение принимать управленческие решения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Система квартальных отчетов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Мотивация сотрудников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Готовность к сложным ситуациям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98480" y="11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Карлос Го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-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президент и генеральный директор компаний Renault и Nissan, фактический глава альянса Renault-Nissan. 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2" name="Picture 2" descr="http://imotor.su/uploads/2017-01/1485538549_Karlos-Gon-ne-brosaet-pop_2.jpg"/>
          <p:cNvPicPr/>
          <p:nvPr/>
        </p:nvPicPr>
        <p:blipFill>
          <a:blip r:embed="rId1"/>
          <a:srcRect l="10428" t="0" r="2889" b="0"/>
          <a:stretch/>
        </p:blipFill>
        <p:spPr>
          <a:xfrm>
            <a:off x="179280" y="2430360"/>
            <a:ext cx="4505400" cy="2890800"/>
          </a:xfrm>
          <a:prstGeom prst="rect">
            <a:avLst/>
          </a:prstGeom>
          <a:ln w="0">
            <a:noFill/>
          </a:ln>
        </p:spPr>
      </p:pic>
      <p:sp>
        <p:nvSpPr>
          <p:cNvPr id="273" name="Прямоугольник 3"/>
          <p:cNvSpPr/>
          <p:nvPr/>
        </p:nvSpPr>
        <p:spPr>
          <a:xfrm>
            <a:off x="4859280" y="2637000"/>
            <a:ext cx="403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Получил известность в связи с блестящим воплощением в жизнь плана по выводу компании Nissan из тяжёлого кризиса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3"/>
          <p:cNvSpPr/>
          <p:nvPr/>
        </p:nvSpPr>
        <p:spPr>
          <a:xfrm>
            <a:off x="755640" y="189000"/>
            <a:ext cx="7848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Акио Морит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ahoma"/>
              </a:rPr>
              <a:t>известный японский предприниматель, основатель корпорации «SONY»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5" name="Picture 2" descr="http://images.myshared.ru/4/168771/slide_1.jpg"/>
          <p:cNvPicPr/>
          <p:nvPr/>
        </p:nvPicPr>
        <p:blipFill>
          <a:blip r:embed="rId1"/>
          <a:stretch/>
        </p:blipFill>
        <p:spPr>
          <a:xfrm>
            <a:off x="755640" y="1481040"/>
            <a:ext cx="748836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71640" y="41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Марк Цукербер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 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- разработчик и основатель социальной сети Facebook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7" name="Picture 4" descr="https://pp.vk.me/c631431/v631431852/2b1ac/ZTEflgFhW0c.jpg"/>
          <p:cNvPicPr/>
          <p:nvPr/>
        </p:nvPicPr>
        <p:blipFill>
          <a:blip r:embed="rId1"/>
          <a:stretch/>
        </p:blipFill>
        <p:spPr>
          <a:xfrm>
            <a:off x="755640" y="1557360"/>
            <a:ext cx="759456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Стив Джоб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- 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основатель и гендиректор компании Apple</a:t>
            </a:r>
            <a:br>
              <a:rPr sz="2800"/>
            </a:b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9" name="Picture 5" descr="http://cs623831.vk.me/v623831946/3ce96/p3U5GaY4z54.jpg"/>
          <p:cNvPicPr/>
          <p:nvPr/>
        </p:nvPicPr>
        <p:blipFill>
          <a:blip r:embed="rId1"/>
          <a:stretch/>
        </p:blipFill>
        <p:spPr>
          <a:xfrm>
            <a:off x="108000" y="1197000"/>
            <a:ext cx="8928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1T07:55:30Z</dcterms:created>
  <dc:creator>acer</dc:creator>
  <dc:description/>
  <dc:language>en-US</dc:language>
  <cp:lastModifiedBy>USER</cp:lastModifiedBy>
  <dcterms:modified xsi:type="dcterms:W3CDTF">2020-04-06T19:25:01Z</dcterms:modified>
  <cp:revision>32</cp:revision>
  <dc:subject/>
  <dc:title>Форд: история, методы управления.</dc:title>
</cp:coreProperties>
</file>