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068-27CF-42BE-946A-740C96BB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7DC-EA4F-40B6-82B1-99B6E26E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9FA-3203-40DD-AA0A-1863498B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0E7-91FB-4C94-AC91-820B64F4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1ED7-D4F4-47A0-BECC-ACD1F468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16A0-FEE5-4BE8-918B-ED3EC21B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6736-FB71-4E96-AB1F-3C421D04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537D-1A40-457A-ACE9-6A2288EB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DC9C-1165-4483-839F-6E9EB7AE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7CF2-20E8-45D7-8F2F-4D92EC8B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C65D-B3F1-4132-A68F-C514939A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7B4-9D7B-450E-9300-3FCE070D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1DAC-57C0-4DB5-968A-DA1D3B06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5E80-BE9C-490A-93F3-D864DB0F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F6D8-EF65-4643-839F-993AC91B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FEA4-BFAB-450D-A46C-1E0BED0F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858C-C689-4583-87D6-ED6ECAEC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907-FACC-4C18-882E-92F87B21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ED3-36D9-46B8-968E-8E978FCF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E50-8DFB-470E-8152-14663472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CDE-D602-471D-BE37-D7AF769C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35E-7ECD-4E6E-92A9-996971C9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753-CDFA-4045-B206-AF3D2383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07E-60B6-4CAB-9379-C7741576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5A11-0E0F-485D-A1C5-E53D3BA229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ADDA-55EE-48EB-9911-63BD0BF40B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равописание приставок</a:t>
            </a:r>
            <a:br>
              <a:rPr sz="4800"/>
            </a:b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ПРИ- и ПРЕ-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26668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ПРИ- и ПРЕ-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66640" y="1752480"/>
          <a:ext cx="8001000" cy="49690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езд 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ва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вать в унын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пить к работ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пить зако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ожить усил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ожить 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онить голов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онение перед талант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орить двер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орить в жиз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ориться спящи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ысел 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орился в жиз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ьшить заслуг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ьшил заслуг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дящая нян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□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дящие ценност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29B-FAA3-4644-8D22-D62A64668A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ПРИ- и ПРЕ-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(проверка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оезд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бывае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тупить к рабо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умножить усил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лонить голо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творить двер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твориться спящи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уменьшить заслуг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ходящая нян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B4C-C69A-4B38-9B0C-B08BB6E356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ПРИ- и ПРЕ-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(проверка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бывать в унын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тупить зако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умножить дох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лонение перед таланто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творить в жизн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Замысел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творился в жизн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уменьшил заслуг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е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ходящие ценно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B35-66FE-44BC-B4E8-82D7DA53C0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Запомните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заимствованных словах приставки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- и ПРЕ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е вычленяются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жно запомнить написание сл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3280" y="1752480"/>
          <a:ext cx="3924360" cy="4418280"/>
        </p:xfrm>
        <a:graphic>
          <a:graphicData uri="http://schemas.openxmlformats.org/drawingml/2006/table">
            <a:tbl>
              <a:tblPr/>
              <a:tblGrid>
                <a:gridCol w="1962360"/>
                <a:gridCol w="196200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т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б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ле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лир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дон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ид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иди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ь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ципи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д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399-C4C4-4FB0-9356-7DBF0B4573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В этих словах приставки </a:t>
            </a:r>
            <a:r>
              <a:rPr b="0" lang="en-US" sz="3400" spc="-1" strike="noStrike">
                <a:solidFill>
                  <a:srgbClr val="cc0000"/>
                </a:solidFill>
                <a:latin typeface="Times New Roman"/>
              </a:rPr>
              <a:t>ПРИ- и ПРЕ-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не вычленяются, т.к. они срослись с корнем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66640" y="1752480"/>
          <a:ext cx="8000640" cy="4267080"/>
        </p:xfrm>
        <a:graphic>
          <a:graphicData uri="http://schemas.openxmlformats.org/drawingml/2006/table">
            <a:tbl>
              <a:tblPr/>
              <a:tblGrid>
                <a:gridCol w="4000320"/>
                <a:gridCol w="4000320"/>
              </a:tblGrid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р, 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, 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м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т, 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ти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ритель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едлив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ущест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ш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лови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жий, 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ьщать, 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бреже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FA4-7C71-43D5-BA67-9B4ED13F91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В этих словах приставки </a:t>
            </a:r>
            <a:r>
              <a:rPr b="0" lang="en-US" sz="3400" spc="-1" strike="noStrike">
                <a:solidFill>
                  <a:srgbClr val="cc0000"/>
                </a:solidFill>
                <a:latin typeface="Times New Roman"/>
              </a:rPr>
              <a:t>ПРИ- и ПРЕ-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не вычленяются, т.к. они срослись с корнем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66640" y="1752480"/>
          <a:ext cx="8000640" cy="4267080"/>
        </p:xfrm>
        <a:graphic>
          <a:graphicData uri="http://schemas.openxmlformats.org/drawingml/2006/table">
            <a:tbl>
              <a:tblPr/>
              <a:tblGrid>
                <a:gridCol w="4000320"/>
                <a:gridCol w="4000320"/>
              </a:tblGrid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ж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знаки) 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на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а, 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ств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, 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атьс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лежа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ут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яза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ыкающиес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на, 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т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амень) п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кнов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99E-33FB-4295-A942-0B99E07D5C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ПРИ- и ПРЕ-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бавный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учать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лой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рение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казка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луга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лоняться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рительный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лужник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нтересный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сподняя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лать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какать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едать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омиться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мущество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матривать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миреть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стный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расный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ниться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мотреться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ореть, п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ног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F51-1DCB-4148-B6AD-0FAFD8DEE7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ПРИ- и ПРЕ-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(проверка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забавный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учать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злой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зрение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казка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луга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лоняться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зрительный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лужник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нтересный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сподняя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лать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какать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едать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ломиться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мущество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матривать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миреть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лестный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расный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ниться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смотреться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гореть, пр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мног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9A5-1B17-4E4A-80CE-94A573E42B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я приставки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ПРИ-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Приближ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Присоедин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Прибавл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) Нахождение вблиз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) Доведение действия до конц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) Совершение действия в чьи-либо интереса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29200" y="220968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D57-2330-4E72-B386-89E99A984C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я приставки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ПРИ-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хать ( 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ятать (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вор (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рожный (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оить ( 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вать (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в ( 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32763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A1B-E93B-4E24-9DB7-57853FD0D4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я приставки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ПРИ-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ить (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ить (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ратник (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ушить (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рманить (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совать (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рзнуть (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ыть (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352680" cy="32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457-F6DE-42C6-A488-A445F250E6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начения приставки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ПРИ-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(проверка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хать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ятать (6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вор (5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рожный (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оить (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вать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в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352680" cy="335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648-2CA5-4809-ABAB-D189E12AD5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начения приставки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ПРИ-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(проверка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шить (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бить (3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вратник (4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душить (5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карманить (6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рисовать (3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мерзнуть (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при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плыть (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35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BE7-1BFE-468C-A586-FF49DA883E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я приставки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ПРЕ-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 = «очень», «чрезвычайно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= «пере-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24E-9F4F-4958-B080-177B55D57F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я приставки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ПРЕ-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Пр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приятный ( 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Пр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ываться ( 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Пр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хорошенький ( 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Пр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юбопытный ( 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Пр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долевать ( 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Пр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тарелый ( 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887-A5B7-4313-BE38-89A918AC2D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начения приставки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ПРЕ-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(проверка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Пр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приятный (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Пр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ываться (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Пр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хорошенький (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Пр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юбопытный (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Пр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долевать (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Times New Roman"/>
              </a:rPr>
              <a:t>Пр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тарелый (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401-1CAB-422A-B913-0CAE80CB4D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0-01-08T08:56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