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BEB-8B48-4219-9EFE-26B485F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013-095B-4BF5-9E69-6C6D292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90B-BB81-4DED-A1AA-7570AA8B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0ED-62FE-4985-965B-ED23B683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D1AF-7041-490B-8057-5150AF8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AB6-3859-49A5-8A0C-C9D7279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7BF-9278-4DE6-AA9F-DFD0350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B35-9A0A-4ECE-8413-CD0B1029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8FF9-DB59-4066-B57E-34A3EB37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DC4-737E-45B9-87F8-3BE22CB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F453-A2B8-4F61-81E4-6295CB5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9D1-D167-4DA6-A289-C0A16A0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0691-6772-4D8D-96FA-FCABDEE2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B85E-63B4-49CA-8EB4-A7C184A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415-849F-48BD-9733-5EF1C9E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5000-52F6-4C97-BC07-B8FEAD4B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6B7E-367C-4F07-AD01-03769088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BCEC-DD0A-4E42-985C-B0368F96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0C4D-E75A-4826-BFF0-D2C0C3B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D419-9B4A-4026-B8B6-04D1AD5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6BA4-C96E-4D12-BA69-C1321C0F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C4D3-1053-4C50-B208-51F4454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61D-8520-404F-B75A-19243BB2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F2CF-1877-4881-BBE0-149C623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6BFC-CDAF-4BC2-AC15-2740D2C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F47B-3CC4-4909-ABE5-D7EFC98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D3AA-0018-480E-B71D-111D23B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701B-47DB-425C-A13E-91CA5513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2E16-7888-4243-A9B4-B72D76D7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6B8A-11F2-4D38-B9FB-619A1FAD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01A2-0DD1-403A-8EC4-0FCBE358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93EB-73C7-4C9F-B54D-6724C47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C7C5-4DEB-47F0-A75F-818BEE5A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3DD-D3A5-4F81-AF04-DBFB2210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7AB7-8CED-4C74-88F9-0BCE81E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66A4-8C20-42D1-BDDE-1EDC082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2F9D-EAB8-47AE-9F75-863AE7C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4C75-7BD6-40A8-9ECD-CE352BE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3C3F-637A-4AF9-AA8B-BE4C02F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3337-A545-4119-B834-E49EE47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841A2-DFC9-46A5-95BA-27C5F68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92F0-438F-4D3F-B543-166AC890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298A-8E80-4D4F-B55A-DC0DF33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1646-FF05-47D7-9861-C164B0E8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95F-D05E-4437-A55E-C1A6B648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AE4A9-44B1-4428-882E-ADD0F64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A7D3-C21D-4094-832B-A03567B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3B61-2C23-4369-89FD-C9C13F1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E8FD-C2AA-4EE8-89A5-B55FDF8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847F-8316-42D3-BECA-5C684F0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4C14-CD6D-4289-BC60-2B2CBD7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05DA3-058F-4AC4-AA0F-629AF0E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5196-9C6B-46F9-A733-E52AC8E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1505-8FD3-4BEA-8DE3-2F3CD2B9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83E9E-A126-4A97-9E32-47ABF7BB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89D-0A1C-4953-943F-0F2C69E6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02CB8-5889-4D23-B3A2-1DC36EAA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0077-6077-4C35-A836-05754257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C4F7-45C6-463D-A1CA-8CCB4E8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D050-1B04-4DB0-9070-88040EA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39D6D-D1D3-4AD7-A9A5-7395809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F5EF-3508-49C2-A00B-C76A8A1E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6BDC-E8C8-438B-BFBC-5B6A8B59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BD387-58A4-4A4D-B839-D51028B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5218-745B-4DBF-A403-665E8CA6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5FA5A-E74D-40DE-9BFC-83F115A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969-8CEE-4FDB-9FF3-74C89AD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3786-AF9D-48D7-A92B-975E02D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EA642-B5FD-43C4-9917-FF672297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4277-8531-42FB-ACF1-23F7E8E4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289A-AF8A-4279-92C3-B090185B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F615-2DA9-4953-849F-138125F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74FB-044F-484C-B263-A3814B1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17B64-1CCF-41B0-B8F5-73AC079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25F7-F214-487E-A1FE-FDB0097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AD11-36A8-408A-847D-AF41432B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D25DC-B83F-4913-8C95-C386DF3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D56-3AF1-4FC1-AD9E-62F6C2D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E046-4FAD-477E-9D9F-80A51887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14CB-4F0F-4241-8920-AFC7C42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61CEF-8EEC-4970-BDC8-ED299B7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2C93-E9E2-41F3-A585-0316C2D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4955C-26D1-42B1-BA37-14714AE4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4C1-4029-4BC6-A84B-AE4372C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8DFB-0150-4F18-98B2-63EBEF1259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5CA-B190-479C-83CE-1BF708C234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3C8-8975-4BB2-9FE4-8B076FF1F68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758A-C7C2-48E3-AB56-0CC06D9D6D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31C-4ACD-47E3-9C8F-59319682E3B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4166-7EFC-4B68-B7D7-5D2A86EE8BE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9643-2299-44EA-8C1B-A7724BF675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ГБОУ Школа № 2120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структурное подразделение №7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дуктив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Цветик-семицветик» 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067280" y="4149720"/>
            <a:ext cx="4752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Изготовили дети старшей группы и воспитатели: Ариткулова Д.В., Соколова Ю.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3116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7880" y="2349000"/>
            <a:ext cx="381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 Из полученных жгутиков делаем нашу аппликацию. Берем жгутик определенного цвета и по контуру, заранее нарисованному, выкладываем лепестки, стебель, листочки цветика-семицветика и траву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Объект 2" descr=""/>
          <p:cNvPicPr/>
          <p:nvPr/>
        </p:nvPicPr>
        <p:blipFill>
          <a:blip r:embed="rId1"/>
          <a:stretch/>
        </p:blipFill>
        <p:spPr>
          <a:xfrm>
            <a:off x="4932360" y="2611440"/>
            <a:ext cx="3672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ndara"/>
              </a:rPr>
              <a:t>Итог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Объект 7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335560" cy="37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Цель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вивать художественно-творческие способности и фантазию детей, учить лепить новым способом лепки – жгутиковы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Задач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2708280"/>
            <a:ext cx="88567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Обучить новому приему работы с пластилином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познавательные и творческие способности детей, интерес, любознательност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мелкую моторику рук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оспитывать усидчивость, аккуратность, эстетический вкус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Оборудование и материалы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Объект 2" descr=""/>
          <p:cNvPicPr/>
          <p:nvPr/>
        </p:nvPicPr>
        <p:blipFill>
          <a:blip r:embed="rId1"/>
          <a:stretch/>
        </p:blipFill>
        <p:spPr>
          <a:xfrm>
            <a:off x="371520" y="2401920"/>
            <a:ext cx="8448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Берем пластилин 7 основных цветов и режем стекой пластилин на маленькие части, чтобы они убирались в шприц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5" descr=""/>
          <p:cNvPicPr/>
          <p:nvPr/>
        </p:nvPicPr>
        <p:blipFill>
          <a:blip r:embed="rId1"/>
          <a:stretch/>
        </p:blipFill>
        <p:spPr>
          <a:xfrm>
            <a:off x="4500720" y="285264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Открываем поршень и помещаем пластилин в шприцы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5" descr=""/>
          <p:cNvPicPr/>
          <p:nvPr/>
        </p:nvPicPr>
        <p:blipFill>
          <a:blip r:embed="rId1"/>
          <a:stretch/>
        </p:blipFill>
        <p:spPr>
          <a:xfrm>
            <a:off x="4572000" y="2816280"/>
            <a:ext cx="44053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Далее помещаем шприцы в горячую воду, держим не слишком долго так как у пластилина есть свойство тая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Объект 5" descr=""/>
          <p:cNvPicPr/>
          <p:nvPr/>
        </p:nvPicPr>
        <p:blipFill>
          <a:blip r:embed="rId1"/>
          <a:stretch/>
        </p:blipFill>
        <p:spPr>
          <a:xfrm>
            <a:off x="4500720" y="278136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4360" y="278100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 Затем медленно из шприца выдавливаем пластилин на гладкую поверхность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5" name="Объект 7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7800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313080" cy="3963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 Получаются вот такие красивые и аккуратные жгути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17:24:44Z</dcterms:created>
  <dc:creator>Кудряшка</dc:creator>
  <dc:description/>
  <dc:language>en-US</dc:language>
  <cp:lastModifiedBy>Abyssal Devil</cp:lastModifiedBy>
  <dcterms:modified xsi:type="dcterms:W3CDTF">2020-04-06T13:45:46Z</dcterms:modified>
  <cp:revision>34</cp:revision>
  <dc:subject/>
  <dc:title>ГБОУ Школа № 2120  Продуктивная деятельность Книга «Времена года»</dc:title>
</cp:coreProperties>
</file>