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012-B763-459C-A032-CD2B879C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D2E-9A73-4EF6-A603-F06B4DED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6D2-7A8C-4A96-AEC9-85DAE54B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1A5-743F-45E8-BDD7-CD63E9BF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45B-9AA3-4349-A281-281E77FF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A5A-5DB8-4320-BA7A-1D6EAD78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98E-582A-449D-895A-DF8AFD4A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F33-D176-41F4-B45E-FCC357D9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B09-2E14-4B0C-A1C6-E5C3E043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20D-49E0-410E-9186-EABE70A5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D8E-8C6D-49B5-BB09-46019653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F17-05EE-4F7B-B052-84C1338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E128-029E-489F-873C-EC3CA1CAD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БУС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дравствуй, мой юный друг!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подготовил для тебя несколько ребусов. Реши их и справа появится верный ответ.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аю удач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вася\Desktop\6db61ffe723145c6f61e1c32b4a51d45 — копия.jpg"/>
          <p:cNvPicPr/>
          <p:nvPr/>
        </p:nvPicPr>
        <p:blipFill>
          <a:blip r:embed="rId1"/>
          <a:stretch/>
        </p:blipFill>
        <p:spPr>
          <a:xfrm>
            <a:off x="208080" y="14400"/>
            <a:ext cx="3816360" cy="187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вася\Desktop\ebef84a0800310eb0383d528994de1e0.jpg"/>
          <p:cNvPicPr/>
          <p:nvPr/>
        </p:nvPicPr>
        <p:blipFill>
          <a:blip r:embed="rId2"/>
          <a:stretch/>
        </p:blipFill>
        <p:spPr>
          <a:xfrm>
            <a:off x="453960" y="4581360"/>
            <a:ext cx="3816360" cy="184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вася\Desktop\ebef84a0800310eb0383d528994de1e0 — копия.jpg"/>
          <p:cNvPicPr/>
          <p:nvPr/>
        </p:nvPicPr>
        <p:blipFill>
          <a:blip r:embed="rId3"/>
          <a:stretch/>
        </p:blipFill>
        <p:spPr>
          <a:xfrm>
            <a:off x="468360" y="2306520"/>
            <a:ext cx="3787560" cy="20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вася\Desktop\56ed109c6a1ae1538e08e313.png"/>
          <p:cNvPicPr/>
          <p:nvPr/>
        </p:nvPicPr>
        <p:blipFill>
          <a:blip r:embed="rId4"/>
          <a:stretch/>
        </p:blipFill>
        <p:spPr>
          <a:xfrm>
            <a:off x="6948360" y="4581360"/>
            <a:ext cx="1927440" cy="187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вася\Desktop\stork_PNG29.png"/>
          <p:cNvPicPr/>
          <p:nvPr/>
        </p:nvPicPr>
        <p:blipFill>
          <a:blip r:embed="rId5"/>
          <a:stretch/>
        </p:blipFill>
        <p:spPr>
          <a:xfrm>
            <a:off x="6892920" y="233280"/>
            <a:ext cx="1927080" cy="175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вася\Desktop\403-71.png"/>
          <p:cNvPicPr/>
          <p:nvPr/>
        </p:nvPicPr>
        <p:blipFill>
          <a:blip r:embed="rId6"/>
          <a:stretch/>
        </p:blipFill>
        <p:spPr>
          <a:xfrm>
            <a:off x="6875640" y="2316240"/>
            <a:ext cx="218088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ец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0T15:02:28Z</dcterms:created>
  <dc:creator>вася</dc:creator>
  <dc:description/>
  <dc:language>en-US</dc:language>
  <cp:lastModifiedBy>ASUS</cp:lastModifiedBy>
  <dcterms:modified xsi:type="dcterms:W3CDTF">2020-03-24T08:36:56Z</dcterms:modified>
  <cp:revision>13</cp:revision>
  <dc:subject/>
  <dc:title>Презентация PowerPoint</dc:title>
</cp:coreProperties>
</file>