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BFE0A-498B-4231-BE23-74C0D9FC3B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4DF18-EBFE-4E9C-A4AD-40C2A9BBC6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E6E58-92D6-4CD0-B9C7-84332375D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11004-BCA1-4242-9861-9559C3DD44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8FE9B-1400-4EDD-8BDE-AB207D8816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36367-7268-43FE-9E69-AD3C56CAB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49C3E-8D4E-4159-9ABF-898CA56537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1D1A3-715F-4E8B-8132-822E59A495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E9CFB-5099-41C6-B4C7-E3DB9892B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419FF-B7D2-4E4F-BE6A-9C97BBE68A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38856-8E1E-4384-86EE-49340DAA0F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3360E-D132-4C73-943B-8478CA7CF0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ADA35-38EF-45E0-BA8A-9F0DED23C7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1A8D-DAAF-4E4A-8248-37624ABE11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4DE8-A4B7-4383-9F30-E0E0C42C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E65F-27EE-4ECF-A373-6253695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B4B2-8BA8-4FB2-9467-7A405AFF5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F978-A007-4B1A-95C0-A614C5DA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4A57-B680-4094-A2F6-65F7DA2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0A80-255B-4D77-A780-D58388CB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D6D9-4E45-4315-97A2-C0104595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6F84-4D46-4683-AE28-3C3DB544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D792-1838-40E9-937E-22E402CD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1B32-0E4C-4CE6-8615-72519DBE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11F7-B808-4FB4-AA8D-3563F728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63234-7802-4ED4-9201-A16642D2AD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1"/>
          <p:cNvSpPr/>
          <p:nvPr/>
        </p:nvSpPr>
        <p:spPr>
          <a:xfrm>
            <a:off x="214200" y="2286000"/>
            <a:ext cx="1357560" cy="1571760"/>
          </a:xfrm>
          <a:prstGeom prst="ellipse">
            <a:avLst/>
          </a:prstGeom>
          <a:solidFill>
            <a:srgbClr val="604a7b">
              <a:alpha val="92000"/>
            </a:srgbClr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754280" cy="107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286000" y="1865160"/>
            <a:ext cx="6205680" cy="11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2975040" y="2736720"/>
            <a:ext cx="4821120" cy="1847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8760" y="4143240"/>
            <a:ext cx="8715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оотношения между множествами приня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ллюстрировать с помощью круг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и  круги называют кругами Эйле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 имени ученого, который придум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етод решения задач с их помощ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642960" y="1714680"/>
            <a:ext cx="1571760" cy="1357200"/>
          </a:xfrm>
          <a:prstGeom prst="ellipse">
            <a:avLst/>
          </a:prstGeom>
          <a:solidFill>
            <a:srgbClr val="c6d9f1">
              <a:alpha val="50000"/>
            </a:srgbClr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1143000" y="2571840"/>
            <a:ext cx="1643040" cy="1285920"/>
          </a:xfrm>
          <a:prstGeom prst="ellipse">
            <a:avLst/>
          </a:prstGeom>
          <a:solidFill>
            <a:srgbClr val="e46c0a">
              <a:alpha val="43000"/>
            </a:srgbClr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Calibri Light"/>
                <a:ea typeface="Times New Roman"/>
              </a:rPr>
              <a:t>Задание . </a:t>
            </a:r>
            <a:r>
              <a:rPr b="0" lang="ru-RU" sz="2600" spc="-1" strike="noStrike">
                <a:solidFill>
                  <a:srgbClr val="333333"/>
                </a:solidFill>
                <a:latin typeface="Calibri"/>
                <a:ea typeface="Times New Roman"/>
              </a:rPr>
              <a:t>На полке стояло 25 волшебных книг по заклинаниям, все они были прочитаны Гермионой, Гарри Поттером или Роно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680" indent="0"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не было не одной книги, которую бы прочитали вс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680" indent="0"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 книги прочитали и Гарри Поттер, и Ро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680" indent="0"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рмиона прочитала 7 книг, которых не читали ни Гарри Поттер, ни Рон, и две книги, которые читал Гарри Поттер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680" indent="0"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Calibri"/>
                <a:ea typeface="Times New Roman"/>
              </a:rPr>
              <a:t>Всего  Гарри Поттер прочитал 11 книг. Сколько книг прочитали  только Гарри Поттер и только Рон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Calibri"/>
                <a:ea typeface="Times New Roman"/>
              </a:rPr>
              <a:t>1.</a:t>
            </a:r>
            <a:r>
              <a:rPr b="0" lang="en-US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 Обозначим: P- </a:t>
            </a: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множество книг, </a:t>
            </a:r>
            <a:br>
              <a:rPr sz="2200"/>
            </a:b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очитанных Гарри Поттером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R-множество книг, </a:t>
            </a:r>
            <a:br>
              <a:rPr sz="2200"/>
            </a:b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очитанных Рон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G- множество книг,</a:t>
            </a:r>
            <a:br>
              <a:rPr sz="2200"/>
            </a:b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 прочитанных  Гермио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2. Расставим известные данные в круги Эйл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3.  Найдем количество книг, которые прочитал только Гарри Поттер:   </a:t>
            </a: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11 - 4 - 2 = 5 книг.</a:t>
            </a:r>
            <a:br>
              <a:rPr sz="2200"/>
            </a:b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6. А теперь, чтобы узнать количество прочитанных книг только Роном, нужно из всего количества книг вычесть известное количество прочитанных книг:</a:t>
            </a:r>
            <a:br>
              <a:rPr sz="2200"/>
            </a:b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33333"/>
                </a:solidFill>
                <a:latin typeface="Calibri"/>
                <a:ea typeface="Times New Roman"/>
              </a:rPr>
              <a:t>25 ― (11+7)= 7 книг прочел только Ро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2"/>
          <p:cNvSpPr/>
          <p:nvPr/>
        </p:nvSpPr>
        <p:spPr>
          <a:xfrm>
            <a:off x="4464000" y="2016000"/>
            <a:ext cx="1800360" cy="1584360"/>
          </a:xfrm>
          <a:prstGeom prst="ellipse">
            <a:avLst/>
          </a:prstGeom>
          <a:noFill/>
          <a:ln w="72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6840360" y="2087640"/>
            <a:ext cx="1800360" cy="1584360"/>
          </a:xfrm>
          <a:prstGeom prst="ellipse">
            <a:avLst/>
          </a:prstGeom>
          <a:noFill/>
          <a:ln w="72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5616720" y="2087640"/>
            <a:ext cx="1800000" cy="1584360"/>
          </a:xfrm>
          <a:prstGeom prst="ellipse">
            <a:avLst/>
          </a:prstGeom>
          <a:noFill/>
          <a:ln w="72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40360" y="2232000"/>
            <a:ext cx="360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335640" y="2303640"/>
            <a:ext cx="360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632720" y="2303640"/>
            <a:ext cx="431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848720" y="2808360"/>
            <a:ext cx="360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983280" y="2664000"/>
            <a:ext cx="287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759280" y="2592360"/>
            <a:ext cx="360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4751280" y="3381480"/>
            <a:ext cx="1800360" cy="13716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 flipV="1">
            <a:off x="3672000" y="3020760"/>
            <a:ext cx="1439640" cy="29559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408720" y="2879640"/>
            <a:ext cx="287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1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040360" y="2627280"/>
            <a:ext cx="431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19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757080" y="1735200"/>
            <a:ext cx="6442200" cy="114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3"/>
          <a:stretch/>
        </p:blipFill>
        <p:spPr>
          <a:xfrm>
            <a:off x="428760" y="3000240"/>
            <a:ext cx="4741560" cy="3548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4"/>
          <a:stretch/>
        </p:blipFill>
        <p:spPr>
          <a:xfrm>
            <a:off x="5419800" y="2000160"/>
            <a:ext cx="37242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14240" y="1482840"/>
            <a:ext cx="5857920" cy="13129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cap="sq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еонардо Эйлер (1707 – 178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12800" cy="1500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71680" y="2714760"/>
            <a:ext cx="76435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енитый математик, механик, физик и астроном, Л.Эйлер родился в 1707 году, он вырос в Швейцарии, а работал в основном в России и Германии. За свою жизнь Л.Эйлер написал более 850 научных работ. В одной из них и появились круги, которые, по его словам, «очень подходят для того, чтобы облегчить наши размыш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ассмотрим, действительно ли это так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28760" y="1343160"/>
            <a:ext cx="7929360" cy="19224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cap="sq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пишем на символическом языке соотношения между множеств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12800" cy="1500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71680" y="3143160"/>
            <a:ext cx="76435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 и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 и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 и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, В и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5072040" y="3286080"/>
            <a:ext cx="3000240" cy="2643120"/>
          </a:xfrm>
          <a:prstGeom prst="ellipse">
            <a:avLst/>
          </a:prstGeom>
          <a:noFill/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500800" y="3857760"/>
            <a:ext cx="2357280" cy="1785960"/>
          </a:xfrm>
          <a:prstGeom prst="ellipse">
            <a:avLst/>
          </a:prstGeom>
          <a:noFill/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6643800" y="4143240"/>
            <a:ext cx="1071360" cy="1214640"/>
          </a:xfrm>
          <a:prstGeom prst="ellipse">
            <a:avLst/>
          </a:prstGeom>
          <a:noFill/>
          <a:ln cap="sq"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35760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78592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929280" y="457200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643120" y="3214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571840" y="392904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500200" y="457200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57184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 rot="16200000">
            <a:off x="3154320" y="3196800"/>
            <a:ext cx="285480" cy="606240"/>
          </a:xfrm>
          <a:custGeom>
            <a:avLst/>
            <a:gdLst>
              <a:gd name="textAreaLeft" fmla="*/ 0 w 285480"/>
              <a:gd name="textAreaRight" fmla="*/ 285840 w 285480"/>
              <a:gd name="textAreaTop" fmla="*/ 0 h 606240"/>
              <a:gd name="textAreaBottom" fmla="*/ 303120 h 606240"/>
            </a:gdLst>
            <a:ahLst/>
            <a:rect l="textAreaLeft" t="textAreaTop" r="textAreaRight" b="textAreaBottom"/>
            <a:pathLst>
              <a:path w="285750" h="606425">
                <a:moveTo>
                  <a:pt x="0" y="303212"/>
                </a:moveTo>
                <a:lnTo>
                  <a:pt x="0" y="303212"/>
                </a:lnTo>
                <a:cubicBezTo>
                  <a:pt x="0" y="135752"/>
                  <a:pt x="63967" y="-1"/>
                  <a:pt x="142875" y="-1"/>
                </a:cubicBezTo>
                <a:cubicBezTo>
                  <a:pt x="221782" y="-1"/>
                  <a:pt x="285750" y="135752"/>
                  <a:pt x="285750" y="303211"/>
                </a:cubicBezTo>
                <a:lnTo>
                  <a:pt x="214313" y="303213"/>
                </a:lnTo>
                <a:cubicBezTo>
                  <a:pt x="214313" y="175207"/>
                  <a:pt x="182329" y="71438"/>
                  <a:pt x="142875" y="71438"/>
                </a:cubicBezTo>
                <a:cubicBezTo>
                  <a:pt x="103420" y="71438"/>
                  <a:pt x="71437" y="175207"/>
                  <a:pt x="71437" y="303213"/>
                </a:cubicBezTo>
                <a:lnTo>
                  <a:pt x="0" y="303212"/>
                </a:lnTo>
                <a:close/>
              </a:path>
            </a:pathLst>
          </a:cu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 rot="16200000">
            <a:off x="3154320" y="3911760"/>
            <a:ext cx="285840" cy="606240"/>
          </a:xfrm>
          <a:custGeom>
            <a:avLst/>
            <a:gdLst>
              <a:gd name="textAreaLeft" fmla="*/ 0 w 285840"/>
              <a:gd name="textAreaRight" fmla="*/ 286200 w 285840"/>
              <a:gd name="textAreaTop" fmla="*/ 0 h 606240"/>
              <a:gd name="textAreaBottom" fmla="*/ 303120 h 606240"/>
            </a:gdLst>
            <a:ahLst/>
            <a:rect l="textAreaLeft" t="textAreaTop" r="textAreaRight" b="textAreaBottom"/>
            <a:pathLst>
              <a:path w="285750" h="606425">
                <a:moveTo>
                  <a:pt x="0" y="303212"/>
                </a:moveTo>
                <a:lnTo>
                  <a:pt x="0" y="303212"/>
                </a:lnTo>
                <a:cubicBezTo>
                  <a:pt x="0" y="135752"/>
                  <a:pt x="63967" y="-1"/>
                  <a:pt x="142875" y="-1"/>
                </a:cubicBezTo>
                <a:cubicBezTo>
                  <a:pt x="221782" y="-1"/>
                  <a:pt x="285750" y="135752"/>
                  <a:pt x="285750" y="303211"/>
                </a:cubicBezTo>
                <a:lnTo>
                  <a:pt x="214313" y="303213"/>
                </a:lnTo>
                <a:cubicBezTo>
                  <a:pt x="214313" y="175207"/>
                  <a:pt x="182329" y="71438"/>
                  <a:pt x="142875" y="71438"/>
                </a:cubicBezTo>
                <a:cubicBezTo>
                  <a:pt x="103420" y="71438"/>
                  <a:pt x="71437" y="175207"/>
                  <a:pt x="71437" y="303213"/>
                </a:cubicBezTo>
                <a:lnTo>
                  <a:pt x="0" y="303212"/>
                </a:lnTo>
                <a:close/>
              </a:path>
            </a:pathLst>
          </a:cu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 rot="16200000">
            <a:off x="3154320" y="4554720"/>
            <a:ext cx="285840" cy="606240"/>
          </a:xfrm>
          <a:custGeom>
            <a:avLst/>
            <a:gdLst>
              <a:gd name="textAreaLeft" fmla="*/ 0 w 285840"/>
              <a:gd name="textAreaRight" fmla="*/ 286200 w 285840"/>
              <a:gd name="textAreaTop" fmla="*/ 0 h 606240"/>
              <a:gd name="textAreaBottom" fmla="*/ 303120 h 606240"/>
            </a:gdLst>
            <a:ahLst/>
            <a:rect l="textAreaLeft" t="textAreaTop" r="textAreaRight" b="textAreaBottom"/>
            <a:pathLst>
              <a:path w="285750" h="606425">
                <a:moveTo>
                  <a:pt x="0" y="303212"/>
                </a:moveTo>
                <a:lnTo>
                  <a:pt x="0" y="303212"/>
                </a:lnTo>
                <a:cubicBezTo>
                  <a:pt x="0" y="135752"/>
                  <a:pt x="63967" y="-1"/>
                  <a:pt x="142875" y="-1"/>
                </a:cubicBezTo>
                <a:cubicBezTo>
                  <a:pt x="221782" y="-1"/>
                  <a:pt x="285750" y="135752"/>
                  <a:pt x="285750" y="303211"/>
                </a:cubicBezTo>
                <a:lnTo>
                  <a:pt x="214313" y="303213"/>
                </a:lnTo>
                <a:cubicBezTo>
                  <a:pt x="214313" y="175207"/>
                  <a:pt x="182329" y="71438"/>
                  <a:pt x="142875" y="71438"/>
                </a:cubicBezTo>
                <a:cubicBezTo>
                  <a:pt x="103420" y="71438"/>
                  <a:pt x="71437" y="175207"/>
                  <a:pt x="71437" y="303213"/>
                </a:cubicBezTo>
                <a:lnTo>
                  <a:pt x="0" y="303212"/>
                </a:lnTo>
                <a:close/>
              </a:path>
            </a:pathLst>
          </a:cu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7"/>
          <p:cNvSpPr/>
          <p:nvPr/>
        </p:nvSpPr>
        <p:spPr>
          <a:xfrm rot="16200000">
            <a:off x="3154320" y="5268960"/>
            <a:ext cx="285840" cy="606240"/>
          </a:xfrm>
          <a:custGeom>
            <a:avLst/>
            <a:gdLst>
              <a:gd name="textAreaLeft" fmla="*/ 0 w 285840"/>
              <a:gd name="textAreaRight" fmla="*/ 286200 w 285840"/>
              <a:gd name="textAreaTop" fmla="*/ 0 h 606240"/>
              <a:gd name="textAreaBottom" fmla="*/ 303120 h 606240"/>
            </a:gdLst>
            <a:ahLst/>
            <a:rect l="textAreaLeft" t="textAreaTop" r="textAreaRight" b="textAreaBottom"/>
            <a:pathLst>
              <a:path w="285750" h="606425">
                <a:moveTo>
                  <a:pt x="0" y="303212"/>
                </a:moveTo>
                <a:lnTo>
                  <a:pt x="0" y="303212"/>
                </a:lnTo>
                <a:cubicBezTo>
                  <a:pt x="0" y="135752"/>
                  <a:pt x="63967" y="-1"/>
                  <a:pt x="142875" y="-1"/>
                </a:cubicBezTo>
                <a:cubicBezTo>
                  <a:pt x="221782" y="-1"/>
                  <a:pt x="285750" y="135752"/>
                  <a:pt x="285750" y="303211"/>
                </a:cubicBezTo>
                <a:lnTo>
                  <a:pt x="214313" y="303213"/>
                </a:lnTo>
                <a:cubicBezTo>
                  <a:pt x="214313" y="175207"/>
                  <a:pt x="182329" y="71438"/>
                  <a:pt x="142875" y="71438"/>
                </a:cubicBezTo>
                <a:cubicBezTo>
                  <a:pt x="103420" y="71438"/>
                  <a:pt x="71437" y="175207"/>
                  <a:pt x="71437" y="303213"/>
                </a:cubicBezTo>
                <a:lnTo>
                  <a:pt x="0" y="303212"/>
                </a:lnTo>
                <a:close/>
              </a:path>
            </a:pathLst>
          </a:cu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 rot="16200000">
            <a:off x="4083480" y="5267880"/>
            <a:ext cx="285840" cy="608040"/>
          </a:xfrm>
          <a:custGeom>
            <a:avLst/>
            <a:gdLst>
              <a:gd name="textAreaLeft" fmla="*/ 0 w 285840"/>
              <a:gd name="textAreaRight" fmla="*/ 286200 w 285840"/>
              <a:gd name="textAreaTop" fmla="*/ 0 h 608040"/>
              <a:gd name="textAreaBottom" fmla="*/ 304200 h 608040"/>
            </a:gdLst>
            <a:ahLst/>
            <a:rect l="textAreaLeft" t="textAreaTop" r="textAreaRight" b="textAreaBottom"/>
            <a:pathLst>
              <a:path w="285750" h="608012">
                <a:moveTo>
                  <a:pt x="0" y="304006"/>
                </a:moveTo>
                <a:lnTo>
                  <a:pt x="0" y="304006"/>
                </a:lnTo>
                <a:cubicBezTo>
                  <a:pt x="0" y="136108"/>
                  <a:pt x="63967" y="0"/>
                  <a:pt x="142875" y="0"/>
                </a:cubicBezTo>
                <a:cubicBezTo>
                  <a:pt x="221782" y="0"/>
                  <a:pt x="285750" y="136108"/>
                  <a:pt x="285750" y="304005"/>
                </a:cubicBezTo>
                <a:lnTo>
                  <a:pt x="214313" y="304006"/>
                </a:lnTo>
                <a:cubicBezTo>
                  <a:pt x="214313" y="175561"/>
                  <a:pt x="182329" y="71437"/>
                  <a:pt x="142875" y="71437"/>
                </a:cubicBezTo>
                <a:cubicBezTo>
                  <a:pt x="103420" y="71437"/>
                  <a:pt x="71437" y="175561"/>
                  <a:pt x="71437" y="304006"/>
                </a:cubicBezTo>
                <a:lnTo>
                  <a:pt x="0" y="304006"/>
                </a:lnTo>
                <a:close/>
              </a:path>
            </a:pathLst>
          </a:cu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8760" y="600084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является подмножеством  множества В, а В является подмножеством  множества 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000080" y="1306440"/>
            <a:ext cx="6643800" cy="17398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cap="sq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Monotype Corsiva"/>
                <a:ea typeface="Times New Roman"/>
              </a:rPr>
              <a:t>Пересечение   множест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12800" cy="1500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14200" y="2857680"/>
            <a:ext cx="371484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ересечение множеств А и В - это множество, состоящее из элементов, входящих  одновременно в А и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ересечение  А и В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писывают с помощью симво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   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4143240" y="2857680"/>
            <a:ext cx="3143520" cy="2071440"/>
          </a:xfrm>
          <a:prstGeom prst="ellipse">
            <a:avLst/>
          </a:prstGeom>
          <a:solidFill>
            <a:srgbClr val="8eb4e3">
              <a:alpha val="56000"/>
            </a:srgbClr>
          </a:solidFill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286680" y="2714760"/>
            <a:ext cx="2000160" cy="2857320"/>
          </a:xfrm>
          <a:prstGeom prst="ellipse">
            <a:avLst/>
          </a:prstGeom>
          <a:solidFill>
            <a:srgbClr val="e6b9b8">
              <a:alpha val="50000"/>
            </a:srgbClr>
          </a:solidFill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5718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14960" y="342900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357960" y="3929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   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715080" y="4000680"/>
            <a:ext cx="142920" cy="428400"/>
          </a:xfrm>
          <a:custGeom>
            <a:avLst/>
            <a:gdLst>
              <a:gd name="textAreaLeft" fmla="*/ 0 w 142920"/>
              <a:gd name="textAreaRight" fmla="*/ 143280 w 142920"/>
              <a:gd name="textAreaTop" fmla="*/ 0 h 428400"/>
              <a:gd name="textAreaBottom" fmla="*/ 214200 h 428400"/>
            </a:gdLst>
            <a:ahLst/>
            <a:rect l="textAreaLeft" t="textAreaTop" r="textAreaRight" b="textAreaBottom"/>
            <a:pathLst>
              <a:path w="142875" h="428625">
                <a:moveTo>
                  <a:pt x="0" y="214312"/>
                </a:moveTo>
                <a:lnTo>
                  <a:pt x="0" y="214312"/>
                </a:lnTo>
                <a:cubicBezTo>
                  <a:pt x="0" y="95950"/>
                  <a:pt x="31983" y="-1"/>
                  <a:pt x="71438" y="-1"/>
                </a:cubicBezTo>
                <a:cubicBezTo>
                  <a:pt x="110892" y="-1"/>
                  <a:pt x="142876" y="95950"/>
                  <a:pt x="142876" y="214311"/>
                </a:cubicBezTo>
                <a:lnTo>
                  <a:pt x="107156" y="214313"/>
                </a:lnTo>
                <a:cubicBezTo>
                  <a:pt x="107156" y="115678"/>
                  <a:pt x="91164" y="35719"/>
                  <a:pt x="71437" y="35719"/>
                </a:cubicBezTo>
                <a:cubicBezTo>
                  <a:pt x="51709" y="35719"/>
                  <a:pt x="35718" y="115678"/>
                  <a:pt x="35718" y="214312"/>
                </a:cubicBezTo>
                <a:lnTo>
                  <a:pt x="0" y="214312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785960" y="5429160"/>
            <a:ext cx="214200" cy="642960"/>
          </a:xfrm>
          <a:custGeom>
            <a:avLst/>
            <a:gdLst>
              <a:gd name="textAreaLeft" fmla="*/ 0 w 214200"/>
              <a:gd name="textAreaRight" fmla="*/ 214560 w 214200"/>
              <a:gd name="textAreaTop" fmla="*/ 0 h 642960"/>
              <a:gd name="textAreaBottom" fmla="*/ 321480 h 642960"/>
            </a:gdLst>
            <a:ahLst/>
            <a:rect l="textAreaLeft" t="textAreaTop" r="textAreaRight" b="textAreaBottom"/>
            <a:pathLst>
              <a:path w="214312" h="642938">
                <a:moveTo>
                  <a:pt x="0" y="321469"/>
                </a:moveTo>
                <a:lnTo>
                  <a:pt x="0" y="321469"/>
                </a:lnTo>
                <a:cubicBezTo>
                  <a:pt x="0" y="143926"/>
                  <a:pt x="47975" y="0"/>
                  <a:pt x="107156" y="0"/>
                </a:cubicBezTo>
                <a:cubicBezTo>
                  <a:pt x="166336" y="0"/>
                  <a:pt x="214312" y="143926"/>
                  <a:pt x="214312" y="321468"/>
                </a:cubicBezTo>
                <a:lnTo>
                  <a:pt x="160734" y="321469"/>
                </a:lnTo>
                <a:cubicBezTo>
                  <a:pt x="160734" y="173516"/>
                  <a:pt x="136746" y="53578"/>
                  <a:pt x="107156" y="53578"/>
                </a:cubicBezTo>
                <a:cubicBezTo>
                  <a:pt x="77565" y="53578"/>
                  <a:pt x="53578" y="173516"/>
                  <a:pt x="53578" y="321468"/>
                </a:cubicBezTo>
                <a:lnTo>
                  <a:pt x="0" y="321469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2714760" y="6215040"/>
            <a:ext cx="214200" cy="642960"/>
          </a:xfrm>
          <a:custGeom>
            <a:avLst/>
            <a:gdLst>
              <a:gd name="textAreaLeft" fmla="*/ 0 w 214200"/>
              <a:gd name="textAreaRight" fmla="*/ 214560 w 214200"/>
              <a:gd name="textAreaTop" fmla="*/ 0 h 642960"/>
              <a:gd name="textAreaBottom" fmla="*/ 321480 h 642960"/>
            </a:gdLst>
            <a:ahLst/>
            <a:rect l="textAreaLeft" t="textAreaTop" r="textAreaRight" b="textAreaBottom"/>
            <a:pathLst>
              <a:path w="214313" h="642937">
                <a:moveTo>
                  <a:pt x="0" y="321468"/>
                </a:moveTo>
                <a:lnTo>
                  <a:pt x="0" y="321468"/>
                </a:lnTo>
                <a:cubicBezTo>
                  <a:pt x="0" y="143925"/>
                  <a:pt x="47975" y="-1"/>
                  <a:pt x="107157" y="-1"/>
                </a:cubicBezTo>
                <a:cubicBezTo>
                  <a:pt x="166338" y="-1"/>
                  <a:pt x="214314" y="143925"/>
                  <a:pt x="214314" y="321467"/>
                </a:cubicBezTo>
                <a:lnTo>
                  <a:pt x="160735" y="321469"/>
                </a:lnTo>
                <a:cubicBezTo>
                  <a:pt x="160735" y="173517"/>
                  <a:pt x="136747" y="53579"/>
                  <a:pt x="107157" y="53579"/>
                </a:cubicBezTo>
                <a:cubicBezTo>
                  <a:pt x="77566" y="53579"/>
                  <a:pt x="53579" y="173517"/>
                  <a:pt x="53579" y="321468"/>
                </a:cubicBezTo>
                <a:lnTo>
                  <a:pt x="0" y="321468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AutoShape 12"/>
          <p:cNvCxnSpPr/>
          <p:nvPr/>
        </p:nvCxnSpPr>
        <p:spPr>
          <a:xfrm flipV="1">
            <a:off x="3214800" y="4428720"/>
            <a:ext cx="3358080" cy="1643760"/>
          </a:xfrm>
          <a:prstGeom prst="straightConnector1">
            <a:avLst/>
          </a:prstGeom>
          <a:ln cap="sq" w="381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000080" y="1306440"/>
            <a:ext cx="6643800" cy="17398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cap="sq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Monotype Corsiva"/>
                <a:ea typeface="Times New Roman"/>
              </a:rPr>
              <a:t>Пересечение   множест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12800" cy="1500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85840" y="2857680"/>
            <a:ext cx="421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усть  А = 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{ 2, 4, 6} , a B = { 2, 4, 6, 8, 10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ересечение множеств А и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     В  = 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5000760" y="2786040"/>
            <a:ext cx="3143160" cy="3286080"/>
          </a:xfrm>
          <a:prstGeom prst="ellipse">
            <a:avLst/>
          </a:prstGeom>
          <a:solidFill>
            <a:srgbClr val="8eb4e3">
              <a:alpha val="56000"/>
            </a:srgbClr>
          </a:solidFill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5643720" y="4000680"/>
            <a:ext cx="1714320" cy="1500120"/>
          </a:xfrm>
          <a:prstGeom prst="ellipse">
            <a:avLst/>
          </a:prstGeom>
          <a:solidFill>
            <a:srgbClr val="e6b9b8">
              <a:alpha val="50000"/>
            </a:srgbClr>
          </a:solidFill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571720" y="328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86680" y="471492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928800" y="4929120"/>
            <a:ext cx="214200" cy="642960"/>
          </a:xfrm>
          <a:custGeom>
            <a:avLst/>
            <a:gdLst>
              <a:gd name="textAreaLeft" fmla="*/ 0 w 214200"/>
              <a:gd name="textAreaRight" fmla="*/ 214560 w 214200"/>
              <a:gd name="textAreaTop" fmla="*/ 0 h 642960"/>
              <a:gd name="textAreaBottom" fmla="*/ 321480 h 642960"/>
            </a:gdLst>
            <a:ahLst/>
            <a:rect l="textAreaLeft" t="textAreaTop" r="textAreaRight" b="textAreaBottom"/>
            <a:pathLst>
              <a:path w="214312" h="642937">
                <a:moveTo>
                  <a:pt x="0" y="321468"/>
                </a:moveTo>
                <a:lnTo>
                  <a:pt x="0" y="321468"/>
                </a:lnTo>
                <a:cubicBezTo>
                  <a:pt x="0" y="143925"/>
                  <a:pt x="47975" y="-1"/>
                  <a:pt x="107156" y="-1"/>
                </a:cubicBezTo>
                <a:cubicBezTo>
                  <a:pt x="166336" y="-1"/>
                  <a:pt x="214312" y="143925"/>
                  <a:pt x="214312" y="321467"/>
                </a:cubicBezTo>
                <a:lnTo>
                  <a:pt x="160734" y="321469"/>
                </a:lnTo>
                <a:cubicBezTo>
                  <a:pt x="160734" y="173516"/>
                  <a:pt x="136746" y="53578"/>
                  <a:pt x="107156" y="53578"/>
                </a:cubicBezTo>
                <a:cubicBezTo>
                  <a:pt x="77565" y="53578"/>
                  <a:pt x="53578" y="173516"/>
                  <a:pt x="53578" y="321468"/>
                </a:cubicBezTo>
                <a:lnTo>
                  <a:pt x="0" y="321468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85880" y="1306440"/>
            <a:ext cx="6786360" cy="17398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cap="sq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Monotype Corsiva"/>
                <a:ea typeface="Times New Roman"/>
              </a:rPr>
              <a:t>Объединение   множест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12800" cy="1500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85840" y="2857680"/>
            <a:ext cx="4214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бъединением множеств А и</a:t>
            </a:r>
            <a:r>
              <a:rPr b="1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B 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зывают множество, состоящее из элементов, входящих  хотя бы в одно из множеств А или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бъединение множеств А и В обозначают символ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5000760" y="2786040"/>
            <a:ext cx="3143160" cy="3286080"/>
          </a:xfrm>
          <a:prstGeom prst="ellipse">
            <a:avLst/>
          </a:prstGeom>
          <a:solidFill>
            <a:srgbClr val="77933c">
              <a:alpha val="56000"/>
            </a:srgbClr>
          </a:solidFill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357800" y="5072040"/>
            <a:ext cx="2286000" cy="1643040"/>
          </a:xfrm>
          <a:prstGeom prst="ellipse">
            <a:avLst/>
          </a:prstGeom>
          <a:solidFill>
            <a:srgbClr val="fac090">
              <a:alpha val="50000"/>
            </a:srgbClr>
          </a:solidFill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571720" y="328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57880" y="592920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 flipV="1">
            <a:off x="3857760" y="4784760"/>
            <a:ext cx="214200" cy="714240"/>
          </a:xfrm>
          <a:custGeom>
            <a:avLst/>
            <a:gdLst>
              <a:gd name="textAreaLeft" fmla="*/ 0 w 214200"/>
              <a:gd name="textAreaRight" fmla="*/ 214560 w 21420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w="214313" h="714375">
                <a:moveTo>
                  <a:pt x="0" y="357187"/>
                </a:moveTo>
                <a:lnTo>
                  <a:pt x="0" y="357187"/>
                </a:lnTo>
                <a:cubicBezTo>
                  <a:pt x="0" y="159917"/>
                  <a:pt x="47975" y="-1"/>
                  <a:pt x="107157" y="-1"/>
                </a:cubicBezTo>
                <a:cubicBezTo>
                  <a:pt x="166338" y="-1"/>
                  <a:pt x="214314" y="159917"/>
                  <a:pt x="214314" y="357186"/>
                </a:cubicBezTo>
                <a:lnTo>
                  <a:pt x="160735" y="357188"/>
                </a:lnTo>
                <a:cubicBezTo>
                  <a:pt x="160735" y="189509"/>
                  <a:pt x="136747" y="53579"/>
                  <a:pt x="107157" y="53579"/>
                </a:cubicBezTo>
                <a:cubicBezTo>
                  <a:pt x="77566" y="53579"/>
                  <a:pt x="53579" y="189509"/>
                  <a:pt x="53579" y="357187"/>
                </a:cubicBezTo>
                <a:lnTo>
                  <a:pt x="0" y="357187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785880" y="1306440"/>
            <a:ext cx="6786360" cy="17398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cap="sq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Monotype Corsiva"/>
                <a:ea typeface="Times New Roman"/>
              </a:rPr>
              <a:t>Объединение   множест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215120" y="214200"/>
            <a:ext cx="1612800" cy="1500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85840" y="2857680"/>
            <a:ext cx="421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усть  А = 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{ 2, 4, 6} , a B = { 2, 4, 6, 8, 10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бъединение множеств А и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     В  = 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5000760" y="2786040"/>
            <a:ext cx="3143160" cy="3286080"/>
          </a:xfrm>
          <a:prstGeom prst="ellipse">
            <a:avLst/>
          </a:prstGeom>
          <a:solidFill>
            <a:srgbClr val="77933c">
              <a:alpha val="56000"/>
            </a:srgbClr>
          </a:solidFill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5643720" y="4000680"/>
            <a:ext cx="1714320" cy="1500120"/>
          </a:xfrm>
          <a:prstGeom prst="ellipse">
            <a:avLst/>
          </a:prstGeom>
          <a:solidFill>
            <a:srgbClr val="fac090">
              <a:alpha val="50000"/>
            </a:srgbClr>
          </a:solidFill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571720" y="328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286680" y="471492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 flipV="1">
            <a:off x="928800" y="4572000"/>
            <a:ext cx="214200" cy="714240"/>
          </a:xfrm>
          <a:custGeom>
            <a:avLst/>
            <a:gdLst>
              <a:gd name="textAreaLeft" fmla="*/ 0 w 214200"/>
              <a:gd name="textAreaRight" fmla="*/ 214560 w 21420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w="214312" h="714375">
                <a:moveTo>
                  <a:pt x="0" y="357187"/>
                </a:moveTo>
                <a:lnTo>
                  <a:pt x="0" y="357187"/>
                </a:lnTo>
                <a:cubicBezTo>
                  <a:pt x="0" y="159917"/>
                  <a:pt x="47975" y="-1"/>
                  <a:pt x="107156" y="-1"/>
                </a:cubicBezTo>
                <a:cubicBezTo>
                  <a:pt x="166336" y="-1"/>
                  <a:pt x="214312" y="159917"/>
                  <a:pt x="214312" y="357186"/>
                </a:cubicBezTo>
                <a:lnTo>
                  <a:pt x="160734" y="357188"/>
                </a:lnTo>
                <a:cubicBezTo>
                  <a:pt x="160734" y="189508"/>
                  <a:pt x="136746" y="53578"/>
                  <a:pt x="107156" y="53578"/>
                </a:cubicBezTo>
                <a:cubicBezTo>
                  <a:pt x="77565" y="53578"/>
                  <a:pt x="53578" y="189508"/>
                  <a:pt x="53578" y="357187"/>
                </a:cubicBezTo>
                <a:lnTo>
                  <a:pt x="0" y="357187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42960" y="14288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Arial"/>
              </a:rPr>
              <a:t>Рассмотрим, как можно решить задачу с помощью кругов Эйл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28760" y="2357280"/>
            <a:ext cx="82152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зультатам опроса 52 шестиклассников было установлено, что 23 из них собирают значки, 35 собирают марки, а 16 – и значки, и марки. Остальные не увлекаются коллекционированием. Сколько человек не увлекаются коллекционирование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216240" y="3608280"/>
            <a:ext cx="3571920" cy="3214800"/>
          </a:xfrm>
          <a:prstGeom prst="ellipse">
            <a:avLst/>
          </a:prstGeom>
          <a:noFill/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429000" y="4286160"/>
            <a:ext cx="1857240" cy="2071800"/>
          </a:xfrm>
          <a:prstGeom prst="ellipse">
            <a:avLst/>
          </a:prstGeom>
          <a:solidFill>
            <a:srgbClr val="c6d9f1"/>
          </a:solidFill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4429080" y="3714840"/>
            <a:ext cx="1500120" cy="1500120"/>
          </a:xfrm>
          <a:prstGeom prst="ellipse">
            <a:avLst/>
          </a:prstGeom>
          <a:solidFill>
            <a:srgbClr val="d99694">
              <a:alpha val="46000"/>
            </a:srgbClr>
          </a:solidFill>
          <a:ln cap="sq"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715080" y="40719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Собирают зна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AutoShape 7"/>
          <p:cNvCxnSpPr/>
          <p:nvPr/>
        </p:nvCxnSpPr>
        <p:spPr>
          <a:xfrm flipV="1">
            <a:off x="2286000" y="5214960"/>
            <a:ext cx="930960" cy="64332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4" name="Text Box 8"/>
          <p:cNvSpPr/>
          <p:nvPr/>
        </p:nvSpPr>
        <p:spPr>
          <a:xfrm>
            <a:off x="285480" y="557208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влека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лекционирова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" name="AutoShape 9"/>
          <p:cNvCxnSpPr/>
          <p:nvPr/>
        </p:nvCxnSpPr>
        <p:spPr>
          <a:xfrm>
            <a:off x="1571400" y="4857840"/>
            <a:ext cx="2143800" cy="2160"/>
          </a:xfrm>
          <a:prstGeom prst="straightConnector1">
            <a:avLst/>
          </a:prstGeom>
          <a:ln cap="sq"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6" name="Text Box 10"/>
          <p:cNvSpPr/>
          <p:nvPr/>
        </p:nvSpPr>
        <p:spPr>
          <a:xfrm>
            <a:off x="356040" y="45007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обирают м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AutoShape 11"/>
          <p:cNvCxnSpPr>
            <a:stCxn id="122" idx="2"/>
          </p:cNvCxnSpPr>
          <p:nvPr/>
        </p:nvCxnSpPr>
        <p:spPr>
          <a:xfrm flipH="1">
            <a:off x="5571360" y="4440240"/>
            <a:ext cx="2251800" cy="62640"/>
          </a:xfrm>
          <a:prstGeom prst="straightConnector1">
            <a:avLst/>
          </a:prstGeom>
          <a:ln cap="sq" w="3168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8" name="AutoShape 12"/>
          <p:cNvCxnSpPr/>
          <p:nvPr/>
        </p:nvCxnSpPr>
        <p:spPr>
          <a:xfrm flipH="1" flipV="1">
            <a:off x="5000040" y="5000040"/>
            <a:ext cx="1857960" cy="500760"/>
          </a:xfrm>
          <a:prstGeom prst="straightConnector1">
            <a:avLst/>
          </a:prstGeom>
          <a:ln cap="sq" w="31680">
            <a:solidFill>
              <a:srgbClr val="632523"/>
            </a:solidFill>
            <a:miter/>
            <a:tailEnd len="med" type="triangle" w="med"/>
          </a:ln>
        </p:spPr>
      </p:cxnSp>
      <p:sp>
        <p:nvSpPr>
          <p:cNvPr id="129" name="Text Box 13"/>
          <p:cNvSpPr/>
          <p:nvPr/>
        </p:nvSpPr>
        <p:spPr>
          <a:xfrm>
            <a:off x="6929280" y="50720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Собирают и значки и м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0280" y="4000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357120" y="1714680"/>
            <a:ext cx="75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Решение задачи  ( продолже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1) Значки и марки собирают 16 человек. Впишем число 16 в пересечение кругов З и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2) Значки собирают 23 человека. Тогда только значки собирают: 23-16 = 7 человек. Впишем число 7 в свободную часть круга 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3) Только марки собирают: 35-16 = 19 человек. Занесем число 19 в сх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4) Теперь мы можем узнать, сколько человек занимаются коллекционированием:</a:t>
            </a:r>
            <a:br>
              <a:rPr sz="1800"/>
            </a:b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16+7+19 = _______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5) Не занимаются коллекционировани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52 - __ = __________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Ответ: _____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"/>
          <p:cNvSpPr/>
          <p:nvPr/>
        </p:nvSpPr>
        <p:spPr>
          <a:xfrm>
            <a:off x="5500800" y="4143240"/>
            <a:ext cx="2857320" cy="2500560"/>
          </a:xfrm>
          <a:prstGeom prst="ellipse">
            <a:avLst/>
          </a:prstGeom>
          <a:noFill/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5929200" y="5000760"/>
            <a:ext cx="1357560" cy="1357200"/>
          </a:xfrm>
          <a:prstGeom prst="ellipse">
            <a:avLst/>
          </a:prstGeom>
          <a:solidFill>
            <a:srgbClr val="c6d9f1"/>
          </a:solidFill>
          <a:ln cap="sq"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6715080" y="4643280"/>
            <a:ext cx="1143000" cy="1094040"/>
          </a:xfrm>
          <a:prstGeom prst="ellipse">
            <a:avLst/>
          </a:prstGeom>
          <a:solidFill>
            <a:srgbClr val="d99694">
              <a:alpha val="46000"/>
            </a:srgbClr>
          </a:solidFill>
          <a:ln cap="sq"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00840" y="54291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86720" y="521496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072200" y="4714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2178000" y="4440240"/>
            <a:ext cx="573120" cy="406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1392120" y="4964040"/>
            <a:ext cx="573120" cy="40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4"/>
          <a:stretch/>
        </p:blipFill>
        <p:spPr>
          <a:xfrm>
            <a:off x="2463840" y="4944960"/>
            <a:ext cx="573120" cy="40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5"/>
          <a:stretch/>
        </p:blipFill>
        <p:spPr>
          <a:xfrm>
            <a:off x="1227240" y="5494320"/>
            <a:ext cx="573120" cy="4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7-03-19T21:57:41Z</cp:lastPrinted>
  <dcterms:modified xsi:type="dcterms:W3CDTF">2020-04-06T15:47:32Z</dcterms:modified>
  <cp:revision>155</cp:revision>
  <dc:subject/>
  <dc:title>Слайд 1</dc:title>
</cp:coreProperties>
</file>