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637C77-B816-410F-8C00-DFB8482A7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1713E6-0C4A-42CE-B1BB-56E8015B511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E32DEF-625D-48C8-AFC9-88385636137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675294-AEE0-4C2B-853A-594922092D6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B288CD-1641-402D-8BC0-5E5C725D496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172A80-EA6C-42A7-A5A4-3E8ED4F119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лово «учение» нельзя связывать сугубо со школьный обучением, сидением за партами и т.п.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98CAA1-02A1-4A2C-9FC3-1FCB3266D85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лово «учение» нельзя связывать сугубо со школьный обучением, сидением за партами и т.п.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799A7A-3CBD-4F6F-8CF6-596F4601140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лово «учение» нельзя связывать сугубо со школьный обучением, сидением за партами и т.п.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3AB642-70CC-446C-9AB2-A3362BEE2EE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лово «учение» нельзя связывать сугубо со школьный обучением, сидением за партами и т.п.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FF6CDD-2C81-4969-92BE-40FB3DF9AFD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E1A9C5-B1F9-4836-B57B-263B00FC759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30192B-A178-434D-AE28-CF6DDF503B6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AFA204-4AC5-4CCE-9E72-61410D8AA5F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ебенок приобретает </a:t>
            </a:r>
            <a:r>
              <a:rPr b="0" i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бственный опыт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, осваивает и осмысливает мир, активно строя знания на основе предыдущего опыта в самостоятельной и «совместно-разделенной» деятельности и в общении с другими детьми и взрослыми, становясь полноценным участником образовательного процесса (Л. С. Выготский, А. Н. Леонтьев, Ж. Пиаже, Д. Дьюи, Д. Брунн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нцип </a:t>
            </a:r>
            <a:r>
              <a:rPr b="0" i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-действия и со-трудничеств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является конкретным выражением </a:t>
            </a:r>
            <a:r>
              <a:rPr b="0" i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цио-конструктивистского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подхода в образовании и реализуется в качестве сквозного принципа организации образовательной деятельности по Программе, а также в форме методик «Детский совет» и «Волшебный круг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AB7981-E009-49AF-83BA-43ED145840F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E861B8-F07C-4857-B056-CCADF4F4945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FA2A68-ADE5-460D-89DC-C0B7AE24A44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A1532D-EF72-4FE0-8663-8C2FFB27EBE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92BBDC-A6AC-418F-B83B-883A2B1ED1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101C20-2496-4F0F-8895-ABD9D2658F0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B2FD29-05E5-4130-BB61-4144FFB64F4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определяется как то, чему мы хотим обучить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4A5662-BC83-4BBE-83BA-32BDD7E90B6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определяется как то, чему мы хотим обучить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EF8EC7-028C-4CFE-90BC-96CD7DA4C1A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временный мир, для жизни в котором, мы воспитываем наших детей и даем им образование, многообразен и подвержен постоянным измене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е сложные задачи социального развития требуют более высокой способности к концентрации, логико-аналитическому мышлению, способности к самостоятельному решению проблем и ориентации в сложных взаимосвязях, более высокой психологической стаби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оянные изменения экономики и рынка труда, возросшая децентрализация организации труда требуют, помимо узко профессиональных знаний целого ряда личностных качеств и ценностных установок, способности к коммуникации, умения работать в команде и т. п. Эти изменения востребуют такие качества личности, как инициатива, активность, умение и желание учиться, принятие на себя ответственности, креативность, готовность к инновациям. Все эти качества – как убедительно показывают исследования – закладываются в период раннего и дошкольного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E63CA0-B776-44FA-952B-9E39570D4F3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определяется как то, чему мы хотим обучить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1E5FA3-4E5E-488F-AC58-4DADADCFB14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определяется как то, чему мы хотим обучить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19C516-40B2-4211-8DB9-4E8B92F3E6C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определяется как то, чему мы хотим обучить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713A8E-F9D2-46D5-89D3-165B0C781D7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79E84D-4158-4901-90AB-D56E90CC8D7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9A0AEC-95A1-4320-AC26-ED4664B2EBE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D3AF3B-838F-41D0-A564-787A60925A8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F35FE5-EBB8-475D-BCD9-F2BF183A71A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CF6896-A7F3-450F-8771-A6901BA783A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-конструкция – совместное конструирование смы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пособы деятельности - игра, исследовательская деятельность, общение и свободная активность по выбору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A1B3F5-5F27-4762-9374-523019C1E92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временный мир, для жизни в котором, мы воспитываем наших детей и даем им образование, многообразен и подвержен постоянным изменениям. На этапе перехода от индустриального к постиндустриальному, информационному обществу перед каждым человеком стоят ориентационные задачи нов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е сложные задачи социального развития требуют более высокой способности к концентрации, логико-аналитическому мышлению, способности к самостоятельному решению проблем и ориентации в сложных взаимосвязях, более высокой психологической стаби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оянные изменения экономики и рынка труда, возросшая децентрализация организации труда требуют, помимо узко профессиональных знаний целого ряда личностных качеств и ценностных установок, способности к коммуникации, умения работать в команде и т. п. Эти изменения востребуют такие качества личности, как инициатива, активность, умение и желание учиться, принятие на себя ответственности, креативность, готовность к инновациям. Все эти качества – как убедительно показывают исследования – закладываются в период раннего и дошкольного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условиях возрастающего культурного многообразия, глобализации экономики и усиления международной мобильности, жизни в мультикультурном и многонациональном обществе, в котором представлено многообразие этносов и культур, необходимо наряду с задачами культурной, национальной, этнической идентичности и укоренения в определенной социокультурной общности решать задачи мультикультурной компетентности и компетентности в области иностранных язы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5D4CB1-50EE-4A6F-84BB-21F92F5B170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DF0-FADF-45B2-8C9A-E15E9F75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C79-1F06-4268-B2AB-30F5113F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1C1-2E96-45BF-88DE-43244CFE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AF7-50A8-4E56-AC32-284740C9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899-0B06-4179-8E5C-C7917146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A79-7A77-41FC-BBDB-FECC699A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BA9-FD69-42D5-B55F-2ADC3027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60B-2FB5-4184-89BE-D689DAA5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5CD-103F-45A2-8078-1EF3B2F0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A8E-9DCC-4A7C-98B7-6BE00FB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CE0-912E-4202-98DE-768844D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245-C7D9-4ED0-A5BB-4320BAD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B1EF16-3158-49F8-954D-E5CDF45DFDF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mailto:info@n-obr.ru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Vdohnovenie_Prezentation_Cover_Slide_Design_01.jp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Четыре стержневых идеи программы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57160" y="251784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15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1. </a:t>
            </a:r>
            <a:r>
              <a:rPr b="1" lang="ru-RU" sz="1400" spc="-1" strike="noStrike">
                <a:solidFill>
                  <a:srgbClr val="8b8b8b"/>
                </a:solidFill>
                <a:latin typeface="Calibri"/>
              </a:rPr>
              <a:t>Новое видение образа ребенка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, его развития, а также сущности  образования и образовательного процес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2. 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Идея  </a:t>
            </a:r>
            <a:r>
              <a:rPr b="1" lang="ru-RU" sz="1400" spc="-1" strike="noStrike">
                <a:solidFill>
                  <a:srgbClr val="8b8b8b"/>
                </a:solidFill>
                <a:latin typeface="Calibri"/>
              </a:rPr>
              <a:t>интерактивного  взаимодействия  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всех участников образовательных отношений,  идея «учебного  сообщества»,  основанного   на  диалогическом принципе  со-действия (со-конструкции), участия, в котором активен  и ребенок и взрослый. С учебном сообществе учатся все – и дети и взрослы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3. 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Наличие </a:t>
            </a:r>
            <a:r>
              <a:rPr b="1" lang="ru-RU" sz="1400" spc="-1" strike="noStrike">
                <a:solidFill>
                  <a:srgbClr val="8b8b8b"/>
                </a:solidFill>
                <a:latin typeface="Calibri"/>
              </a:rPr>
              <a:t>технологии организации образовательной деятельности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. Универсальной и функциональной по организационным действиям. Открытой для идей, креативной, учитывающей индивидуальные интересы и потребности детей и взрослых, ресурсы местного сообщества – по содержан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4. </a:t>
            </a:r>
            <a:r>
              <a:rPr b="1" lang="ru-RU" sz="1400" spc="-1" strike="noStrike">
                <a:solidFill>
                  <a:srgbClr val="8b8b8b"/>
                </a:solidFill>
                <a:latin typeface="Calibri"/>
              </a:rPr>
              <a:t>Отказ от  ведущей роли воспитателя 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в пользу поддержки детской инициативы всеми взрослыми (педагогами, родителями, представителями местного сообщества). </a:t>
            </a:r>
            <a:r>
              <a:rPr b="1" lang="ru-RU" sz="1400" spc="-1" strike="noStrike">
                <a:solidFill>
                  <a:srgbClr val="8b8b8b"/>
                </a:solidFill>
                <a:latin typeface="Calibri"/>
              </a:rPr>
              <a:t>Отказ от идеи единственной ведущей деятельности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 в пользу  учета и  использования разных  способов и видов деятельности, играющих в развитии ребенка существенную р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87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8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9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Подходы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8b8b8b"/>
                </a:solidFill>
                <a:latin typeface="Calibri"/>
              </a:rPr>
              <a:t>Программа отказывается от устаревших подходов 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НЕТ.</a:t>
            </a:r>
            <a:r>
              <a:rPr b="0" lang="ru-RU" sz="1100" spc="-1" strike="noStrike">
                <a:solidFill>
                  <a:srgbClr val="8b8b8b"/>
                </a:solidFill>
                <a:latin typeface="Calibri"/>
              </a:rPr>
              <a:t> Передача знаний и опыта от [знающих, опытных, компетентных] взрослых  [незнающим, неопытным, некомпетентным] детям  не удовлетворяет современным   вызовам и данным исследований;  в так понимаемом образовании активен прежде всего взрослый,  ребенок же является пассивным  объектом воспитательных и образовательных воздействий, задача которого усвоить то, чему его обучают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НЕТ. </a:t>
            </a:r>
            <a:r>
              <a:rPr b="0" lang="ru-RU" sz="1100" spc="-1" strike="noStrike">
                <a:solidFill>
                  <a:srgbClr val="8b8b8b"/>
                </a:solidFill>
                <a:latin typeface="Calibri"/>
              </a:rPr>
              <a:t>Ориентация на образование, понимаемое </a:t>
            </a:r>
            <a:r>
              <a:rPr b="0" i="1" lang="ru-RU" sz="1100" spc="-1" strike="noStrike">
                <a:solidFill>
                  <a:srgbClr val="8b8b8b"/>
                </a:solidFill>
                <a:latin typeface="Calibri"/>
              </a:rPr>
              <a:t>как </a:t>
            </a:r>
            <a:r>
              <a:rPr b="0" i="1" lang="ru-RU" sz="1100" spc="-1" strike="noStrike" u="sng">
                <a:solidFill>
                  <a:srgbClr val="8b8b8b"/>
                </a:solidFill>
                <a:uFillTx/>
                <a:latin typeface="Calibri"/>
              </a:rPr>
              <a:t>индивидуальный процесс активного самостроительства</a:t>
            </a:r>
            <a:r>
              <a:rPr b="0" i="1" lang="ru-RU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8b8b8b"/>
                </a:solidFill>
                <a:latin typeface="Calibri"/>
              </a:rPr>
              <a:t>  оказался неэффективным, так как недооценивал роли социальной и культурной среды и общения.  Программы, ориентированные на ребенка,  основанные на этой модели (конструктивизм) в настоящее время пересматриваются по всему миру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Да.</a:t>
            </a:r>
            <a:r>
              <a:rPr b="0" lang="ru-RU" sz="1100" spc="-1" strike="noStrike">
                <a:solidFill>
                  <a:srgbClr val="8b8b8b"/>
                </a:solidFill>
                <a:latin typeface="Calibri"/>
              </a:rPr>
              <a:t> Современные программы, обеспечивающие   самое высокое качество и позитивные эффекты,  основаны на активности  всех участников  образовательных отношений – и детей, и взрослых.  В этой модели образование понимается  как  </a:t>
            </a:r>
            <a:r>
              <a:rPr b="0" i="1" lang="ru-RU" sz="1100" spc="-1" strike="noStrike">
                <a:solidFill>
                  <a:srgbClr val="8b8b8b"/>
                </a:solidFill>
                <a:latin typeface="Calibri"/>
              </a:rPr>
              <a:t>социальный процесс взаимодействия</a:t>
            </a:r>
            <a:r>
              <a:rPr b="0" lang="ru-RU" sz="1100" spc="-1" strike="noStrike">
                <a:solidFill>
                  <a:srgbClr val="8b8b8b"/>
                </a:solidFill>
                <a:latin typeface="Calibri"/>
              </a:rPr>
              <a:t>, включенное в определенный социокультурный контекст (</a:t>
            </a:r>
            <a:r>
              <a:rPr b="0" i="1" lang="ru-RU" sz="1100" spc="-1" strike="noStrike">
                <a:solidFill>
                  <a:srgbClr val="8b8b8b"/>
                </a:solidFill>
                <a:latin typeface="Calibri"/>
              </a:rPr>
              <a:t>социальный конструктивизм</a:t>
            </a:r>
            <a:r>
              <a:rPr b="0" lang="ru-RU" sz="1100" spc="-1" strike="noStrike">
                <a:solidFill>
                  <a:srgbClr val="8b8b8b"/>
                </a:solidFill>
                <a:latin typeface="Calibri"/>
              </a:rPr>
              <a:t>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94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95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96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Новое видение образа ребенк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57160" y="237384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8b8b8b"/>
                </a:solidFill>
                <a:latin typeface="Calibri"/>
              </a:rPr>
              <a:t>Позитивный образ 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Под влиянием исследований и передовой практики  акцент переместился от</a:t>
            </a:r>
            <a:r>
              <a:rPr b="0" i="1" lang="ru-RU" sz="1400" spc="-1" strike="noStrike">
                <a:solidFill>
                  <a:srgbClr val="8b8b8b"/>
                </a:solidFill>
                <a:latin typeface="Calibri"/>
              </a:rPr>
              <a:t> ориентации на дефициты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8b8b8b"/>
                </a:solidFill>
                <a:latin typeface="Calibri"/>
              </a:rPr>
              <a:t>[</a:t>
            </a:r>
            <a:r>
              <a:rPr b="1" lang="ru-RU" sz="1400" spc="-1" strike="noStrike">
                <a:solidFill>
                  <a:srgbClr val="8b8b8b"/>
                </a:solidFill>
                <a:latin typeface="Calibri"/>
              </a:rPr>
              <a:t>ребенок еще не может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 и зависит от стимулов извне</a:t>
            </a:r>
            <a:r>
              <a:rPr b="0" lang="en-US" sz="1400" spc="-1" strike="noStrike">
                <a:solidFill>
                  <a:srgbClr val="8b8b8b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i="1" lang="ru-RU" sz="1400" spc="-1" strike="noStrike">
                <a:solidFill>
                  <a:srgbClr val="8b8b8b"/>
                </a:solidFill>
                <a:latin typeface="Calibri"/>
              </a:rPr>
              <a:t>на ориентацию на компетентности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, </a:t>
            </a:r>
            <a:r>
              <a:rPr b="0" i="1" lang="ru-RU" sz="1400" spc="-1" strike="noStrike">
                <a:solidFill>
                  <a:srgbClr val="8b8b8b"/>
                </a:solidFill>
                <a:latin typeface="Calibri"/>
              </a:rPr>
              <a:t>их укрепление и развитие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 - </a:t>
            </a:r>
            <a:r>
              <a:rPr b="0" lang="en-US" sz="1400" spc="-1" strike="noStrike">
                <a:solidFill>
                  <a:srgbClr val="8b8b8b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на то, что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ребенок может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, на поддержку его  активности и ресур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Программа последовательно реализует эту новую ориентацию и ориентируется на компетентности, возможности и способности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Общий взгляд на ребенка, его потенциал и возможности можно сформулировать так: ребенок </a:t>
            </a:r>
            <a:r>
              <a:rPr b="0" i="1" lang="ru-RU" sz="1400" spc="-1" strike="noStrike">
                <a:solidFill>
                  <a:srgbClr val="8b8b8b"/>
                </a:solidFill>
                <a:latin typeface="Calibri"/>
              </a:rPr>
              <a:t>активен и вносит свой вклад в процессы собственного образования.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01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02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03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Образ ребенк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Человек появляется на свет, оснащенный дееспособными органами чувств и основополагающими компетентност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Ребенок с самого рождения готов к коммуникации, взаимодействию и, тем самым -  к диалогу со взрослыми. Уже непосредственно после рождения младенец начинает исследовать окружающий его мир, вступать с ним во взаимодействие и таким образом вносить свой активный вклад в процессы образования (освоение своего тела, социального и предметного мир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08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09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10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Образ ребенк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Дети хотят принимать участие во всем, что происходит вокруг</a:t>
            </a: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Играя активную роль в процессе своего образования, они являются его действующими лицами (субъектами) с собственными разнообразными возможностями выражения, своим мнением, способностью к принятию решений и ответственности в соответствии со своим развит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15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16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17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Образ ребенк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Дети изначально хотят учи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Активность, любопытство, страсть к учению, жажда знаний и способность к обучению у детей удивительно вел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В своей деятельности и в постановке вопросов дети являются в высшей степени креативными мастерами, изобретателями, музыкантами, художниками, исследователями (физиками, математиками, историками и философ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Под учением здесь  понимается естественное стремление ребенка осваивать мир, его любопытство и энерг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22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23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24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Образ ребенк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Дети лучше всего учатся в сообществе с други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В общении с другими детьми и взрослыми дети осваивают мир, расширяя свое понимание картины мира, развивая способности, созидая и создавая собственные продук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Образование – это прежде всего </a:t>
            </a:r>
            <a:r>
              <a:rPr b="0" i="1" lang="ru-RU" sz="1600" spc="-1" strike="noStrike">
                <a:solidFill>
                  <a:srgbClr val="8b8b8b"/>
                </a:solidFill>
                <a:latin typeface="Calibri"/>
              </a:rPr>
              <a:t>социальный процесс</a:t>
            </a: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 и лишь во вторую очередь  - индивидуаль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29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30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31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Образ ребенк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Развитие ребенка протекает в определенном социокультурном контексте</a:t>
            </a: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, который необходимо учитывать, интегрировать и использовать в образовательном процесс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Условия жизни в крупном мегаполисе, в спальном районе, в сельской местности, в городе с богатыми культурными традициями и развитой инфраструктурой и в небольшом провинциальном городке накладывают свой отпечаток на развитие и на образовательные возможности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Воспитатели должны осознанно использовать ресурсы, имеющиеся в социокультурном окружении своего места расположения в образовательном процессе, используя, в том числе, и возможности род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36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37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38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Образ ребенк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Задача взрослых</a:t>
            </a: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 – </a:t>
            </a: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создание усло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эмоционального комфорта, обогащенной социальной и предметно-пространственной образовательной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Важнейшему вопросу - рефлексии образа ребенка - </a:t>
            </a: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программа посвящает отдельный раздел, а также отдельный обучающий модуль в программе повышения квалификации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Доверие и свобода </a:t>
            </a: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– это необходимые условия для творческого взаимодействия взрослых с детьми, приносящих удивительные плоды «озарения», радости и  удовольств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43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44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45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Вместе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ование – это взаимный  жизненный  (экзистенциальный) процесс, и программа «Вдохновение» ориентирует, вдохновляет  взрослых на созидание счастливых моментов в общении с детьми: взаимных открытий, удивлений, преодолений трудностей, ошибок и радости первых поб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50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51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52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Vdohnovenie_Prezentation_Slide_Design_01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71760" y="25718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Программа «Вдохновение» –</a:t>
            </a:r>
            <a:br>
              <a:rPr sz="3000"/>
            </a:b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новая комплексная программ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71760" y="3500280"/>
            <a:ext cx="5143320" cy="26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5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Программа «Вдохновение»   –  это совершенно  новая комплексная программа, разработанная коллективом авторов на основе ФГОС ДО  с учетом  современных  психолого-педагогических исследований и вызовов  реальной  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_Files\_2014\Серия книг «Вдохновение»\Prezentation\Files\Vdohnovenie_Book_Cover_(Design)_Preview.jpg"/>
          <p:cNvPicPr/>
          <p:nvPr/>
        </p:nvPicPr>
        <p:blipFill>
          <a:blip r:embed="rId2"/>
          <a:stretch/>
        </p:blipFill>
        <p:spPr>
          <a:xfrm>
            <a:off x="6858000" y="3571920"/>
            <a:ext cx="1509120" cy="19998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Вместе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ование – это взаимный  жизненный  (экзистенциальный) процесс, и программа «Вдохновение» ориентирует, вдохновляет  взрослых на созидание счастливых моментов в общении с детьми: взаимных открытий, удивлений, преодолений трудностей, ошибок и радости первых поб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57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58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59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7640" y="1700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ы програм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7640" y="2517840"/>
            <a:ext cx="57470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1. Принцип поддержки разнообразия детст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2. Принципы со-действия, сотрудничества и участ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3. Принцип обогащения (амплификации) развития через поддержку детской инициативы и интере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4. Принцип поддержки любознательности и исследовательской актив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5. Принцип дифференциации обуч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6. Принцип эмоционального благополуч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7. Принцип обучения на модели собственного повед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8. Принцип признания права на ошибк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9. Принцип поддержки игры во всех ее видах и форма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10. Принцип преемствен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64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65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66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Чрезвычайно важными для программы являются постоянные педагогические наблюдения,  регистрация поведения и развити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Программа акцентирует внимание на необходимость понимания индивидуальности ребенка, определения текущего уровня его личностного развития и эмоционального состояния  в данной ситуации взаимо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71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72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73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Отказ от неадекватных ожиданий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Существовавшие ранее </a:t>
            </a:r>
            <a:r>
              <a:rPr b="1" lang="ru-RU" sz="1800" spc="-1" strike="noStrike">
                <a:solidFill>
                  <a:srgbClr val="8b8b8b"/>
                </a:solidFill>
                <a:latin typeface="Calibri"/>
              </a:rPr>
              <a:t>единые</a:t>
            </a: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 возрастные ориентиры и методические рекомендации для детей одного биологического возраста, а также составленные на их основе содержание и уровень занятий для групп определенного возраста, на которые ориентировались традиционные типовые программы, не соответствуют реальной сложности и многообразию развития и с необратимостью  ведут к неправильным стратег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78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79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80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7640" y="1700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дифференциации об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57160" y="251784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Дифференцированное обучение – это форма организации учебного процесса, при которой педагоги учитывают готовность, интересы и особенности каждого ребенка или небольших групп детей: составляют программы; выбирают методы и стратегии обучения, учебные материалы; организуют учебную деятельность, которая удовлетворяет </a:t>
            </a:r>
            <a:r>
              <a:rPr b="1" i="1" lang="ru-RU" sz="1600" spc="-1" strike="noStrike">
                <a:solidFill>
                  <a:srgbClr val="8b8b8b"/>
                </a:solidFill>
                <a:latin typeface="Calibri"/>
              </a:rPr>
              <a:t>различные</a:t>
            </a: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 потребности воспитан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Целью дифференцированного обучения является уч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готовности к обуч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темпа разви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 особенностей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85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86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87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дифференциации об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Дифференцированное обучение уделяет особое внимание возможности </a:t>
            </a:r>
            <a:r>
              <a:rPr b="0" i="1" lang="ru-RU" sz="1600" spc="-1" strike="noStrike">
                <a:solidFill>
                  <a:srgbClr val="8b8b8b"/>
                </a:solidFill>
                <a:latin typeface="Calibri"/>
              </a:rPr>
              <a:t>выбора детьми</a:t>
            </a: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 способов работы (индивидуально или в группах), способов выражения, содержания деятельности и т. д. Чтобы выбор детей дошкольного возраста был результативным, он должен быть осторожно «организован» воспитателем таким образом, чтоб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соответствовать целям, которые должны быть достигну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являться подлинным выбором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не дать ребенку растеряться при большом количестве вариа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Дошкольники должны уметь под надлежащим руководством воспитателя не только сделать выбор, но и обосновать 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92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93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94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дифференциации об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Дифференцированное обучение уделяет особое внимание возможности </a:t>
            </a:r>
            <a:r>
              <a:rPr b="0" i="1" lang="ru-RU" sz="1600" spc="-1" strike="noStrike">
                <a:solidFill>
                  <a:srgbClr val="8b8b8b"/>
                </a:solidFill>
                <a:latin typeface="Calibri"/>
              </a:rPr>
              <a:t>выбора детьми</a:t>
            </a: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 способов работы (индивидуально или в группах), способов выражения, содержания деятельности и т. д. Чтобы выбор детей дошкольного возраста был результативным, он должен быть осторожно «организован» воспитателем таким образом, чтоб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соответствовать целям, которые должны быть достигну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являться подлинным выбором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- не дать ребенку растеряться при большом количестве вариа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Дошкольники должны уметь под надлежащим руководством воспитателя не только сделать выбор, но и обосновать 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199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00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01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ыре уровня дифференци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Дифференцированная педагогика влияет на процесс обучения на четырех уровнях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8b8b8b"/>
                </a:solidFill>
                <a:latin typeface="Calibri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8b8b8b"/>
                </a:solidFill>
                <a:latin typeface="Calibri"/>
              </a:rPr>
              <a:t>Образователь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8b8b8b"/>
                </a:solidFill>
                <a:latin typeface="Calibri"/>
              </a:rPr>
              <a:t>Учебная среда</a:t>
            </a: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(в т. ч. предметно-развивающая сре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8b8b8b"/>
                </a:solidFill>
                <a:latin typeface="Calibri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06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07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08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фференциация содерж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5640" y="2277000"/>
            <a:ext cx="59763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Дифференциация содержания в соответствии с учебной готовностью, интересами и стилем обучения детей может быть проведена на двух уровнях: а) то, чему воспитатель обучает, и б) то, каким образом он дает доступ к знаниям тем, кто хочет их полу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В зависимости от учебной готовности детей воспитатель, наприме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-  обнаруживает ранее полученный опыт детей, выявляет их текущие знания о конкретном содержании и соответственно адаптирует вопросы и ход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- позволяет детям выразить то, что они знают, способом, которым они выражали свои знания до этого времени: в зависимости от уровня их выразительной способности некоторые дети могут описать свой опыт группе, в то время как другие могут нарисовать то, что зна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- дает многочисленные примеры употребления понятия таким образом, чтобы дети могли соотнести его с различным личным опытом и установить связ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-  в рамках проекта поощряет детей искать информацию по данной теме способом, которым они владеют лучше вс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- предоставляет образцы различной сложности, так что дети могут использовать те, которые соответствуют их учебной готовности. Например, при формировании математических понятий использует различные доступные символы, рисунки-фотографии, предметы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13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14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15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фференциация процес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95640" y="2277000"/>
            <a:ext cx="59763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Дифференциация процесса касается методологии и видов деятельности, которые избираются для понимания какого-либо содержания деть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Дифференциация процесса касается способа, которым воспитатель помогает детям перейти от текущей точки понимания к более сложному уровню, в зависимости от текущего уровня развития, их интересов и особенностей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20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21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22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Vdohnovenie_Prezentation_Slide_Design_01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25718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Программа «Вдохновение» </a:t>
            </a:r>
            <a:br>
              <a:rPr sz="3000"/>
            </a:b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создана для реализации </a:t>
            </a:r>
            <a:br>
              <a:rPr sz="3000"/>
            </a:b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в современной социокультурной ситуации развития детств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71760" y="3717000"/>
            <a:ext cx="5143320" cy="242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5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Особенность программы  - учет реалий современной социокультурной ситуации развития детства,  со всеми присущими  современному раннему и дошкольному возрасту проблемами роста и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_Files\_2014\Серия книг «Вдохновение»\Prezentation\Files\Vdohnovenie_Book_Cover_(Design)_Preview.jpg"/>
          <p:cNvPicPr/>
          <p:nvPr/>
        </p:nvPicPr>
        <p:blipFill>
          <a:blip r:embed="rId2"/>
          <a:stretch/>
        </p:blipFill>
        <p:spPr>
          <a:xfrm>
            <a:off x="6858000" y="3571920"/>
            <a:ext cx="1509120" cy="19998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фференциация содерж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95640" y="2277000"/>
            <a:ext cx="59763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8b8b8b"/>
                </a:solidFill>
                <a:latin typeface="Calibri"/>
              </a:rPr>
              <a:t>зависимости от интересов детей 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воспитатель, наприме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- заботится о том, чтобы темы, рассматриваемые детьми, отражали различные интересы. В «обширной» теме (например, «машины») дети могут выбрать аспекты, которыми хотят заниматься (например, «колеса», «велосипеды» и т. д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8b8b8b"/>
                </a:solidFill>
                <a:latin typeface="Calibri"/>
              </a:rPr>
              <a:t>зависимости особенностей ребенка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, воспитатель, наприме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- заботится о том, чтобы материал, выбранный для рассмотрения конкретной темы/понятия, варьировал стиль обучения детей: ученик рассказывает группе о виде спорта, одновременно показывая фотографии разных спортивных моментов, например футбольный матч или кадры видеозаписи игры (визуальные и акустические средства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- поощряет детей, чтобы они больше узнавали о теме обсуждения (на «детском языке») и показывали другим ребятам движения, которые они знают, когда выходят во двор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- представляет содержание деятельности (например, понятие, навык), используя различные графические представления (например, чтобы показать, что «части» составляют общую картин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27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28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29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7640" y="1412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фференциация представления детских результа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95640" y="2277000"/>
            <a:ext cx="59763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Дифференциация результатов касается возможностей, предоставляемых детям для того, чтобы они могли показать, применить или представить другим то, чем они овладели, – знания, умения, навыки – альтернативными способ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Представление (презентация) своего результата ребенком имеет особую важность по двум основным причин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а) результаты показывают эффективность обучения и прогресса воспитанни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б) во время презентации результатов ребенок может еще раз обдумать, организовать и использовать «новые» знания и навыки (Tomlinson, 200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Вербальный способ представления результатов и полученных знаний является основным для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Это имеет два важных последств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 u="sng">
                <a:solidFill>
                  <a:srgbClr val="8b8b8b"/>
                </a:solidFill>
                <a:uFillTx/>
                <a:latin typeface="Calibri"/>
              </a:rPr>
              <a:t>а) вызывает трудности у детей, которые предпочитают другие способы самовыраж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 u="sng">
                <a:solidFill>
                  <a:srgbClr val="8b8b8b"/>
                </a:solidFill>
                <a:uFillTx/>
                <a:latin typeface="Calibri"/>
              </a:rPr>
              <a:t>б) не позволяет сформировать навыки применения других способов самовыражения, навыки одновременного использования разных способов самовыражения, характерных для современного общества (в печатной и электронной форме, с использованием различных предметов и т.д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34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35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36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7640" y="1412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фференциация представления детских результа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95640" y="2277000"/>
            <a:ext cx="59763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Принимая во внимание особенности детей, воспитатель </a:t>
            </a:r>
            <a:r>
              <a:rPr b="0" i="1" lang="ru-RU" sz="1400" spc="-1" strike="noStrike">
                <a:solidFill>
                  <a:srgbClr val="8b8b8b"/>
                </a:solidFill>
                <a:latin typeface="Calibri"/>
              </a:rPr>
              <a:t>должен предоставлять детям возможность выбирать доступные им средства 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представления информации и результа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В зависимости от готовности к обучению разных детей воспитатель, наприме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- во время заключительного представления поощряет детей таким образом, чтобы способствовать проявлению ими приобретенных способностей и знаний по тем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- дает детям письменные инструкции, которые могут быть использованы в случае необходимо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- помогает разбить на отдельные шаги процесс достижения результата, направляет детей во время рабо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- использует методы оценивания, которые учитывают скорость обучения детей (например, наблюдение, вопросы к детям, организация наблюдений в портфолио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- предлагает различные формы организации деятельности, разрешает детям выбрать ту, которая им подходи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41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42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43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ые обла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Социально-коммуникатив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Познаватель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Мате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Окружающий мир: Естествознание, экология и тех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Окружающий мир: Общество, история и куль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Речев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Художественно-эстет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Изобразительные, пластические искусства, конструирование и модел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Музыка, музыкальное движение, тан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Физ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Движение и 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Здоровье, гигиена,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48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49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50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ые обла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Социально-коммуникатив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Познаватель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Мате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Окружающий мир: Естествознание, экология и тех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Окружающий мир: Общество, история и куль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Речев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Художественно-эстет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Изобразительные, пластические искусства, конструирование и модел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Музыка, музыкальное движение, тан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Физическ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Движение и 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8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Здоровье, гигиена,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55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56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57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3132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67474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ые области. Структу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57160" y="227700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lang="ru-RU" sz="1400" spc="-1" strike="noStrike">
                <a:solidFill>
                  <a:srgbClr val="808080"/>
                </a:solidFill>
                <a:latin typeface="Calibri"/>
              </a:rPr>
              <a:t>Связь раздела  с другими разделами Програ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lang="ru-RU" sz="1400" spc="-1" strike="noStrike">
                <a:solidFill>
                  <a:srgbClr val="808080"/>
                </a:solidFill>
                <a:latin typeface="Calibri"/>
              </a:rPr>
              <a:t>Целевые ориентиры в об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i="1" lang="ru-RU" sz="1400" spc="-1" strike="noStrike">
                <a:solidFill>
                  <a:srgbClr val="808080"/>
                </a:solidFill>
                <a:latin typeface="Calibri"/>
              </a:rPr>
              <a:t>Организация воспитателем образовательной деятельности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lang="ru-RU" sz="1400" spc="-1" strike="noStrike">
                <a:solidFill>
                  <a:srgbClr val="808080"/>
                </a:solidFill>
                <a:latin typeface="Calibri"/>
              </a:rPr>
              <a:t>Организация педагог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lang="ru-RU" sz="1400" spc="-1" strike="noStrike">
                <a:solidFill>
                  <a:srgbClr val="808080"/>
                </a:solidFill>
                <a:latin typeface="Calibri"/>
              </a:rPr>
              <a:t>Установки в образовательном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lang="ru-RU" sz="1400" spc="-1" strike="noStrike">
                <a:solidFill>
                  <a:srgbClr val="808080"/>
                </a:solidFill>
                <a:latin typeface="Calibri"/>
              </a:rPr>
              <a:t>Примеры детских и детско-взрослых (детско-родительских)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lang="ru-RU" sz="1400" spc="-1" strike="noStrike">
                <a:solidFill>
                  <a:srgbClr val="808080"/>
                </a:solidFill>
                <a:latin typeface="Calibri"/>
              </a:rPr>
              <a:t>Примерный перечень средств обучения и воспитания (оборудование, игры и игрушек, материалы, программное обеспечение и прочее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lang="ru-RU" sz="1400" spc="-1" strike="noStrike">
                <a:solidFill>
                  <a:srgbClr val="808080"/>
                </a:solidFill>
                <a:latin typeface="Calibri"/>
              </a:rPr>
              <a:t>Организация пространства и оснащение материалами предметно-развивающе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lang="ru-RU" sz="1400" spc="-1" strike="noStrike">
                <a:solidFill>
                  <a:srgbClr val="808080"/>
                </a:solidFill>
                <a:latin typeface="Calibri"/>
              </a:rPr>
              <a:t>Эмоциональная атмосф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808080"/>
              </a:buClr>
              <a:buFont typeface="Arial"/>
              <a:buAutoNum type="arabicPeriod"/>
            </a:pPr>
            <a:r>
              <a:rPr b="1" lang="ru-RU" sz="1400" spc="-1" strike="noStrike">
                <a:solidFill>
                  <a:srgbClr val="808080"/>
                </a:solidFill>
                <a:latin typeface="Calibri"/>
              </a:rPr>
              <a:t>Сотрудничество с семь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62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63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64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7" name="Таблица 2"/>
          <p:cNvGraphicFramePr/>
          <p:nvPr/>
        </p:nvGraphicFramePr>
        <p:xfrm>
          <a:off x="0" y="0"/>
          <a:ext cx="9143640" cy="7076880"/>
        </p:xfrm>
        <a:graphic>
          <a:graphicData uri="http://schemas.openxmlformats.org/drawingml/2006/table">
            <a:tbl>
              <a:tblPr/>
              <a:tblGrid>
                <a:gridCol w="847080"/>
                <a:gridCol w="1487160"/>
                <a:gridCol w="2741400"/>
                <a:gridCol w="4067640"/>
              </a:tblGrid>
              <a:tr h="332640">
                <a:tc gridSpan="4"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мерный распорядок дня. Модель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ре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сновная задач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держание 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держание для воспита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26504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7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ветствие; встреча детей; завтр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для свободной игры; приветствие и общение детей друг с другом; завтрак для желающих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и могут пользоваться любыми помещениями детского дошкольного учреждения для игр и занятий по собственному выбор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 начало утренней смены присутствует не более 50% воспитательниц; обеспечение присмотра за детьми до детского совета (утреннего круга); основные обязанности осуществляет «принимающая воспитательница»; общение с родителями, индивидуальное общение с детьми; опека детей-нович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144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8:30 – 8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ланерка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*Все сотрудники собираются на планёрку (кроме «принимающих воспитательниц»)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2288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8:30 – 09: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место план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готовительный период для воспитатель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м. вы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готовка игровых для занятий и работы детей по их выбору; при необходимости «беседы в дверях» с родителями; приветствие только что пришедших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10688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9:00- 10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ский сов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утренний кру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нятия по выбору,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сужд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итуалы (например, совместное начало дня; день рождения; обсуждения и принятие решений и пр.)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и могут включиться по своему желанию в  занятия предложенные взрослыми, играть или сделать выбор в пользу самостоятельно выбранных дел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присоединившиеся дети проводят это время с «принимающей воспитательницей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те дни, когда у группы по плану  муз.руководителя, воспитателя по физвоспитанию или учителя-логопеда и др. специалистов занятия в муз. или физкультурном зале (и др.) дети участвуют в предложенных ими занятиях или проектах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и и взрослые делятся своими впечатлениями и результатами от работы в Центрах активности, от игр, занят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и посильно участвуют в уборке и помогают друг дру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зрослые (воспитательница, специалисты) дают ориентировку на предстоящий день, обзор занятий или проектов и их составных частей; осуществляют модерацию принятия детьми решений; руководят ритуалами и дают информацию; обсуждают организационные момен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узыкальный руководитель/ Воспитатель по физвоспитанию/ Др. специалисты руководят занятиями и проектами; оказывают поддержку детям; инициируют процессы обучения и т.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зрослые (воспитательница, специалисты) поддерживают  разговор  с помощью открытых вопросов и т.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зрослые также участвуют в уборке и помогают 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Таблица 2"/>
          <p:cNvGraphicFramePr/>
          <p:nvPr/>
        </p:nvGraphicFramePr>
        <p:xfrm>
          <a:off x="0" y="0"/>
          <a:ext cx="9143640" cy="5100120"/>
        </p:xfrm>
        <a:graphic>
          <a:graphicData uri="http://schemas.openxmlformats.org/drawingml/2006/table">
            <a:tbl>
              <a:tblPr/>
              <a:tblGrid>
                <a:gridCol w="847080"/>
                <a:gridCol w="1487160"/>
                <a:gridCol w="2453400"/>
                <a:gridCol w="4355640"/>
              </a:tblGrid>
              <a:tr h="332640">
                <a:tc gridSpan="4"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мерный распорядок дня. Модель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рем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сновная зада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держан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держание для воспит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86148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7: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ветствие; встреча детей; завтр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для свободной игры; приветствие и общение детей друг с другом; завтрак для желающих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и могут пользоваться любыми помещениями детского дошкольного учреждения для игр и занятий по собственному выбор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 начало утренней смены присутствует не более 50% воспитательниц; обеспечение присмотра за детьми до детского совета (утреннего круга); основные обязанности осуществляет «принимающая воспитательница»; общение с родителями, индивидуальное общение с детьми; опека детей-нович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900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0: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вместный второй завтр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если е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и и воспитательницы принимают участие в совместном завтрак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спитательницы помогают детям в организации завтра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1524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0:35:1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готовка к прогулке. Прогул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степенный уход части детей дом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и играют и общаются друг с друго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спитательницы предлагают игры или включаются в игры, предложенные детьми; время для наблюдений; присмотр за детьм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зможность побеседовать с родителями тех детей, кто посещает детский сад до обе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6900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звращение с прогулки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готовка к обеду и обе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и, остающиеся на продленный день, обеда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спитательницы помогают детям в организации обе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212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:30:15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н для тех детей, кто привык днем спать. Спокойные игры и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 дети, кто отказывается от дневного сна,  занимаются самостоятельно «тихими играми», рассматривают (читают) книг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еспечение обязательного при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92120">
                <a:tc>
                  <a:txBody>
                    <a:bodyPr lIns="26640" rIns="26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5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степенный подъем; гигиенические процедуры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ти постепенно переходят от сна (и другого дневного отдыха) к более активным играм и занят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еспечение помощи и поддержки, обязательного при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5880"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5:30 – 16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лдник (если е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26640" rIns="26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57160" y="17006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действие с родителям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57160" y="2445840"/>
            <a:ext cx="535752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Взаимодействие с родителями является одним из базовых принципов програм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В программе описаны  формы сотрудничества, наработанные успешной практикой, на основе которой каждый детский сад может составить свой вариа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Основной подход в работе с семьей - взаимодополняющее партнерство, творческое взаимо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8b8b8b"/>
                </a:solidFill>
                <a:latin typeface="Calibri"/>
              </a:rPr>
              <a:t>Программа «Вдохновение» предлагает современную методику взаимодействия образовательной организации с семьей в соответствии с концепцией «Компетентный родитель» (поддержанную ЮНЕСКО) и опирается на опыт реализации данной концепции в рамках проекта ЮНЕСКО в Москве и на опыт, накопленном в европейских стр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10"/>
          <p:cNvGrpSpPr/>
          <p:nvPr/>
        </p:nvGrpSpPr>
        <p:grpSpPr>
          <a:xfrm>
            <a:off x="6643800" y="3196800"/>
            <a:ext cx="1794600" cy="2874960"/>
            <a:chOff x="6643800" y="3196800"/>
            <a:chExt cx="1794600" cy="2874960"/>
          </a:xfrm>
        </p:grpSpPr>
        <p:pic>
          <p:nvPicPr>
            <p:cNvPr id="275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6643800" y="3196800"/>
              <a:ext cx="1794600" cy="13464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6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6643800" y="467604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7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6643800" y="5407200"/>
              <a:ext cx="1772640" cy="6645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3640" y="2178720"/>
            <a:ext cx="563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57160" y="3143160"/>
            <a:ext cx="5357520" cy="31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ts val="15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8b8b8b"/>
                </a:solidFill>
                <a:latin typeface="Calibri"/>
              </a:rPr>
              <a:t>Издательство «Национальное образов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5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5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8b8b8b"/>
                </a:solidFill>
                <a:latin typeface="Calibri"/>
              </a:rPr>
              <a:t>+7 (495) 788-00-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5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8b8bff"/>
                </a:solidFill>
                <a:uFillTx/>
                <a:latin typeface="Calibri"/>
                <a:hlinkClick r:id="rId2"/>
              </a:rPr>
              <a:t>info@n-ob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5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5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8b8b8b"/>
                </a:solidFill>
                <a:latin typeface="Calibri"/>
              </a:rPr>
              <a:t>Национальноеобразование.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C:\_Files\_2014\Серия книг «Вдохновение»\Prezentation\Files\Plast_1_Preview.jpg"/>
          <p:cNvPicPr/>
          <p:nvPr/>
        </p:nvPicPr>
        <p:blipFill>
          <a:blip r:embed="rId3"/>
          <a:stretch/>
        </p:blipFill>
        <p:spPr>
          <a:xfrm>
            <a:off x="6643800" y="4357800"/>
            <a:ext cx="1785600" cy="831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282" name="Picture 3" descr="C:\_Files\_2014\Серия книг «Вдохновение»\Prezentation\Files\Plast_10_Preview.jpg"/>
          <p:cNvPicPr/>
          <p:nvPr/>
        </p:nvPicPr>
        <p:blipFill>
          <a:blip r:embed="rId4"/>
          <a:stretch/>
        </p:blipFill>
        <p:spPr>
          <a:xfrm>
            <a:off x="6643800" y="5286240"/>
            <a:ext cx="1785600" cy="831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283" name="Picture 5" descr="C:\_Files\_2014\Серия книг «Вдохновение»\Prezentation\Files\PLAST-4-in-1-COVER_Preview_(Cut).jpg"/>
          <p:cNvPicPr/>
          <p:nvPr/>
        </p:nvPicPr>
        <p:blipFill>
          <a:blip r:embed="rId5"/>
          <a:stretch/>
        </p:blipFill>
        <p:spPr>
          <a:xfrm>
            <a:off x="6642000" y="2571840"/>
            <a:ext cx="1807200" cy="164268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Vdohnovenie_Prezentation_Slide_Design_01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25718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Современная социокультурная ситуация развития детства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99640" y="3357000"/>
            <a:ext cx="547236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340"/>
              </a:spcBef>
              <a:buClr>
                <a:srgbClr val="8b8b8b"/>
              </a:buClr>
              <a:buFont typeface="Arial"/>
              <a:buAutoNum type="arabicPeriod"/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Изменения в обществе и эконом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0"/>
              </a:spcBef>
              <a:buClr>
                <a:srgbClr val="8b8b8b"/>
              </a:buClr>
              <a:buFont typeface="Arial"/>
              <a:buAutoNum type="arabicPeriod"/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Изменения в структуре семьи и семейной культур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0"/>
              </a:spcBef>
              <a:buClr>
                <a:srgbClr val="8b8b8b"/>
              </a:buClr>
              <a:buFont typeface="Arial"/>
              <a:buAutoNum type="arabicPeriod"/>
            </a:pPr>
            <a:r>
              <a:rPr b="1" lang="ru-RU" sz="1700" spc="-1" strike="noStrike">
                <a:solidFill>
                  <a:srgbClr val="8b8b8b"/>
                </a:solidFill>
                <a:latin typeface="Calibri"/>
              </a:rPr>
              <a:t>Национальная идентичность и культурное многообраз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8b8b8b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8b8b8b"/>
                </a:solidFill>
                <a:latin typeface="Calibri"/>
              </a:rPr>
              <a:t>Контекст, в котором вырастают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8b8b8b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8b8b8b"/>
                </a:solidFill>
                <a:latin typeface="Calibri"/>
              </a:rPr>
              <a:t>Демографические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340"/>
              </a:spcBef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340"/>
              </a:spcBef>
              <a:buNone/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_Files\_2014\Серия книг «Вдохновение»\Prezentation\Files\Vdohnovenie_Book_Cover_(Design)_Preview.jpg"/>
          <p:cNvPicPr/>
          <p:nvPr/>
        </p:nvPicPr>
        <p:blipFill>
          <a:blip r:embed="rId2"/>
          <a:stretch/>
        </p:blipFill>
        <p:spPr>
          <a:xfrm>
            <a:off x="6858000" y="3571920"/>
            <a:ext cx="1509120" cy="19998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Vdohnovenie_Prezentation_Slide_Design_01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71760" y="25718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Цель программы: Вдохновлять !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71760" y="3500280"/>
            <a:ext cx="5143320" cy="26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Только воспитатель, воодушевленный своей работой, видящий в ней смысл и делающий ее с радостью и удовольствием может выстроить полноценный, качественный образовательно-воспитательный процес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Вдохновение дарит педагогам </a:t>
            </a:r>
            <a:r>
              <a:rPr b="0" i="1" lang="ru-RU" sz="1400" spc="-1" strike="noStrike">
                <a:solidFill>
                  <a:srgbClr val="8b8b8b"/>
                </a:solidFill>
                <a:latin typeface="Calibri"/>
              </a:rPr>
              <a:t>профессиональную свободу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, </a:t>
            </a:r>
            <a:r>
              <a:rPr b="0" i="1" lang="ru-RU" sz="1400" spc="-1" strike="noStrike">
                <a:solidFill>
                  <a:srgbClr val="8b8b8b"/>
                </a:solidFill>
                <a:latin typeface="Calibri"/>
              </a:rPr>
              <a:t>чувство собственной профессиональной компетентности, 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8b8b8b"/>
                </a:solidFill>
                <a:latin typeface="Calibri"/>
              </a:rPr>
              <a:t>создает плодотворную почву для повышения профессионального уров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Сознание своей профессиональной компетентности является  важнейшей мотивационной основой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_Files\_2014\Серия книг «Вдохновение»\Prezentation\Files\Vdohnovenie_Book_Cover_(Design)_Preview.jpg"/>
          <p:cNvPicPr/>
          <p:nvPr/>
        </p:nvPicPr>
        <p:blipFill>
          <a:blip r:embed="rId2"/>
          <a:stretch/>
        </p:blipFill>
        <p:spPr>
          <a:xfrm>
            <a:off x="6858000" y="3571920"/>
            <a:ext cx="1509120" cy="19998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Vdohnovenie_Prezentation_Slide_Design_01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71760" y="25718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Программа «Вдохновение»</a:t>
            </a:r>
            <a:br>
              <a:rPr sz="3000"/>
            </a:b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создает возможности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571760" y="3500280"/>
            <a:ext cx="5143320" cy="26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5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Программа </a:t>
            </a:r>
            <a:r>
              <a:rPr b="0" i="1" lang="ru-RU" sz="1400" spc="-1" strike="noStrike">
                <a:solidFill>
                  <a:srgbClr val="8b8b8b"/>
                </a:solidFill>
                <a:latin typeface="Calibri"/>
              </a:rPr>
              <a:t>предполагает вариативность</a:t>
            </a: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 ее использования в зависимости от конкретной ситуации и места расположения детского сада, специфики состава детей и их семей. Программа не только допускает, но и предполагает различные формы ее реализации. Например, ее содержание может быть реализовано как в группах одного возраста, так и разновозрастные группах, в группах с малым составом детей и в больших группах, в группах полного дня и группах кратковременного преб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_Files\_2014\Серия книг «Вдохновение»\Prezentation\Files\Vdohnovenie_Book_Cover_(Design)_Preview.jpg"/>
          <p:cNvPicPr/>
          <p:nvPr/>
        </p:nvPicPr>
        <p:blipFill>
          <a:blip r:embed="rId2"/>
          <a:stretch/>
        </p:blipFill>
        <p:spPr>
          <a:xfrm>
            <a:off x="6858000" y="3571920"/>
            <a:ext cx="1509120" cy="19998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Vdohnovenie_Prezentation_Slide_Design_01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71760" y="257184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Научное обоснование положений программы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71760" y="3500280"/>
            <a:ext cx="5143320" cy="26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Каждый воспитатель должен понимать, что, зачем и почему он делает. Только тогда он приобретет необходимую и осознанную свободу в профессиональной деятельности, сможет гибко выстраивать педагогический процесс в соответствии с индивидуальными возможностями и потребностями каждо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Программа предоставляет убедительное научное обоснование каждого положения, содержит данные важнейших современных исследований,  а также  яркие примеры из опыта работы лучших педагогов и образовательных практ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_Files\_2014\Серия книг «Вдохновение»\Prezentation\Files\Vdohnovenie_Book_Cover_(Design)_Preview.jpg"/>
          <p:cNvPicPr/>
          <p:nvPr/>
        </p:nvPicPr>
        <p:blipFill>
          <a:blip r:embed="rId2"/>
          <a:stretch/>
        </p:blipFill>
        <p:spPr>
          <a:xfrm>
            <a:off x="6858000" y="3571920"/>
            <a:ext cx="1509120" cy="19998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-126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24000" y="227700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Просто о сложном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804120" y="3144960"/>
            <a:ext cx="5357520" cy="31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15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Программа написана по  принципу «просто о сложном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5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Все положения иллюстрируются наглядными примерами, даются конкретные методические рекомендации  по  организации образовательного процесса, организации пространства и предметно-развивающей ср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10"/>
          <p:cNvGrpSpPr/>
          <p:nvPr/>
        </p:nvGrpSpPr>
        <p:grpSpPr>
          <a:xfrm>
            <a:off x="323640" y="1245240"/>
            <a:ext cx="3362400" cy="5019120"/>
            <a:chOff x="323640" y="1245240"/>
            <a:chExt cx="3362400" cy="5019120"/>
          </a:xfrm>
        </p:grpSpPr>
        <p:pic>
          <p:nvPicPr>
            <p:cNvPr id="76" name="Picture 2" descr="C:\_Files\_2014\Серия книг «Вдохновение»\Prezentation\Files\Dizain_intererov_detskih_sadov_(Cover)_Preview.jpg"/>
            <p:cNvPicPr/>
            <p:nvPr/>
          </p:nvPicPr>
          <p:blipFill>
            <a:blip r:embed="rId2"/>
            <a:stretch/>
          </p:blipFill>
          <p:spPr>
            <a:xfrm>
              <a:off x="323640" y="1245240"/>
              <a:ext cx="3362400" cy="23504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77" name="Picture 3" descr="C:\_Files\_2014\Серия книг «Вдохновение»\Prezentation\Files\Dizain_intererov_detskih_sadov_(Design)_012_(20-21_Spread)_Preview.jpg"/>
            <p:cNvPicPr/>
            <p:nvPr/>
          </p:nvPicPr>
          <p:blipFill>
            <a:blip r:embed="rId3"/>
            <a:stretch/>
          </p:blipFill>
          <p:spPr>
            <a:xfrm>
              <a:off x="323640" y="3827520"/>
              <a:ext cx="3320640" cy="116028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78" name="Picture 4" descr="C:\_Files\_2014\Серия книг «Вдохновение»\Prezentation\Files\Dizain_intererov_detskih_sadov_(Design)_012_(26-27_Spread)_Preview.jpg"/>
            <p:cNvPicPr/>
            <p:nvPr/>
          </p:nvPicPr>
          <p:blipFill>
            <a:blip r:embed="rId4"/>
            <a:stretch/>
          </p:blipFill>
          <p:spPr>
            <a:xfrm>
              <a:off x="323640" y="5104080"/>
              <a:ext cx="3320640" cy="116028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Vdohnovenie_Prezentation_Slide_Design_02.png"/>
          <p:cNvPicPr/>
          <p:nvPr/>
        </p:nvPicPr>
        <p:blipFill>
          <a:blip r:embed="rId1"/>
          <a:stretch/>
        </p:blipFill>
        <p:spPr>
          <a:xfrm>
            <a:off x="0" y="1800"/>
            <a:ext cx="9143640" cy="6853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57160" y="2214720"/>
            <a:ext cx="6357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01"/>
              </a:lnSpc>
              <a:buNone/>
            </a:pPr>
            <a:r>
              <a:rPr b="0" lang="ru-RU" sz="3000" spc="-100" strike="noStrike">
                <a:solidFill>
                  <a:srgbClr val="000000"/>
                </a:solidFill>
                <a:latin typeface="Calibri"/>
              </a:rPr>
              <a:t>Компетентный педагог «Вдохновения»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57160" y="3143160"/>
            <a:ext cx="5357520" cy="31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8b8b8b"/>
                </a:solidFill>
                <a:latin typeface="Calibri"/>
              </a:rPr>
              <a:t>«Вдохновение» предусматривает повышение квалификации педагогов и предлагает модульную краткосрочную и долгосрочную программы повышения квалифик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_Files\_2014\Серия книг «Вдохновение»\Prezentation\Files\Vdohnovenie_Book_Cover_(Design)_Preview.jpg"/>
          <p:cNvPicPr/>
          <p:nvPr/>
        </p:nvPicPr>
        <p:blipFill>
          <a:blip r:embed="rId2"/>
          <a:stretch/>
        </p:blipFill>
        <p:spPr>
          <a:xfrm>
            <a:off x="6786720" y="3214800"/>
            <a:ext cx="1778760" cy="23569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  <Words>4168</Words>
  <Paragraphs>3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09:07:45Z</dcterms:created>
  <dc:creator>Sergey Marukhin</dc:creator>
  <dc:description/>
  <dc:language>en-US</dc:language>
  <cp:lastModifiedBy>1</cp:lastModifiedBy>
  <dcterms:modified xsi:type="dcterms:W3CDTF">2014-09-17T06:11:45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2</vt:r8>
  </property>
  <property fmtid="{D5CDD505-2E9C-101B-9397-08002B2CF9AE}" pid="3" name="PresentationFormat">
    <vt:lpwstr>Экран (4:3)</vt:lpwstr>
  </property>
  <property fmtid="{D5CDD505-2E9C-101B-9397-08002B2CF9AE}" pid="4" name="Slides">
    <vt:r8>39</vt:r8>
  </property>
</Properties>
</file>