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21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3.png" ContentType="image/png"/>
  <Override PartName="/ppt/media/image23.gif" ContentType="image/gif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ABA-998C-440B-AC16-31098CE6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687-D7B8-4C69-9098-DC464CB8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43CD8-A4F8-4B71-BAFA-F8B4B568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6E3DD-B31A-49E9-B958-A0AF100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2E738-9C75-4841-96D4-6BED93BA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56176-E85E-48F1-8482-411D319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9F52A-9579-4FE2-BFDF-5DF9183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ED620-1A28-4534-BA5A-6A1C4BEC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A1232-0242-4208-A48E-7B918F3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F9A8A-9F22-4AD4-B42C-B5236C00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D3F2A-0F41-41BB-B4C9-1D765272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A94A2-F54A-4421-AEC2-B08C2B2A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2E6-24D6-4563-B6B3-3CC1FB56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A4C5-F524-4CAB-A073-945AED2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6ED37-E6EE-4BD6-A479-12B1348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81979-8CAA-47E5-B7F2-71C53F28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E2683-9A57-4479-AB35-9AACABFB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4D2D0-F228-4B14-BBED-80E762DF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8F730-ACAD-43F0-BE6D-DFDA27E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867FE-DC02-4472-A8FA-906C9ED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F2999-3FDD-4BE4-B430-5629C7B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4E47-0CC0-41F8-8EE6-0653661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C3C72-1703-4929-A142-A5350541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63A-670E-4B8A-A4C7-726DBF5D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5F494-598C-4B08-B52F-1C26B224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C0B3-0371-4E7B-9B39-1BF8BD1C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11309-4250-4B35-80F9-F4BEBA8A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76E13-88C1-4925-9A59-F0A21C42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990D-9E0F-46BC-9342-FC06D4D1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BD7D5-72AA-49E3-81D7-F8E911AF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E8980-899E-4CD3-A288-91CCB1EF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BAEFF-1399-4910-A698-8FDDC725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38328-7CDF-44F9-A834-C632A07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AA08B-648F-45A9-836A-9A26064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5D9-8E48-402D-81E2-7B96498F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5CC31-7E60-4406-A957-8DC6811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1A095-A130-44D7-8901-D25E0B14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0F339-C837-477B-B65E-FABAE7C8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3B4F0-D3A3-49B5-BF53-A8D52DA8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ACB30-D850-46A6-84C8-11CA2C33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3CD43-719D-4626-BDB5-6B6BE7A3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2EE5D-1966-4427-BF9F-9CA250CB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48FA3-1FBA-49EB-AB53-1C8E8860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AEDE8-3EFD-4B27-B583-D6E5C5D7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B3043-2659-40E3-B6BB-7676CAD7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C0D-764D-447D-91CE-255371C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A97F7-5326-4396-8354-1BAE149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6A972-FBA0-461B-8A4B-8C22E3BC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768C6-866E-48DA-8BD3-DBB24E9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2F2F1-155A-4CE3-BD40-8785870A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F26F3-CAF3-4CE4-A36A-E61CA325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CB885-6F8B-4B28-9262-AEEF8AA4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9ACEB-B9B8-4ACC-A432-EB9F5A3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ABBFF-8D65-46C1-9623-529E2FA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F3A3F-19CF-4697-8185-E0DBF0C1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E9797-7E5B-430F-AF89-20F2C73A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C73F-D5BE-4403-B74D-63D03D5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AD01A-A914-410B-833D-26C02052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A8D7B-3ED9-40AD-A921-20ABEB8F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0ED2E-DCC9-48C5-9318-7933DFE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175F8-EA7D-4C60-9A56-DC386FF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61F39-46A0-4393-81F2-A18329EF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DFD0D-2C81-4E89-9FAB-EF7C57AF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E57CD-5CD0-460A-9753-E009D34B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E89A3-7581-4B27-A2EC-74087043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BE6B9-49D5-42FE-873C-A84B635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4F9AC-EF24-4EAF-A66C-84195E4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F9CF-101F-4FE4-A1A5-F9AC433B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4B7AC-CFF1-4593-B295-A449474D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F5BF9-D47A-4B6A-BA69-9F625112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85564-F7D7-4233-BD40-0298A49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240A2-0682-4D37-B129-D9AF557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39267-6566-4E2D-89F2-EA9DBB64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2461A-B847-4267-BAEF-2CC2EE8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B0E12-0361-4AC2-88E3-9A33B14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388A8-A1BC-4CAA-85DC-C4C10413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C4C1E-D856-4DCD-B15A-0EE64BD1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A96E6-786F-49B2-82BB-5C2B69D3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5E89-8C0E-4ABC-AF5E-C3AEAB7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9BDBA-9419-49F9-986A-A28F2B09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2F8BC-92F8-40D0-9E41-BEA2C19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38F26-E279-4758-A938-CB3C4FD3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1FE66-603D-4FA2-8ABA-792B8700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EBE29-40B2-45A9-AE14-FBF6B1D9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A0543-E564-4E2D-AF79-FC7D8DD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4C7C2-D4D4-48B8-940F-C1F948F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12C6B-C4C4-4E53-A17E-5281251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90A9C-3F5B-4F1E-B898-160B65DA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E4CFD-C8B2-498D-8628-F9450682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AC42-F21C-43C8-8B67-FE12B039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96F9E-106D-4F7C-BED7-08962157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9D637-0169-41AE-B43D-9E1339D7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4920B-FA9A-4EF6-9B2A-8C06F70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33B77-892F-4D12-AFF5-6D732738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C3942-A8F6-47F7-9B31-12F59FFA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E17B3-4D2C-4958-B428-4B8D44DF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41A92-15E0-41C4-9680-6EF0BF5C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88245-0315-4106-A978-A974192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21AC0-4010-4D70-8FDE-4184142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FC8B7-6C05-47EA-A1FB-61DA8AC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4368-BB7C-4838-A0B3-9A11C9F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78EEB-6449-4E9F-8843-6BB19D7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0D7D5-30E8-46E0-8D7F-55B608FB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299E3-9442-4F69-8517-229263C8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1C5A5-61F0-46B9-82EE-FC93A971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9ACB8-E826-4A33-9DE8-A8B459DE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F661F-13FC-47CC-B3CD-94DBD69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178EB-AAE5-4F27-B6CC-30E7FBB6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90010-8FCB-4A52-AAB0-B32E1164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ED8F2-B84E-495B-A500-D66C42E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1A9B8-992B-44F8-9F2D-BC0CA11C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925-6A00-4A96-9E44-11D4F383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8F10-C445-436E-B939-47EE695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04A01-16C4-4F38-A95B-7A44C23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ECE0F-60A1-4B81-A7B1-2D7A0EE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A63F9-37E5-4441-8A56-12C47C8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B9542-719F-430F-AF92-DDA5CE35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1C2AB-44FD-43C9-8301-A3468969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EFBF0-4A09-416A-842E-12123A8D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3C62C-32EF-470C-9C11-EB6DD64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DE72F-46C7-404A-A68A-E09E7DC8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8E845-75ED-4E21-9D77-BE48F057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5B1BD-D0BC-47DE-8209-15F9E8BA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B8E0-6612-49A5-8386-EE26BCC8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3B7B4-5F73-4209-A177-EFF24CEA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87A38D-EE57-49C7-9011-A15E8037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62CA7-AAD0-45C3-9A86-17C94E7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1C02B-428A-41F0-8250-850C39DA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CB176-B060-425D-A1BA-60D04FEB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EB1B6-4E51-4E63-BA65-32CB2637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30F33-EAA6-4D1F-B7D3-4133FDBA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6F5FB-235E-4CDE-81BD-88047B8B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45334-8D71-4B0A-A9AB-882D9421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A406C-1D8C-4FDE-8590-333CB656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7C1-72AA-43F3-8C97-6FBC3354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34011-D125-4C59-843F-E2F3FEF2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3AA05-59EE-44BE-AD27-EEBA0F25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D5B7F-D2DC-4C24-A8B5-C36F4B04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3303D-9C2E-4B41-B557-9D3CA8E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181B3-DC29-407C-ACD7-1389506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8FA74-90E8-4D87-9C9C-01603BA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64163-6805-4E5A-B125-68427F90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6222E-D590-40FE-9D72-4392FD52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667EE-6058-40CF-AEAD-31BA0A79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3A4BC-5BAD-474B-ADF3-FDE22F9D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A18E-7829-4D6C-B55A-0F3AE7E7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BFA78-7B11-4002-BDAC-617A2DA0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EEC12-4B1C-4053-B6D9-5E09939F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97985-E955-4606-8E90-387C6C67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038FF-D41B-4DDA-ACD4-A42B80A0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39DF3-9F6A-4BF2-A610-55A08B88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A784D-5119-460B-8359-246F059D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977B0-7FB4-4EF6-B4CD-B4B2EAF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5A02A-4117-4B20-AC42-CD83A63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81268-F04E-4B72-B4FC-6F80726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CF1C93-1BA5-4F89-9339-9144D72C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C44D-E12C-45CC-9209-7732B456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96F19-F777-441E-BC01-2AC89B07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1503E-9969-4323-81A1-C8133B7A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99336-60A5-43D6-817E-FA69947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4CE81-B4C8-4CF2-AD71-697769F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B462B-3480-436C-A3CD-A8C0968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42A0E-2EBA-4F90-941C-CE55850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16154-BAD9-4450-9073-671E801A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C1C32-BAA7-46EB-8FF6-2A09FE4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22857-D7DE-4B4E-8107-F976624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EACD8-BFAB-4019-985D-B7DBA6E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8A88-ACC0-4420-9BCC-34C4D686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B99A2-4045-4CE8-B8D0-172E8F4B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60C68-0E45-4656-959A-2AF03A24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FF0769-8FC8-41E1-807C-BC9A1A77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3432-3807-4199-948A-4E460E9B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6B1E-33C2-41D2-97E5-C91FDF26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BE40-986A-4CD5-B5F2-7F950F4F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3891-D2B2-454A-8844-86A66A47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259-A4AC-4D2C-8D63-EC26E3C0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8F29-8650-464B-9EC0-E981158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69F0-BF49-48C5-BCD0-3627EEF7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D925-F667-4206-9BE6-124FF34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8574-8566-4367-9CFC-6E2FE8A4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6EE1-7BC6-4886-AC1E-B78428A6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8A23-D1B4-4E64-B1F8-44A3B59A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173C-E647-4103-8C43-0720FCC2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E975-8CC1-4D44-8516-4F84EE25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D9A9-594E-4BD2-AC3D-461D53B0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507B-8E8B-44F5-A7F8-61D16320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8B6-E158-441B-B661-180B410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77EF-C9F1-4158-A37F-DCC58676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B403-4601-4100-BC1C-868068DF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42FE-EFF6-4F58-8AF8-14D533E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5444-0776-40AB-859F-F93827C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81F8-ECB9-4734-9079-F116FDF3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EAE0-1095-40EC-9054-9F1A5D76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51BA-3B68-4D00-9F7C-48664EAE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2E9A-A7C2-40F3-A194-02DBAF0C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8C10-E843-4A52-A22B-5A46143A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02AF-D9DD-4798-8097-DBA044B3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BDD-FE00-415A-A276-A4696B4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C059-D3AD-4AF9-8AE8-2C5B951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7FE4-2BC9-4853-88C5-571AD2D2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2959-F0CE-4382-A928-7238F301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F7CB-A62A-418E-A88B-D4D1DDD5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A9D83-817E-4236-8956-93E7BFA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E9F04-67BA-4461-8D12-71133EA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16EE1-85C4-49B3-BA10-3C530471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E55C-E73D-4808-B19D-45A3E5CC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729F-0B5A-421A-B0CD-3B5AA46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7943-09E5-48F1-8AD9-E8A69628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83D-72F3-49E7-AEED-F5D4FEB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D032-6B49-423C-BA26-F97E65B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C2F69-27CD-4280-8F52-C5ECA4D9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0AC1-1832-43A6-98B5-C46B1D7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AF82-4296-44F1-8BC5-43AD3966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4AB9-1B38-484C-932D-566A215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24D84-79BB-43D9-85C3-628DC8A5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A451-535C-4D73-94BA-359A138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F549-99F9-4912-AB89-03FB0163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639C-51E8-49B4-926E-821BCCC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A78B6-BF56-45C3-91E0-4B17BC9D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285-8DC2-46FF-8300-0352717B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89E5-CC2B-461A-BE07-885D5BC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5C856-3893-4CBC-9693-3C7CBE93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8E0E-4EC8-4331-95F8-0A5B47A2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4F0B6-8383-46CA-AA17-ECADA894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EA1D4-C98C-4C7C-97C5-3E9722D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7CD5A-CE7D-4CD0-980C-8BEDC1A9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B8968-F5D3-40E5-B2E3-85E0EA4F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8A538-2F84-412F-A03B-D682304B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6F21-06D6-4E64-ABEC-88F13504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6E5BF-D12E-495C-822A-4220CEE9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829-5CB8-436D-8C8C-0DB1A65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A1B68-831E-4CC7-94EB-046F9EED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0C4A1-E4FE-4D21-966C-F4E8CFC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CF3B1-6B5B-4D15-9560-5E894E3F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5FD0-C362-4557-9136-CC01E8EB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E3AD5-82A8-4DD4-8572-E172C256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B7976-7027-4B7C-A8AC-53554D23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C2F59-CD7A-424C-AC1E-DABE497F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5F8D0-4927-45BF-AFA2-4E600C90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248B-8210-49BC-8812-A5C35EB8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2AEB-A527-436C-B000-FC802D9D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6E9-5F55-4415-831A-ED9F368C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1DF7D-2C21-4835-9E34-E4BA07A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C20FA-482D-4E24-8ECB-DD0A5734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43C11-ECC7-4C53-822E-62C62CF1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31C5B-79FE-4D8F-9A77-3F25D26E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3CEC-2580-4E31-9930-D6D195CF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87D1-10DE-44DE-B114-C3D6F9EA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42F98-B70F-46CC-B65C-E758822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E2FA6-E1BD-4457-BC49-D4363753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35D2-7D3A-4B41-A2FD-01ED147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E70F5-7DCF-47F3-80A7-B712E159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C8FD-A119-4880-8230-64072187A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EE07-5A7C-42A6-9246-2403DFFDD2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C558-83F5-4222-8D2F-15139EB9D7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A1D7-9192-4B54-B78C-C49B2FE1EB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7EB4-5E8D-4DF2-B87D-A3523B9FC6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4C81-DD1A-47B6-BD44-FA3CDBC096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434-7F25-4CC2-8F58-EBE00AEFCC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53DB-E5C3-4840-8B5A-7C58326E5B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C8C-8B02-4E9A-8FBC-D8FDC1FD2E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CCA-782F-406B-90A5-F228161A63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8ECE-1CF5-4EF1-8593-EFE0ADAE0F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4C8-908D-4E7F-B84C-582733048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5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5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33FF-DB82-46EF-8B62-040C86832F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6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6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5128-0853-4C84-BC9C-5C04C460DB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8E95-E766-4AEE-8AA9-40EA7B0D96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0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93EA-1816-41F6-B825-15F5AE375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3DD5-9239-4FD6-97E9-B8C97EFF08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BF7C-3C88-4FC7-ABB6-C62E325194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F31C-77F1-410B-A6DC-0F93D013FA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1CF7-DA1A-408F-AF2E-8C54C2B5D2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E647-92B2-4A43-8B19-52B509215C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028" name="Рисунок 1" descr=""/>
          <p:cNvPicPr/>
          <p:nvPr/>
        </p:nvPicPr>
        <p:blipFill>
          <a:blip r:embed="rId3"/>
          <a:stretch/>
        </p:blipFill>
        <p:spPr>
          <a:xfrm>
            <a:off x="117360" y="5478480"/>
            <a:ext cx="4741920" cy="127800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57120" y="18864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СТРОЕВЫЕ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Я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Рисунок 2" descr=""/>
          <p:cNvPicPr/>
          <p:nvPr/>
        </p:nvPicPr>
        <p:blipFill>
          <a:blip r:embed="rId4"/>
          <a:stretch/>
        </p:blipFill>
        <p:spPr>
          <a:xfrm>
            <a:off x="1986120" y="2060640"/>
            <a:ext cx="5033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2"/>
          <p:cNvSpPr txBox="1"/>
          <p:nvPr/>
        </p:nvSpPr>
        <p:spPr>
          <a:xfrm>
            <a:off x="0" y="836640"/>
            <a:ext cx="9144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ЕРЕСТРОЕНИЯ </a:t>
            </a:r>
            <a:endParaRPr b="1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ДВИЖЕНИИ</a:t>
            </a:r>
            <a:endParaRPr b="1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2" name="Picture 3" descr="marafon"/>
          <p:cNvPicPr/>
          <p:nvPr/>
        </p:nvPicPr>
        <p:blipFill>
          <a:blip r:embed="rId1"/>
          <a:stretch/>
        </p:blipFill>
        <p:spPr>
          <a:xfrm>
            <a:off x="179280" y="5084640"/>
            <a:ext cx="744480" cy="9572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marafon"/>
          <p:cNvPicPr/>
          <p:nvPr/>
        </p:nvPicPr>
        <p:blipFill>
          <a:blip r:embed="rId2"/>
          <a:stretch/>
        </p:blipFill>
        <p:spPr>
          <a:xfrm>
            <a:off x="4140360" y="5500800"/>
            <a:ext cx="671400" cy="8636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8" descr="marafon"/>
          <p:cNvPicPr/>
          <p:nvPr/>
        </p:nvPicPr>
        <p:blipFill>
          <a:blip r:embed="rId3"/>
          <a:stretch/>
        </p:blipFill>
        <p:spPr>
          <a:xfrm>
            <a:off x="5796000" y="5445000"/>
            <a:ext cx="671400" cy="863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marafon"/>
          <p:cNvPicPr/>
          <p:nvPr/>
        </p:nvPicPr>
        <p:blipFill>
          <a:blip r:embed="rId4"/>
          <a:stretch/>
        </p:blipFill>
        <p:spPr>
          <a:xfrm>
            <a:off x="1163520" y="5452920"/>
            <a:ext cx="744480" cy="9572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marafon"/>
          <p:cNvPicPr/>
          <p:nvPr/>
        </p:nvPicPr>
        <p:blipFill>
          <a:blip r:embed="rId5"/>
          <a:stretch/>
        </p:blipFill>
        <p:spPr>
          <a:xfrm>
            <a:off x="2411280" y="5472000"/>
            <a:ext cx="744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8" name="Рисунок 1" descr=""/>
          <p:cNvPicPr/>
          <p:nvPr/>
        </p:nvPicPr>
        <p:blipFill>
          <a:blip r:embed="rId2"/>
          <a:stretch/>
        </p:blipFill>
        <p:spPr>
          <a:xfrm>
            <a:off x="0" y="755640"/>
            <a:ext cx="1185840" cy="107964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Arial"/>
              </a:rPr>
              <a:t>Перестроение из колонны по одному в колонну по два  (три, и т.д.) поворотом в движении</a:t>
            </a: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 движении группы налево в обход на торцевой стороне зала подается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манда  "В  колонну по два (три, четыре и т.д.) налево - МАРШ!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сле поворота первой двойки (тройки, четверки) следующие делают поворот под команду своего занимающего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"Марш!")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том же месте,  что и первые. Здесь же можно дать указание об интервале и дистанции, с тем чтобы не размыкать колонну потом специа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Для обратного перестроения  подают  команды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"Напра-ВО!«.  «В колонну по одному (налево) в обход направо шагом - МАРШ!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ЕРЕ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i="1" lang="ru-RU" sz="2400" spc="-1" strike="noStrike">
                <a:solidFill>
                  <a:srgbClr val="ff00ff"/>
                </a:solidFill>
                <a:latin typeface="Times New Roman"/>
              </a:rPr>
              <a:t>Строевой шаг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оманда: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"Строевым шагом - МАРШ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i="1" lang="ru-RU" sz="2400" spc="-1" strike="noStrike">
                <a:solidFill>
                  <a:srgbClr val="ff00ff"/>
                </a:solidFill>
                <a:latin typeface="Times New Roman"/>
              </a:rPr>
              <a:t>Походный (обычный) шаг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ожет выполняться при движении с места. Команда: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"Шагом - МАРШ!"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При необходимости  переместить занимающихся на один или несколько шагов вперед или назад подаются команды: "Шаг (2,3 и т.д.) вперед (назад) шагом - МАРШ!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ереходе с других видов ходьбы,  бега или перемещений прыжками, танцевальными шагами, а также при окончании ОРУ в движении подается команда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"Обычным шагом (бегом) - МАРШ!"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Исполнительная команда подается под левую ногу, после чего выполняется шаг правой и занимающиеся переходят на обычный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вижение на мест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выполняется по командам: 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"На месте шагом (бегом) - МАРШ!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"Направляющий - на месте!" </a:t>
            </a: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- подается тогда,  когда передвигающуюся группу надо сомкнуть на дистанцию в один ша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екращение движен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Команд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"Группа - СТОЙ!". </a:t>
            </a: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Подается под левую ногу (затем выполняется шаг  правой  и  приставляется левая ног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8. Движение бего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анда: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"Бегом - МАРШ!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ри переходе на бег с движения шагом без музыкального сопро-вождения исполнительная команда "МАРШ!" подается под правую ногу (с музыкальным сопровождением под левую, после чего занимающиеся  делают шаг правой и с левой начинают бег). После предварительной команды "бегом" следует согнуть руки в локтях и приготовится к бе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9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вижение в обход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4f2270"/>
                </a:solidFill>
                <a:latin typeface="Arial"/>
              </a:rPr>
              <a:t>Коман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" В обход налево (направо) шагом - МАРШ!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0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вижение по  диагонал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анда: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"По диагонали - МАРШ!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ется у угла з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aa4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1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ередвижение противоходом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: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ротивоходом направо (налево) шагом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подаче команды во время передвижения слово "шагом" исклю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2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вижение змейкой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есколько противоходов подряд. Команды: -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ротивоходом налево (направо)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-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змейкой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ожно выполнять в  прямом и косом направлениях. Величина змейки определяется по первому противох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3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вижение по кругу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: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о кругу - МАРШ!"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ается на середине одной из сторон зала, после чего обязательно указывается дистанция. Для выхода из круга на одной из середин подается команда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Налево в обход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4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вижение по спирали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манда: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о спирали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дается на одной из середин,  после чего указывается дистанция. Движение выполняется по кругу с уменьшением его радиуса к центру с интервалом от идущих снаружи в два шага. Для выхода из спирали подается  команда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ротивоходом направо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ногда применяют команду "Кругом - МАРШ!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aa4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вороты в движени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манды:  "Нале - ВО!",  "Напра - ВО!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Исполнительные  команды  подаются под  одноименную ногу, после чего выполняется шаг противоположной ногой и после поворота на носке  идет движение в новом направлении с одноименной повороту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ворота кругом подается команда: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"Кругом - МАРШ!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Исполнительная команда "МАРШ!" подается под правую ногу, после чего делается шаг левой, пол шага правой вперед с поворот кругом на носках,  и с левой ноги начинается движение  в обратном направл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ля сохранения ритма движения  надо  подсчитать "раз-два-три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Рисунок 1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11171"/>
                </a:solidFill>
                <a:uFillTx/>
                <a:latin typeface="Arial"/>
              </a:rPr>
              <a:t>РАЗМЫКАНИЯ И СМЫК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9850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змыкание по Уставу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: "Влево (вправо, от середины) на столько-то шагов разом - КНИСЬ!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сли количество шагов не указано, то  размыкание производится на один шаг. Все, за исключением того, от кого происходит размыкание, выполняют поворот налево  (направо) и, пройдя указанное количество шагов, приставляют ногу и поворачиваются лицом к фронту. Подсчет  ведется по 2 до тех пор, пока все не займут своего места в 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мыкания подается команда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"Вправо (влево, к середине) сом - КНИСЬ!"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се действия выполняются в обратном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мыкания приставными шага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а: </a:t>
            </a:r>
            <a:r>
              <a:rPr b="0" lang="ru-RU" sz="2800" spc="-1" strike="noStrike">
                <a:solidFill>
                  <a:srgbClr val="762da3"/>
                </a:solidFill>
                <a:latin typeface="Arial"/>
              </a:rPr>
              <a:t>" Приставными шагами влево (вправо, от середины)  на два (три и т.д.) шага разом - КНИСЬ!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чинают размыкание крайние в шеренгах, затем последовательно, через  каждые  два счета,  вступают осталь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мыкания подается команда </a:t>
            </a:r>
            <a:r>
              <a:rPr b="0" lang="ru-RU" sz="2800" spc="-1" strike="noStrike">
                <a:solidFill>
                  <a:srgbClr val="b2063b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762da3"/>
                </a:solidFill>
                <a:latin typeface="Arial"/>
              </a:rPr>
              <a:t>Влево (вправо,  к середине) приставными шагами сом - КНИСЬ!"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каться все начинают одновременно. Подсчет ведется по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мыкание по  распоряжению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пример:  "Разомкнитесь на вытянутые руки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"Встаньте на два шага друг от друг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МЕТОДИЧЕСКИЕ УКАЗ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манды, как правило,  разделяются на   предварительные   и исполнительные ("Шагом - МАРШ!", "Кру - ГОМ!"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о предварительной команде занима-ющийся принимает положение  стойки "смирно", поэтому подачей этой команды злоупотреблять не следует. Если же </a:t>
            </a:r>
            <a:r>
              <a:rPr b="0" lang="ru-RU" sz="3200" spc="-1" strike="noStrike">
                <a:solidFill>
                  <a:srgbClr val="b2063b"/>
                </a:solidFill>
                <a:latin typeface="Arial"/>
              </a:rPr>
              <a:t>команда "СМИРНО!" подана, то нужно требовать безупречного ее вы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 некоторых случаях целесообразно заменять команды  распоряж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РОЕВ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0" y="1258920"/>
            <a:ext cx="91440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роевые упражнения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едставляют собой совместные или одиночные действия занимающихся в том или ином стр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С помощью строевых упражнений успешно решаются задачи воспитания коллективных действий, чувства ритма и темпа, дисциплины и организованности.</a:t>
            </a:r>
            <a:r>
              <a:rPr b="1" lang="ru-RU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собое значение строевых упражнений состоит в формировании осанк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-21970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1" name="Рисунок 6" descr=""/>
          <p:cNvPicPr/>
          <p:nvPr/>
        </p:nvPicPr>
        <p:blipFill>
          <a:blip r:embed="rId2"/>
          <a:stretch/>
        </p:blipFill>
        <p:spPr>
          <a:xfrm>
            <a:off x="531720" y="476280"/>
            <a:ext cx="4184640" cy="1498680"/>
          </a:xfrm>
          <a:prstGeom prst="rect">
            <a:avLst/>
          </a:prstGeom>
          <a:ln w="0">
            <a:noFill/>
          </a:ln>
        </p:spPr>
      </p:pic>
      <p:pic>
        <p:nvPicPr>
          <p:cNvPr id="1082" name="Рисунок 7" descr=""/>
          <p:cNvPicPr/>
          <p:nvPr/>
        </p:nvPicPr>
        <p:blipFill>
          <a:blip r:embed="rId3"/>
          <a:stretch/>
        </p:blipFill>
        <p:spPr>
          <a:xfrm>
            <a:off x="7164360" y="4668840"/>
            <a:ext cx="1495440" cy="1409760"/>
          </a:xfrm>
          <a:prstGeom prst="rect">
            <a:avLst/>
          </a:prstGeom>
          <a:ln w="0">
            <a:noFill/>
          </a:ln>
        </p:spPr>
      </p:pic>
      <p:pic>
        <p:nvPicPr>
          <p:cNvPr id="1083" name="Рисунок 8" descr=""/>
          <p:cNvPicPr/>
          <p:nvPr/>
        </p:nvPicPr>
        <p:blipFill>
          <a:blip r:embed="rId4"/>
          <a:stretch/>
        </p:blipFill>
        <p:spPr>
          <a:xfrm>
            <a:off x="531720" y="4365720"/>
            <a:ext cx="1235160" cy="2209680"/>
          </a:xfrm>
          <a:prstGeom prst="rect">
            <a:avLst/>
          </a:prstGeom>
          <a:ln w="0">
            <a:noFill/>
          </a:ln>
        </p:spPr>
      </p:pic>
      <p:pic>
        <p:nvPicPr>
          <p:cNvPr id="1084" name="Рисунок 9" descr=""/>
          <p:cNvPicPr/>
          <p:nvPr/>
        </p:nvPicPr>
        <p:blipFill>
          <a:blip r:embed="rId5"/>
          <a:stretch/>
        </p:blipFill>
        <p:spPr>
          <a:xfrm>
            <a:off x="3348000" y="4923000"/>
            <a:ext cx="13683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151920" y="188640"/>
            <a:ext cx="8859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трой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-  установленное размещение занимающихся для совместны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мкнутый строй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строй, в котором занимающиеся расположены в шеренгах с интервалом, равным ширине ладони, или в колоннах на дистанции вытянутой вперед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азомкнутый строй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- строй, в котором занимающиеся расположены в шеренгах с интервалом в один или более шагов,  или в колоннах на дистанции 2 и более шаго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Рисунок 1" descr=""/>
          <p:cNvPicPr/>
          <p:nvPr/>
        </p:nvPicPr>
        <p:blipFill>
          <a:blip r:embed="rId1"/>
          <a:stretch/>
        </p:blipFill>
        <p:spPr>
          <a:xfrm>
            <a:off x="684360" y="4835520"/>
            <a:ext cx="7775280" cy="202248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 txBox="1"/>
          <p:nvPr/>
        </p:nvSpPr>
        <p:spPr>
          <a:xfrm>
            <a:off x="179280" y="2052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ФЛАНГ</a:t>
            </a:r>
            <a:r>
              <a:rPr b="1" i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005c2a"/>
                </a:solidFill>
                <a:latin typeface="Tw Cen MT"/>
              </a:rPr>
              <a:t>- ПРАВАЯ ИЛИ ЛЕВАЯ ОКОНЕЧНОСТЬ СТРОЯ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ФРОНТ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21a602"/>
                </a:solidFill>
                <a:latin typeface="Tw Cen MT"/>
              </a:rPr>
              <a:t>- СТОРОНА СТРОЯ,  В КОТОРУЮ ЗАНИМАЮЩИЕСЯ ОБРАЩЕНЫ  ЛИЦОМ, ИМЕЯ ПРАВЫЙ ФЛАНГ СПРАВА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ТЫЛЬНАЯ</a:t>
            </a:r>
            <a:r>
              <a:rPr b="1" i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56194d"/>
                </a:solidFill>
                <a:latin typeface="Tw Cen MT"/>
              </a:rPr>
              <a:t>СТОРОНА СТРОЯ - СТОРОНА, ПРОТИВОПОЛОЖНАЯ ФРОНТУ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ИНТЕРВАЛ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831436"/>
                </a:solidFill>
                <a:latin typeface="Tw Cen MT"/>
              </a:rPr>
              <a:t>- РАССТОЯНИЕ МЕЖДУ ЗАНИМАЮЩИМИСЯ ПО  ФРОНТУ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ДИСТАНЦИЯ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- РАССТОЯНИЕ МЕЖДУ ЗАНИМАЮЩИМИСЯ,  СТОЯЩИМИ В ЗАТЫЛОК ДРУГ ДРУГУ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ШИРИНА СТРОЯ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w Cen MT"/>
              </a:rPr>
              <a:t>- РАССТОЯНИЕ МЕЖДУ ФЛАНГАМИ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ГЛУБИНА СТРОЯ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 -  РАССТОЯНИЕ ОТ ПЕРВОЙ ШЕРЕНГИ ДО     ПОСЛЕДНЕЙ ИЛИ ОТ ВПЕРЕДИ</a:t>
            </a:r>
            <a:r>
              <a:rPr b="1" lang="ru-RU" sz="2800" spc="-1" strike="noStrike">
                <a:solidFill>
                  <a:srgbClr val="0000ff"/>
                </a:solidFill>
                <a:latin typeface="Tw Cen MT"/>
              </a:rPr>
              <a:t> СТОЯЩЕГО  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ЗАНИМАЮЩЕГОСЯ ДО СТОЯЩЕГО СЗАДИ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3" descr="Шеренг"/>
          <p:cNvPicPr/>
          <p:nvPr/>
        </p:nvPicPr>
        <p:blipFill>
          <a:blip r:embed="rId1"/>
          <a:stretch/>
        </p:blipFill>
        <p:spPr>
          <a:xfrm>
            <a:off x="108000" y="115920"/>
            <a:ext cx="3922560" cy="3649680"/>
          </a:xfrm>
          <a:prstGeom prst="rect">
            <a:avLst/>
          </a:prstGeom>
          <a:ln w="0">
            <a:noFill/>
          </a:ln>
        </p:spPr>
      </p:pic>
      <p:sp>
        <p:nvSpPr>
          <p:cNvPr id="1039" name="Text Box 4"/>
          <p:cNvSpPr/>
          <p:nvPr/>
        </p:nvSpPr>
        <p:spPr>
          <a:xfrm>
            <a:off x="3203640" y="3141720"/>
            <a:ext cx="57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Шеренг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- строй, в котором занимающиеся размещены один возле другого на одной ли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4280" cy="6846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Шеренг"/>
          <p:cNvPicPr/>
          <p:nvPr/>
        </p:nvPicPr>
        <p:blipFill>
          <a:blip r:embed="rId2"/>
          <a:stretch/>
        </p:blipFill>
        <p:spPr>
          <a:xfrm>
            <a:off x="4788000" y="2060640"/>
            <a:ext cx="3790800" cy="435456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77560" y="10800"/>
            <a:ext cx="8507160" cy="44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олонн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строй,  в котором занимающиеся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сположены в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тылок друг друг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Рисунок 3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18720" y="189000"/>
            <a:ext cx="8713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остроение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– первоначальное размещение  занимающихся в том или ином строю по коман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ерестроение </a:t>
            </a:r>
            <a:r>
              <a:rPr b="1" lang="ru-RU" sz="3600" spc="-1" strike="noStrike">
                <a:solidFill>
                  <a:srgbClr val="161645"/>
                </a:solidFill>
                <a:latin typeface="Arial"/>
              </a:rPr>
              <a:t>- переход из одного строя в другой  по  команде проводящ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269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ОСТРОЕНИЯ И ПЕРЕСТРО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ачальные постро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.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остроение в одну шеренгу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анда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"В одну  шеренгу «Становись!»"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роящий становится  лицом  к  фронту в положение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"Смирно"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Занимающиеся бегом выстраиваются слева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.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остроение в  колонну по одному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анда: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"В колонну по одному - СТАНОВИСЬ!"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Строящий становится в положение "Смирно". Занимающиеся бегом выстраиваются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Рисунок 1" descr=""/>
          <p:cNvPicPr/>
          <p:nvPr/>
        </p:nvPicPr>
        <p:blipFill>
          <a:blip r:embed="rId2"/>
          <a:stretch/>
        </p:blipFill>
        <p:spPr>
          <a:xfrm>
            <a:off x="-41400" y="27000"/>
            <a:ext cx="9185400" cy="6831000"/>
          </a:xfrm>
          <a:prstGeom prst="rect">
            <a:avLst/>
          </a:prstGeom>
          <a:ln w="0">
            <a:noFill/>
          </a:ln>
        </p:spPr>
      </p:pic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604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61645"/>
                </a:solidFill>
                <a:uFillTx/>
                <a:latin typeface="Arial"/>
              </a:rPr>
              <a:t>Перестроения на 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10880" y="1341360"/>
            <a:ext cx="8901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3.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ерестроения из одной шеренги в две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предварительного расчета  на  1-й  и  2-й  подается  команда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"В две шеренги СТРОЙСЯ!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 этой команде первые номера стоят на месте, а вторые делают шаг левой наз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Обратное перестроение  выполняется  по команде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"В одну шеренгу - СТРОЙСЯ!".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ерестроение проводится в порядке, обратном постро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08:19Z</dcterms:created>
  <dc:creator>Анцыперов</dc:creator>
  <dc:description/>
  <dc:language>en-US</dc:language>
  <cp:lastModifiedBy>RePack by Diakov</cp:lastModifiedBy>
  <dcterms:modified xsi:type="dcterms:W3CDTF">2020-04-06T14:08:58Z</dcterms:modified>
  <cp:revision>57</cp:revision>
  <dc:subject/>
  <dc:title>СТРОЕВЫЕ УПРАЖНЕНИЯ</dc:title>
</cp:coreProperties>
</file>