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19.jpeg" ContentType="image/jpeg"/>
  <Override PartName="/ppt/media/image18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21.gif" ContentType="image/gif"/>
  <Override PartName="/ppt/media/image1.png" ContentType="image/png"/>
  <Override PartName="/ppt/media/image22.gif" ContentType="image/gif"/>
  <Override PartName="/ppt/media/image2.png" ContentType="image/png"/>
  <Override PartName="/ppt/media/image3.png" ContentType="image/png"/>
  <Override PartName="/ppt/media/image23.gif" ContentType="image/gif"/>
  <Override PartName="/ppt/media/image24.gif" ContentType="image/gi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A40-BC36-4A1F-BA19-971B7179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846-B1CF-4E92-95C9-421332FA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26A6E-3692-4452-A2EE-4F7D6EAE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4D032-CCC6-4EC6-B61C-34FCF775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5A894-9D58-4398-9648-B0ED2FCB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F9F8C-3CAA-42A4-8D9E-00EA296E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AF938-50AA-4931-BCAB-E403C3A5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115E0-F11B-43DE-B34E-0E797ACF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8AEC7-CB1F-44C3-A4D2-E029DD4C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88BCD-6744-4CCA-94DE-077A4CCC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F9597-A299-4C8A-98FF-D4C013DE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7BF0D-715F-4F83-8F50-8A2C9910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4BD-3AD4-4EEA-B47E-67D1584C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21F04-10E8-49FA-8679-E51E8235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A88DE-383D-4E3A-8870-04B9EF95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70FC5-6928-4604-A644-BC040C54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D4320-CEB0-49D7-BD34-5035DE38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B0A0F-AC4E-4190-8C7A-2076B81D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33D94-30E5-4FCF-A8D9-2D7253D5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71818-5C52-48BE-9C89-21E5523A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D6751-3C26-41A3-B228-30CD0893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4CEE3-0662-426F-A4B8-5D7E7089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335B2-ED95-4B80-813C-B5BA63C2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032-191D-4E8C-B1D3-B4064943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49F84-DC51-45FD-B59A-FE532099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0902C-D160-4A1D-B24C-8E59E742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B3BB7-A417-4A26-BACC-A02BD4F1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D874D-943D-4409-9125-C4736E9C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515DF-9174-4047-9368-A22AE6EC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E9CF3-FBEE-49B0-8EE1-6B15868F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52D57-F394-423A-BEB6-6A794C14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DB47F-EDC7-483A-A04C-A490B170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CCE8D-B0C9-469B-8490-9C59F4A7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AA9BC-1D3D-4F94-B5DB-3ABF9E39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EF9D-CE30-42AB-8E3C-DEB72926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B9BF5-F479-4A19-81B9-48A210F6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97698-267F-4DB5-9073-CCF51507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5D879-EB6A-487C-AC03-CE30DFAB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2BD09-FC9C-473A-A165-B66658A9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E177D-CC82-447D-BA0B-EDAB9209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B9385-0E35-4D81-A4B3-18F47597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DD330-AF5D-4681-9AAD-F1E88360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69E80-85AC-43F7-A03B-0E86BF90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11DAE-B3BF-404A-A789-C6A380EF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CB161-95FF-490C-B3BC-7838197A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DEBE-934D-427E-86A7-BFFEBC9F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1E0F5-C271-424E-97CD-BF383DD5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B7D74-8708-40BF-8001-90DD2B82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1FD92-0F71-4E9F-B0CB-23C04A9F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43EAD-A40B-48FD-B766-F892702D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E9D8D-5905-4AA5-B58C-8E23A47B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C2116-212F-4E95-995A-333679B2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F8F7E5-33D9-4DCD-929A-6EE25126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2D2461-D3BA-439D-81CC-B6EF2351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C7145-B88E-4C77-8BB6-BD98209F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457B4-1295-4CF9-9457-307738A1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0F55-701F-4D08-8ED4-141E5ABD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DE76E2-1562-4E5D-AF0C-3FEC567B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E34CA-C99A-4EE5-911B-92659DD2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CB18B-DC13-400D-BAAF-D19ACE31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CD564-6059-480C-A389-51B71A20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2CC10-59ED-4838-852E-881AEA23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8A4F54-FE89-4326-8EC0-8244F4EA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DA939-E49F-44E9-A325-69CD42CA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0DE769-3CD5-40BB-A306-D5399202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D1384E-8BCE-4F39-83E5-4F1BA1BA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327231-77E0-46ED-B1A1-609307EC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B6BF-0357-447D-B478-563C9A1E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59CEB6-4416-4ACB-8D88-21B213C0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D9A8C6-36D7-4997-A86F-350433DB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7115C8-9EDD-49BC-8E88-3C8A7ADE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F20929-384C-491D-B95A-A9305BBE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1FB573-7AF9-47E6-A45E-273CC32F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774F11-2217-4CB6-BE17-017ABBB4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C8275C-AADD-4D44-8639-8A324478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DDFA18-6010-4EF9-8140-A005BEE0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F89A11-85D2-4022-988A-F45FCC18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E36BF-2C50-4C95-B18D-DDC6D4F1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89BC-10B8-4349-B5EF-8635475D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3C2CE1-43BC-4F52-B00B-45F11766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8CABC-E9A3-45E1-80DD-85153971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CFB8F2-8F8E-4BE9-89E5-FA24EFA9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01C5AA-AC69-420B-8D27-43BCCCF3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5A4775-03DA-44F1-A80E-9CAE07CF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10506-558F-48C3-9F05-AD6DC49A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E54D5D-D73D-4210-894F-3893DC1E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0D1070-9782-4769-8E64-B8D32F3D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87E8F8-135A-473F-8778-328233F8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593B18-48D8-4D47-9E4F-8481A29F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9427-6096-4147-9C57-9EC6A3A0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61AE71-D487-40F9-AF31-340AFFF5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3850C6-7BC2-4200-A770-815FDAED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138453-CFEC-48AF-A56A-0D505070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F3FAEC-0096-4C9F-A1EE-BE1D529D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DD8C56-ABA6-4AD7-8DEB-85590FE5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2B7544-9AF3-4CCF-A5DE-CBDE9534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84DB11-8C1E-4723-B52C-1F9883F8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F0C4EE-DB0F-4EE4-A4A7-CBD10602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1A2006-5BBF-4EE7-8481-AF64E685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D435CE-8A55-46D1-B346-322CC84A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7D5C-88E0-4BCB-A685-3BD1CEE0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798E80-DADB-48C5-9D7C-696E6773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E1D709-12E9-4B63-9FC7-E71618BD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706439-9882-4E55-887A-80AE7EBB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D75C2C-09D7-495C-804E-4A7958F8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9303E4-5D13-4590-B015-48EEE134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0C83DF-1838-4A9C-82FF-9D6D351A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FD5F24-EB0A-401C-9A97-9D5822DA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2706E0-A34F-4FB3-86E4-3898BBB6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D9931C-33B4-48D9-9FD3-5A811BE5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FFEBDA-128E-411A-A6AD-DD7C4B51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2C37-A5EC-4118-A1CA-9FEA9CF4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278D-7874-4DB9-B688-BD622CD8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666ADB-64E5-4BA9-A913-25F79282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CDCCB5-0E20-4E89-8C32-D77BE2AB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0D419F-0049-4C68-BCA3-D52F08C7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0E87DF-7CE7-43E9-A3B1-C3BCA5BB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FAD8F3-6CA0-48B2-8E90-9B556632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83828C-3924-47DF-A1F3-B610C0E7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D34B34-36E5-419E-B3C5-ED9F1C9A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26C133-732F-4B72-A809-6BDC53F4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10356E-4687-467C-87C2-36884383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01E976-87D7-498F-8A62-19629DB4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6BBB-0B6E-4A63-8B8B-FEDED6D9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51C3A4-03EB-4D14-B8CA-D7F4152E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55EA58-3C42-4B07-8D08-ECB5EF81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F3F409-C3ED-4C3E-A042-6DDE21A6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1648E2-CE6D-4A0D-A0DD-AFBF6FAF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1CEC54-7EEA-45D9-A093-0D21081E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784779-C1EE-4098-87FD-E5E68F3C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2C84AF-D925-4570-9E62-2A8C0058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76E0C6-D945-49B3-B069-568D73C2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008AF8-BAFB-4C33-8FE0-0C20EF03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33B9D1-21A1-497E-A5F7-0FAEAED6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E307-CE01-4ABB-83BA-E3502677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E4F028-5A27-47AA-BC26-A79246E2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4C34E9-FC55-473B-9B0D-7DFCA3A7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8B5D22-550C-44EA-9D52-F79CCD9E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746537-565C-4700-AAB2-B1C0ECFD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8C2099-ABD0-400F-93F7-BD2650D1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266334-8D52-4540-932E-9E2596C0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8CE52E-05A7-42CB-804E-6EAD1225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6357C6-15F0-4B65-B753-90E51C1D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CCFEBC-E91A-4084-919C-87840B49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F75E84-1988-4C76-8E63-5889A59A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7F10-108E-4525-B38B-9B70EE01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CDFBF1-7961-4706-9BB6-C7109A0B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AA6DD7-47BD-44CB-A711-F29878B0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7848AA-7B2E-4434-926E-168B8291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27D55A-206C-4B39-BF15-45886422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969BAE-C2B1-446E-A1A1-7CAF081B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4C0D2F-5FF6-41D4-94CB-0B632AA4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D9F1A1-8440-4CD7-9652-5484386E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5DF022-F08C-4FAF-BED3-1D8F4FB3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2B333F-3208-4662-9F94-4FBA6357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CF3E8A-C61D-4A44-9622-EC516C58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3942-6E38-4684-BE38-F3218A0F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BE8733-C249-4F82-9912-65AA3F73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509C1F-1761-4C68-9432-56D1A441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A5D95D-65B7-4D4A-892E-5B4EDAC6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14FF1F-BFA6-4D0F-A6A9-793C2195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A0A619-65D8-4AD9-83AF-E6098623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F0C774-D2F1-41BC-A4BB-03372D9A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72BCC3-32E1-4869-91D1-1614BB9E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4B1D10-CCA7-44B9-8C65-AEBDF16F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7265A8-EF6C-4956-919C-A321880E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CE592F-DE57-4E69-8131-24E7D06D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5669D-AA36-49D6-A692-BC75CE5B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39A228-4FFC-47C4-BE91-01E0A354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FCAFC0-FCD2-428E-A699-F114A547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3A522B-1B19-44EB-8791-C7CD5933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0F5FC-A8B9-4A16-8455-BEFFE20C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DD141-00BC-4C6D-8CAE-58582A20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953B-FE98-481A-BFAC-12C736F5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ED535-C0C4-4DB2-8AA5-7EDB2A6C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AD41-2297-4C7C-9614-2B0E0E2E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FBFD2-E5B7-4156-9904-AD6D596A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D5A3E-8322-46F0-8EB9-7EF5846B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62615-7B73-413D-827A-58515B86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AFC24-4A54-4C8B-BB5E-35E239E6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E234D-578A-4448-8C3D-5DFC2A9B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099FF-1A2D-4B58-B25F-DAC93377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5CF68-3A55-48FB-B0A4-F565970D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07DB4-60B3-4A5D-8BEE-4871232B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5A9F5-212F-4B7E-96E7-D533AE71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58DFA-23E0-4CAC-897E-D3AD05A0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7A4-26F9-40F2-81C5-E9D3E663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11A6B-06EE-4A80-A57C-4F2FB088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53057-0219-41CF-900A-B4D62365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D7067-F5D9-4AD9-ACD7-DC17FCDF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31280-E8D8-4DD9-8ACB-7805BAB2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0B5E2-F8C5-41E8-BC72-508E6A32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0F14C-466E-4D00-989A-8F058B17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6A72D-C5A7-42D4-84B3-8F17A73F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EC303-2643-4E9A-A5A8-ED39DD4F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78AA0-7521-40AE-890C-AAB2D19F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69807-CDBC-4424-BCF5-42A2C8DF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806-7E30-43B0-865C-57F4A351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905BD-C36F-4EBB-8F13-8FD5C4F4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0116A-506C-47A7-AB3F-A2EE1D12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9D6B8-26C1-4D83-B19E-42C57BB1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ACC8B-5E4C-401D-848F-72678ED8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5C5B9-BA3E-4CFC-BAC9-19C7816F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F738C-0ECE-4152-8963-C2356B99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31380-A704-458B-81B0-21895C8E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93B2F-888F-485E-8275-BBE812D6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DC728-698A-4A24-B1C3-5DF14981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086B6-8295-494E-B26E-9B2D7AB7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602-68A3-4591-8920-38A0EB12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87D36-AB94-4DD4-824E-0B880D58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8B6FB-111E-45F2-ABBE-3E2476E2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9CC94-B874-4D75-B8DC-55372438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BE1F2-85B7-4753-8E12-D5C743BB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C5AE5-EE78-432C-B7E8-D7EC4E0E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72C5F-7496-438D-95AE-40782904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D6521-9041-4C8F-BC67-29F90D1A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E7AE1-2A44-490A-BF12-98B31872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61DDD-14EE-435B-9326-E652270A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BD4F3-963A-4BEF-B09C-3BC09323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28AA-8DD8-493C-BE44-B9F26137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18498-5E91-417A-9D60-06FC3097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CC2D1-8153-4ED3-B8CF-D76A8EA5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5E950-F7A1-41E7-87BE-DA8EA329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E66D0-01AA-4EF7-8EDD-80FFBC6D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BF76E-3793-4101-88C5-81933A3C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9C34E-9D8D-41D1-90AF-800F5348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F3774-B7E3-473F-8660-34150544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ED315-C2CC-4AA2-87AC-52FD4BE5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86D67-011F-49C9-AB28-17BF3F25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03FBB-B3E5-4DA6-AD28-AFA24ECE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DED-8EEE-4BAE-8EA1-18543EE5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88FB0-50CB-4D81-B12B-C8D3280D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D2480-99E0-48FD-A5D1-2E14CB93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E23DF-F653-4708-85CA-57387620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EC964-B444-480E-9964-1C6B967A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C915B-A76F-4B9C-A1D3-20CFACDC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7E093-1CE7-4211-B6D2-A3695DD8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8B9A6-61C9-4726-BD23-5DADA770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25365-7407-4D23-93D5-975B8F4E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C24A1-9358-49F6-98A4-25302010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D1887-A5FD-4C1D-8FC5-128F5B05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4A0C-FDBC-4040-AC9B-C17ACD40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ABB23-813D-4C1E-9F98-A4C5FE99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80ED7-1B4C-4542-AFD6-3F4AC2BC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E7018-3B78-4696-BA14-D2766727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64E06-AAED-4178-B48F-88B50B87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FF804-94F6-4A81-9D36-27745C1E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F3367-C623-4123-8DA6-B7596BE6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3CD80-D2D5-47F1-84BD-2D6570B5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4F045-D996-40D2-AD4D-F5167FEE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31A2B-62F9-4EE8-9BAC-4F309F20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23858-F279-4C0C-9DDD-DAF95F84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8FDD-C590-4061-A467-AB972ECEFD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A97A-575C-49A4-9453-BD0639E751E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B203-C1D8-4BD0-893A-DC52E077A5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9367-8B88-479E-B0D4-818B5490C8D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E6C1-E2DB-4BE9-B2B5-58A8C6FC2EC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9E64-B2EA-437F-B7D2-5522B6EE835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A72A-5D67-4093-AE85-C1AB2CAD2B7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9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E259-1D7D-4FED-AFC2-72E8F0390AC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4B31-4711-4092-8FE6-31552E7042F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A9FA-5C62-4B1B-9D7A-BAB6837BDEA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5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5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5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3951-EA0D-4DD6-A6A1-B08B41D943A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6F2E-C0D9-48A0-A796-BC0A6BF7A6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5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5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8F98-66B6-4303-8018-8CC6F8A20C4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6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6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6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3DBF-D114-4BDB-A2D9-A789FC2898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56DF-E1D0-4B38-93B0-F02BA1C8EE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90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2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4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3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1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8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9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1745-3A74-499A-B0C9-88E0E590D1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6F59-7178-46F0-A54F-9F8AC7872C7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B7B6-8CFB-4775-B5B0-AFC6255FABB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7C09-F1E1-4B20-B361-D78F320DD70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7597-A853-4917-A39A-A604B8D73C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5CB9-E0CD-4A8C-BCF4-204ADDEEC2A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1028" name="Рисунок 1" descr=""/>
          <p:cNvPicPr/>
          <p:nvPr/>
        </p:nvPicPr>
        <p:blipFill>
          <a:blip r:embed="rId3"/>
          <a:stretch/>
        </p:blipFill>
        <p:spPr>
          <a:xfrm>
            <a:off x="117360" y="5478480"/>
            <a:ext cx="4741920" cy="1278000"/>
          </a:xfrm>
          <a:prstGeom prst="rect">
            <a:avLst/>
          </a:prstGeom>
          <a:ln w="0">
            <a:noFill/>
          </a:ln>
        </p:spPr>
      </p:pic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57120" y="188640"/>
            <a:ext cx="82915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СТРОЕВЫЕ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Я 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Рисунок 2" descr=""/>
          <p:cNvPicPr/>
          <p:nvPr/>
        </p:nvPicPr>
        <p:blipFill>
          <a:blip r:embed="rId4"/>
          <a:stretch/>
        </p:blipFill>
        <p:spPr>
          <a:xfrm>
            <a:off x="1986120" y="2060640"/>
            <a:ext cx="50338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WordArt 2"/>
          <p:cNvSpPr txBox="1"/>
          <p:nvPr/>
        </p:nvSpPr>
        <p:spPr>
          <a:xfrm>
            <a:off x="0" y="836640"/>
            <a:ext cx="914400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6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ЕРЕСТРОЕНИЯ </a:t>
            </a:r>
            <a:endParaRPr b="1" lang="en-US" sz="1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 ДВИЖЕНИИ</a:t>
            </a:r>
            <a:endParaRPr b="1" lang="en-US" sz="1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52" name="Picture 3" descr="marafon"/>
          <p:cNvPicPr/>
          <p:nvPr/>
        </p:nvPicPr>
        <p:blipFill>
          <a:blip r:embed="rId1"/>
          <a:stretch/>
        </p:blipFill>
        <p:spPr>
          <a:xfrm>
            <a:off x="179280" y="5084640"/>
            <a:ext cx="744480" cy="9572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" descr="marafon"/>
          <p:cNvPicPr/>
          <p:nvPr/>
        </p:nvPicPr>
        <p:blipFill>
          <a:blip r:embed="rId2"/>
          <a:stretch/>
        </p:blipFill>
        <p:spPr>
          <a:xfrm>
            <a:off x="4140360" y="5500800"/>
            <a:ext cx="671400" cy="8636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8" descr="marafon"/>
          <p:cNvPicPr/>
          <p:nvPr/>
        </p:nvPicPr>
        <p:blipFill>
          <a:blip r:embed="rId3"/>
          <a:stretch/>
        </p:blipFill>
        <p:spPr>
          <a:xfrm>
            <a:off x="5796000" y="5445000"/>
            <a:ext cx="671400" cy="8636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marafon"/>
          <p:cNvPicPr/>
          <p:nvPr/>
        </p:nvPicPr>
        <p:blipFill>
          <a:blip r:embed="rId4"/>
          <a:stretch/>
        </p:blipFill>
        <p:spPr>
          <a:xfrm>
            <a:off x="1163520" y="5452920"/>
            <a:ext cx="744480" cy="9572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marafon"/>
          <p:cNvPicPr/>
          <p:nvPr/>
        </p:nvPicPr>
        <p:blipFill>
          <a:blip r:embed="rId5"/>
          <a:stretch/>
        </p:blipFill>
        <p:spPr>
          <a:xfrm>
            <a:off x="2411280" y="5472000"/>
            <a:ext cx="744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8" name="Рисунок 1" descr=""/>
          <p:cNvPicPr/>
          <p:nvPr/>
        </p:nvPicPr>
        <p:blipFill>
          <a:blip r:embed="rId2"/>
          <a:stretch/>
        </p:blipFill>
        <p:spPr>
          <a:xfrm>
            <a:off x="0" y="755640"/>
            <a:ext cx="1185840" cy="1079640"/>
          </a:xfrm>
          <a:prstGeom prst="rect">
            <a:avLst/>
          </a:prstGeom>
          <a:ln w="0">
            <a:noFill/>
          </a:ln>
        </p:spPr>
      </p:pic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Arial"/>
              </a:rPr>
              <a:t>Перестроение из колонны по одному в колонну по два  (три, и т.д.) поворотом в движении</a:t>
            </a: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ри движении группы налево в обход на торцевой стороне зала подается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манда  "В  колонну по два (три, четыре и т.д.) налево - МАРШ!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осле поворота первой двойки (тройки, четверки) следующие делают поворот под команду своего занимающегося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"Марш!")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 том же месте,  что и первые. Здесь же можно дать указание об интервале и дистанции, с тем чтобы не размыкать колонну потом специальн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Для обратного перестроения  подают  команды: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"Напра-ВО!«.  «В колонну по одному (налево) в обход направо шагом - МАРШ!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ПЕРЕ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1.</a:t>
            </a:r>
            <a:r>
              <a:rPr b="1" i="1" lang="ru-RU" sz="2400" spc="-1" strike="noStrike">
                <a:solidFill>
                  <a:srgbClr val="ff00ff"/>
                </a:solidFill>
                <a:latin typeface="Times New Roman"/>
              </a:rPr>
              <a:t>Строевой шаг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оманда: </a:t>
            </a: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"Строевым шагом - МАРШ!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2.</a:t>
            </a:r>
            <a:r>
              <a:rPr b="1" i="1" lang="ru-RU" sz="2400" spc="-1" strike="noStrike">
                <a:solidFill>
                  <a:srgbClr val="ff00ff"/>
                </a:solidFill>
                <a:latin typeface="Times New Roman"/>
              </a:rPr>
              <a:t>Походный (обычный) шаг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Может выполняться при движении с места. Команда: </a:t>
            </a: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"Шагом - МАРШ!"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При необходимости  переместить занимающихся на один или несколько шагов вперед или назад подаются команды: "Шаг (2,3 и т.д.) вперед (назад) шагом - МАРШ!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переходе с других видов ходьбы,  бега или перемещений прыжками, танцевальными шагами, а также при окончании ОРУ в движении подается команда </a:t>
            </a: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"Обычным шагом (бегом) - МАРШ!"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Times New Roman"/>
              </a:rPr>
              <a:t>Исполнительная команда подается под левую ногу, после чего выполняется шаг правой и занимающиеся переходят на обычный ш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вижение на мест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711171"/>
                </a:solidFill>
                <a:latin typeface="Arial"/>
              </a:rPr>
              <a:t>выполняется по командам: 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"На месте шагом (бегом) - МАРШ!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- "Направляющий - на месте!" </a:t>
            </a:r>
            <a:r>
              <a:rPr b="0" lang="ru-RU" sz="3200" spc="-1" strike="noStrike">
                <a:solidFill>
                  <a:srgbClr val="711171"/>
                </a:solidFill>
                <a:latin typeface="Arial"/>
              </a:rPr>
              <a:t>- подается тогда,  когда передвигающуюся группу надо сомкнуть на дистанцию в один ша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рекращение движени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11171"/>
                </a:solidFill>
                <a:latin typeface="Arial"/>
              </a:rPr>
              <a:t>Команд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"Группа - СТОЙ!". </a:t>
            </a:r>
            <a:r>
              <a:rPr b="0" lang="ru-RU" sz="3200" spc="-1" strike="noStrike">
                <a:solidFill>
                  <a:srgbClr val="711171"/>
                </a:solidFill>
                <a:latin typeface="Arial"/>
              </a:rPr>
              <a:t>Подается под левую ногу (затем выполняется шаг  правой  и  приставляется левая ног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8. Движение бегом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оманда: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"Бегом - МАРШ!"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При переходе на бег с движения шагом без музыкального сопро-вождения исполнительная команда "МАРШ!" подается под правую ногу (с музыкальным сопровождением под левую, после чего занимающиеся  делают шаг правой и с левой начинают бег). После предварительной команды "бегом" следует согнуть руки в локтях и приготовится к бе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9.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вижение в обход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4f2270"/>
                </a:solidFill>
                <a:latin typeface="Arial"/>
              </a:rPr>
              <a:t>Коман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" В обход налево (направо) шагом - МАРШ!"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0.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вижение по  диагонали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оманда: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"По диагонали - МАРШ!"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ается у угла з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aa4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1.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ередвижение противоходом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анда: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"Противоходом направо (налево) шагом - МАРШ!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При подаче команды во время передвижения слово "шагом" исключ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2.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вижение змейкой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несколько противоходов подряд. Команды: -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"Противоходом налево (направо) - МАРШ!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-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"змейкой - МАРШ!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Можно выполнять в  прямом и косом направлениях. Величина змейки определяется по первому противох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3.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вижение по кругу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анда: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"По кругу - МАРШ!"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дается на середине одной из сторон зала, после чего обязательно указывается дистанция. Для выхода из круга на одной из середин подается команда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"Налево в обход - МАРШ!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4.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вижение по спирали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манда: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"По спирали - МАРШ!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Подается на одной из середин,  после чего указывается дистанция. Движение выполняется по кругу с уменьшением его радиуса к центру с интервалом от идущих снаружи в два шага. Для выхода из спирали подается  команда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"Противоходом направо - МАРШ!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ногда применяют команду "Кругом - МАРШ!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aa4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5.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овороты в движени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Команды:  "Нале - ВО!",  "Напра - ВО!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Исполнительные  команды  подаются под  одноименную ногу, после чего выполняется шаг противоположной ногой и после поворота на носке  идет движение в новом направлении с одноименной повороту н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оворота кругом подается команда: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"Кругом - МАРШ!"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Исполнительная команда "МАРШ!" подается под правую ногу, после чего делается шаг левой, пол шага правой вперед с поворот кругом на носках,  и с левой ноги начинается движение  в обратном направл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ля сохранения ритма движения  надо  подсчитать "раз-два-три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Рисунок 1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11171"/>
                </a:solidFill>
                <a:uFillTx/>
                <a:latin typeface="Arial"/>
              </a:rPr>
              <a:t>РАЗМЫКАНИЯ И СМЫК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0" y="872640"/>
            <a:ext cx="9144000" cy="598500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Размыкание по Уставу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анда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: "Влево (вправо, от середины) на столько-то шагов разом - КНИСЬ!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сли количество шагов не указано, то  размыкание производится на один шаг. Все, за исключением того, от кого происходит размыкание, выполняют поворот налево  (направо) и, пройдя указанное количество шагов, приставляют ногу и поворачиваются лицом к фронту. Подсчет  ведется по 2 до тех пор, пока все не займут своего места в стр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смыкания подается команда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"Вправо (влево, к середине) сом - КНИСЬ!"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все действия выполняются в обратном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5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азмыкания приставными шагам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а: </a:t>
            </a:r>
            <a:r>
              <a:rPr b="0" lang="ru-RU" sz="2800" spc="-1" strike="noStrike">
                <a:solidFill>
                  <a:srgbClr val="762da3"/>
                </a:solidFill>
                <a:latin typeface="Arial"/>
              </a:rPr>
              <a:t>" Приставными шагами влево (вправо, от середины)  на два (три и т.д.) шага разом - КНИСЬ!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чинают размыкание крайние в шеренгах, затем последовательно, через  каждые  два счета,  вступают осталь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смыкания подается команда </a:t>
            </a:r>
            <a:r>
              <a:rPr b="0" lang="ru-RU" sz="2800" spc="-1" strike="noStrike">
                <a:solidFill>
                  <a:srgbClr val="b2063b"/>
                </a:solidFill>
                <a:latin typeface="Arial"/>
              </a:rPr>
              <a:t>"</a:t>
            </a:r>
            <a:r>
              <a:rPr b="0" lang="ru-RU" sz="2800" spc="-1" strike="noStrike">
                <a:solidFill>
                  <a:srgbClr val="762da3"/>
                </a:solidFill>
                <a:latin typeface="Arial"/>
              </a:rPr>
              <a:t>Влево (вправо,  к середине) приставными шагами сом - КНИСЬ!"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ыкаться все начинают одновременно. Подсчет ведется по д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азмыкание по  распоряжению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пример:  "Разомкнитесь на вытянутые руки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"Встаньте на два шага друг от друга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0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0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МЕТОДИЧЕСКИЕ УКАЗ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манды, как правило,  разделяются на   предварительные   и исполнительные ("Шагом - МАРШ!", "Кру - ГОМ!"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По предварительной команде занима-ющийся принимает положение  стойки "смирно", поэтому подачей этой команды злоупотреблять не следует. Если же </a:t>
            </a:r>
            <a:r>
              <a:rPr b="0" lang="ru-RU" sz="3200" spc="-1" strike="noStrike">
                <a:solidFill>
                  <a:srgbClr val="b2063b"/>
                </a:solidFill>
                <a:latin typeface="Arial"/>
              </a:rPr>
              <a:t>команда "СМИРНО!" подана, то нужно требовать безупречного ее выпол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В некоторых случаях целесообразно заменять команды  распоряж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ТРОЕВЫЕ УПРАЖ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0" y="1258920"/>
            <a:ext cx="914400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троевые упражнения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редставляют собой совместные или одиночные действия занимающихся в том или ином стр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С помощью строевых упражнений успешно решаются задачи воспитания коллективных действий, чувства ритма и темпа, дисциплины и организованности.</a:t>
            </a:r>
            <a:r>
              <a:rPr b="1" lang="ru-RU" sz="3200" spc="-1" strike="noStrike">
                <a:solidFill>
                  <a:srgbClr val="33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Особое значение строевых упражнений состоит в формировании осанк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-21970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1" name="Рисунок 6" descr=""/>
          <p:cNvPicPr/>
          <p:nvPr/>
        </p:nvPicPr>
        <p:blipFill>
          <a:blip r:embed="rId2"/>
          <a:stretch/>
        </p:blipFill>
        <p:spPr>
          <a:xfrm>
            <a:off x="531720" y="476280"/>
            <a:ext cx="4184640" cy="1498680"/>
          </a:xfrm>
          <a:prstGeom prst="rect">
            <a:avLst/>
          </a:prstGeom>
          <a:ln w="0">
            <a:noFill/>
          </a:ln>
        </p:spPr>
      </p:pic>
      <p:pic>
        <p:nvPicPr>
          <p:cNvPr id="1082" name="Рисунок 7" descr=""/>
          <p:cNvPicPr/>
          <p:nvPr/>
        </p:nvPicPr>
        <p:blipFill>
          <a:blip r:embed="rId3"/>
          <a:stretch/>
        </p:blipFill>
        <p:spPr>
          <a:xfrm>
            <a:off x="7164360" y="4668840"/>
            <a:ext cx="1495440" cy="1409760"/>
          </a:xfrm>
          <a:prstGeom prst="rect">
            <a:avLst/>
          </a:prstGeom>
          <a:ln w="0">
            <a:noFill/>
          </a:ln>
        </p:spPr>
      </p:pic>
      <p:pic>
        <p:nvPicPr>
          <p:cNvPr id="1083" name="Рисунок 8" descr=""/>
          <p:cNvPicPr/>
          <p:nvPr/>
        </p:nvPicPr>
        <p:blipFill>
          <a:blip r:embed="rId4"/>
          <a:stretch/>
        </p:blipFill>
        <p:spPr>
          <a:xfrm>
            <a:off x="531720" y="4365720"/>
            <a:ext cx="1235160" cy="2209680"/>
          </a:xfrm>
          <a:prstGeom prst="rect">
            <a:avLst/>
          </a:prstGeom>
          <a:ln w="0">
            <a:noFill/>
          </a:ln>
        </p:spPr>
      </p:pic>
      <p:pic>
        <p:nvPicPr>
          <p:cNvPr id="1084" name="Рисунок 9" descr=""/>
          <p:cNvPicPr/>
          <p:nvPr/>
        </p:nvPicPr>
        <p:blipFill>
          <a:blip r:embed="rId5"/>
          <a:stretch/>
        </p:blipFill>
        <p:spPr>
          <a:xfrm>
            <a:off x="3348000" y="4923000"/>
            <a:ext cx="136836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151920" y="188640"/>
            <a:ext cx="88599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трой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45"/>
                </a:solidFill>
                <a:latin typeface="Arial"/>
              </a:rPr>
              <a:t>-  установленное размещение занимающихся для совместных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мкнутый строй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- строй, в котором занимающиеся расположены в шеренгах с интервалом, равным ширине ладони, или в колоннах на дистанции вытянутой вперед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Разомкнутый строй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45"/>
                </a:solidFill>
                <a:latin typeface="Arial"/>
              </a:rPr>
              <a:t>- строй, в котором занимающиеся расположены в шеренгах с интервалом в один или более шагов,  или в колоннах на дистанции 2 и более шагов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Рисунок 1" descr=""/>
          <p:cNvPicPr/>
          <p:nvPr/>
        </p:nvPicPr>
        <p:blipFill>
          <a:blip r:embed="rId1"/>
          <a:stretch/>
        </p:blipFill>
        <p:spPr>
          <a:xfrm>
            <a:off x="684360" y="4835520"/>
            <a:ext cx="7775280" cy="2022480"/>
          </a:xfrm>
          <a:prstGeom prst="rect">
            <a:avLst/>
          </a:prstGeom>
          <a:ln w="0">
            <a:noFill/>
          </a:ln>
        </p:spPr>
      </p:pic>
      <p:sp>
        <p:nvSpPr>
          <p:cNvPr id="1037" name=""/>
          <p:cNvSpPr txBox="1"/>
          <p:nvPr/>
        </p:nvSpPr>
        <p:spPr>
          <a:xfrm>
            <a:off x="179280" y="2052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w Cen MT"/>
              </a:rPr>
              <a:t>ФЛАНГ</a:t>
            </a:r>
            <a:r>
              <a:rPr b="1" i="1" lang="ru-RU" sz="24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1" lang="ru-RU" sz="2400" spc="-1" strike="noStrike">
                <a:solidFill>
                  <a:srgbClr val="005c2a"/>
                </a:solidFill>
                <a:latin typeface="Tw Cen MT"/>
              </a:rPr>
              <a:t>- ПРАВАЯ ИЛИ ЛЕВАЯ ОКОНЕЧНОСТЬ СТРОЯ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w Cen MT"/>
              </a:rPr>
              <a:t>ФРОНТ</a:t>
            </a:r>
            <a:r>
              <a:rPr b="1" lang="ru-RU" sz="24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1" lang="ru-RU" sz="2400" spc="-1" strike="noStrike">
                <a:solidFill>
                  <a:srgbClr val="21a602"/>
                </a:solidFill>
                <a:latin typeface="Tw Cen MT"/>
              </a:rPr>
              <a:t>- СТОРОНА СТРОЯ,  В КОТОРУЮ ЗАНИМАЮЩИЕСЯ ОБРАЩЕНЫ  ЛИЦОМ, ИМЕЯ ПРАВЫЙ ФЛАНГ СПРАВА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w Cen MT"/>
              </a:rPr>
              <a:t>ТЫЛЬНАЯ</a:t>
            </a:r>
            <a:r>
              <a:rPr b="1" i="1" lang="ru-RU" sz="24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1" lang="ru-RU" sz="2400" spc="-1" strike="noStrike">
                <a:solidFill>
                  <a:srgbClr val="56194d"/>
                </a:solidFill>
                <a:latin typeface="Tw Cen MT"/>
              </a:rPr>
              <a:t>СТОРОНА СТРОЯ - СТОРОНА, ПРОТИВОПОЛОЖНАЯ ФРОНТУ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w Cen MT"/>
              </a:rPr>
              <a:t>ИНТЕРВАЛ</a:t>
            </a:r>
            <a:r>
              <a:rPr b="1" lang="ru-RU" sz="24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1" lang="ru-RU" sz="2400" spc="-1" strike="noStrike">
                <a:solidFill>
                  <a:srgbClr val="831436"/>
                </a:solidFill>
                <a:latin typeface="Tw Cen MT"/>
              </a:rPr>
              <a:t>- РАССТОЯНИЕ МЕЖДУ ЗАНИМАЮЩИМИСЯ ПО  ФРОНТУ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w Cen MT"/>
              </a:rPr>
              <a:t>ДИСТАНЦИЯ</a:t>
            </a:r>
            <a:r>
              <a:rPr b="1" lang="ru-RU" sz="2400" spc="-1" strike="noStrike">
                <a:solidFill>
                  <a:srgbClr val="0000ff"/>
                </a:solidFill>
                <a:latin typeface="Tw Cen MT"/>
              </a:rPr>
              <a:t> - РАССТОЯНИЕ МЕЖДУ ЗАНИМАЮЩИМИСЯ,  СТОЯЩИМИ В ЗАТЫЛОК ДРУГ ДРУГУ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w Cen MT"/>
              </a:rPr>
              <a:t>ШИРИНА СТРОЯ</a:t>
            </a:r>
            <a:r>
              <a:rPr b="1" lang="ru-RU" sz="24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w Cen MT"/>
              </a:rPr>
              <a:t>- РАССТОЯНИЕ МЕЖДУ ФЛАНГАМИ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w Cen MT"/>
              </a:rPr>
              <a:t>ГЛУБИНА СТРОЯ</a:t>
            </a:r>
            <a:r>
              <a:rPr b="1" lang="ru-RU" sz="2400" spc="-1" strike="noStrike">
                <a:solidFill>
                  <a:srgbClr val="0000ff"/>
                </a:solidFill>
                <a:latin typeface="Tw Cen MT"/>
              </a:rPr>
              <a:t>  -  РАССТОЯНИЕ ОТ ПЕРВОЙ ШЕРЕНГИ ДО     ПОСЛЕДНЕЙ ИЛИ ОТ ВПЕРЕДИ</a:t>
            </a:r>
            <a:r>
              <a:rPr b="1" lang="ru-RU" sz="2800" spc="-1" strike="noStrike">
                <a:solidFill>
                  <a:srgbClr val="0000ff"/>
                </a:solidFill>
                <a:latin typeface="Tw Cen MT"/>
              </a:rPr>
              <a:t> СТОЯЩЕГО  </a:t>
            </a:r>
            <a:r>
              <a:rPr b="1" lang="ru-RU" sz="2400" spc="-1" strike="noStrike">
                <a:solidFill>
                  <a:srgbClr val="0000ff"/>
                </a:solidFill>
                <a:latin typeface="Tw Cen MT"/>
              </a:rPr>
              <a:t>ЗАНИМАЮЩЕГОСЯ ДО СТОЯЩЕГО СЗАДИ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10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0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0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0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10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0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0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0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3" descr="Шеренг"/>
          <p:cNvPicPr/>
          <p:nvPr/>
        </p:nvPicPr>
        <p:blipFill>
          <a:blip r:embed="rId1"/>
          <a:stretch/>
        </p:blipFill>
        <p:spPr>
          <a:xfrm>
            <a:off x="108000" y="115920"/>
            <a:ext cx="3922560" cy="3649680"/>
          </a:xfrm>
          <a:prstGeom prst="rect">
            <a:avLst/>
          </a:prstGeom>
          <a:ln w="0">
            <a:noFill/>
          </a:ln>
        </p:spPr>
      </p:pic>
      <p:sp>
        <p:nvSpPr>
          <p:cNvPr id="1039" name="Text Box 4"/>
          <p:cNvSpPr/>
          <p:nvPr/>
        </p:nvSpPr>
        <p:spPr>
          <a:xfrm>
            <a:off x="3203640" y="3141720"/>
            <a:ext cx="5796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Шеренг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- строй, в котором занимающиеся размещены один возле другого на одной ли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Рисунок 1" descr=""/>
          <p:cNvPicPr/>
          <p:nvPr/>
        </p:nvPicPr>
        <p:blipFill>
          <a:blip r:embed="rId1"/>
          <a:stretch/>
        </p:blipFill>
        <p:spPr>
          <a:xfrm>
            <a:off x="6480" y="0"/>
            <a:ext cx="9134280" cy="6846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Шеренг"/>
          <p:cNvPicPr/>
          <p:nvPr/>
        </p:nvPicPr>
        <p:blipFill>
          <a:blip r:embed="rId2"/>
          <a:stretch/>
        </p:blipFill>
        <p:spPr>
          <a:xfrm>
            <a:off x="4788000" y="2060640"/>
            <a:ext cx="3790800" cy="435456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77560" y="10800"/>
            <a:ext cx="8507160" cy="44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олонн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- строй,  в котором занимающиеся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асположены в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атылок друг другу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Рисунок 3" descr="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 txBox="1"/>
          <p:nvPr/>
        </p:nvSpPr>
        <p:spPr>
          <a:xfrm>
            <a:off x="18720" y="189000"/>
            <a:ext cx="87138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остроение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– первоначальное размещение  занимающихся в том или ином строю по коман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ерестроение </a:t>
            </a:r>
            <a:r>
              <a:rPr b="1" lang="ru-RU" sz="3600" spc="-1" strike="noStrike">
                <a:solidFill>
                  <a:srgbClr val="161645"/>
                </a:solidFill>
                <a:latin typeface="Arial"/>
              </a:rPr>
              <a:t>- переход из одного строя в другой  по  команде проводяще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2696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ПОСТРОЕНИЯ И ПЕРЕСТРОЕ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 u="sng">
                <a:solidFill>
                  <a:srgbClr val="002060"/>
                </a:solidFill>
                <a:uFillTx/>
                <a:latin typeface="Times New Roman"/>
              </a:rPr>
              <a:t>Начальные постро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1.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Построение в одну шеренгу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анда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"В одну  шеренгу «Становись!»"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роящий становится  лицом  к  фронту в положение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"Смирно"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Занимающиеся бегом выстраиваются слева от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2.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Построение в  колонну по одному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анда: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"В колонну по одному - СТАНОВИСЬ!"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Строящий становится в положение "Смирно". Занимающиеся бегом выстраиваются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Рисунок 1" descr=""/>
          <p:cNvPicPr/>
          <p:nvPr/>
        </p:nvPicPr>
        <p:blipFill>
          <a:blip r:embed="rId2"/>
          <a:stretch/>
        </p:blipFill>
        <p:spPr>
          <a:xfrm>
            <a:off x="-41400" y="27000"/>
            <a:ext cx="9185400" cy="6831000"/>
          </a:xfrm>
          <a:prstGeom prst="rect">
            <a:avLst/>
          </a:prstGeom>
          <a:ln w="0">
            <a:noFill/>
          </a:ln>
        </p:spPr>
      </p:pic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46040" y="47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61645"/>
                </a:solidFill>
                <a:uFillTx/>
                <a:latin typeface="Arial"/>
              </a:rPr>
              <a:t>Перестроения на мес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10880" y="1341360"/>
            <a:ext cx="8901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3.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ерестроения из одной шеренги в две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предварительного расчета  на  1-й  и  2-й  подается  команда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"В две шеренги СТРОЙСЯ!"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о этой команде первые номера стоят на месте, а вторые делают шаг левой наза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Обратное перестроение  выполняется  по команде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"В одну шеренгу - СТРОЙСЯ!". 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Перестроение проводится в порядке, обратном постро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2:08:19Z</dcterms:created>
  <dc:creator>Анцыперов</dc:creator>
  <dc:description/>
  <dc:language>en-US</dc:language>
  <cp:lastModifiedBy>RePack by Diakov</cp:lastModifiedBy>
  <dcterms:modified xsi:type="dcterms:W3CDTF">2020-04-06T14:08:58Z</dcterms:modified>
  <cp:revision>57</cp:revision>
  <dc:subject/>
  <dc:title>СТРОЕВЫЕ УПРАЖНЕНИЯ</dc:title>
</cp:coreProperties>
</file>