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44A8-473B-4BD0-9F50-101AA3B3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1371-E270-4C52-AEEC-826B755D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7470-3186-4835-BA2A-99B9669C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01A0-6B83-4F32-9B4D-3285477C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F3B9-B017-4230-B021-FE62EA97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3645-C78E-4C1A-8A5B-B2A18C86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A0E1-961F-4FA7-B4F5-7BF367E9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74BF-E064-486C-9B4D-3A256785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9BA1-9785-4990-B4D7-04A7686C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D34A-B252-4CF1-8A0D-993E0AE1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A804-793C-4C47-AAD0-AAB2C080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2601-41DC-4405-9589-93A101D9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6FCD-113E-4550-819D-531A0E6D3B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4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79280" y="115920"/>
            <a:ext cx="8856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олшебный </a:t>
            </a:r>
            <a:endParaRPr b="1" i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ик-семицветик.</a:t>
            </a:r>
            <a:endParaRPr b="1" i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611280" y="3645000"/>
            <a:ext cx="813744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Средства 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музыкальной 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выразительности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mi"/>
          <p:cNvPicPr/>
          <p:nvPr/>
        </p:nvPicPr>
        <p:blipFill>
          <a:blip r:embed="rId1"/>
          <a:stretch/>
        </p:blipFill>
        <p:spPr>
          <a:xfrm>
            <a:off x="-38160" y="360360"/>
            <a:ext cx="4610160" cy="6237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ТЕМБ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58920" y="1413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ba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batC"/>
              </a:rPr>
              <a:t>Темб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краска зву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key"/>
          <p:cNvPicPr/>
          <p:nvPr/>
        </p:nvPicPr>
        <p:blipFill>
          <a:blip r:embed="rId2"/>
          <a:stretch/>
        </p:blipFill>
        <p:spPr>
          <a:xfrm>
            <a:off x="8547120" y="6021360"/>
            <a:ext cx="596880" cy="836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app"/>
          <p:cNvPicPr/>
          <p:nvPr/>
        </p:nvPicPr>
        <p:blipFill>
          <a:blip r:embed="rId3"/>
          <a:stretch/>
        </p:blipFill>
        <p:spPr>
          <a:xfrm>
            <a:off x="2050920" y="2205000"/>
            <a:ext cx="3443400" cy="3571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app_c"/>
          <p:cNvPicPr/>
          <p:nvPr/>
        </p:nvPicPr>
        <p:blipFill>
          <a:blip r:embed="rId4"/>
          <a:stretch/>
        </p:blipFill>
        <p:spPr>
          <a:xfrm>
            <a:off x="5219640" y="2111400"/>
            <a:ext cx="3156120" cy="3693960"/>
          </a:xfrm>
          <a:prstGeom prst="rect">
            <a:avLst/>
          </a:prstGeom>
          <a:ln w="0">
            <a:noFill/>
          </a:ln>
        </p:spPr>
      </p:pic>
      <p:sp>
        <p:nvSpPr>
          <p:cNvPr id="103" name="Freeform 14"/>
          <p:cNvSpPr/>
          <p:nvPr/>
        </p:nvSpPr>
        <p:spPr>
          <a:xfrm>
            <a:off x="6659640" y="2060640"/>
            <a:ext cx="936720" cy="1008000"/>
          </a:xfrm>
          <a:custGeom>
            <a:avLst/>
            <a:gdLst/>
            <a:ahLst/>
            <a:rect l="l" t="t" r="r" b="b"/>
            <a:pathLst>
              <a:path w="485" h="525">
                <a:moveTo>
                  <a:pt x="22" y="525"/>
                </a:moveTo>
                <a:cubicBezTo>
                  <a:pt x="26" y="466"/>
                  <a:pt x="26" y="406"/>
                  <a:pt x="46" y="350"/>
                </a:cubicBezTo>
                <a:cubicBezTo>
                  <a:pt x="53" y="304"/>
                  <a:pt x="62" y="254"/>
                  <a:pt x="104" y="228"/>
                </a:cubicBezTo>
                <a:cubicBezTo>
                  <a:pt x="108" y="222"/>
                  <a:pt x="110" y="215"/>
                  <a:pt x="115" y="210"/>
                </a:cubicBezTo>
                <a:cubicBezTo>
                  <a:pt x="120" y="205"/>
                  <a:pt x="129" y="204"/>
                  <a:pt x="133" y="199"/>
                </a:cubicBezTo>
                <a:cubicBezTo>
                  <a:pt x="158" y="169"/>
                  <a:pt x="113" y="188"/>
                  <a:pt x="162" y="175"/>
                </a:cubicBezTo>
                <a:cubicBezTo>
                  <a:pt x="168" y="171"/>
                  <a:pt x="175" y="169"/>
                  <a:pt x="179" y="164"/>
                </a:cubicBezTo>
                <a:cubicBezTo>
                  <a:pt x="183" y="159"/>
                  <a:pt x="180" y="150"/>
                  <a:pt x="185" y="146"/>
                </a:cubicBezTo>
                <a:cubicBezTo>
                  <a:pt x="198" y="133"/>
                  <a:pt x="220" y="135"/>
                  <a:pt x="238" y="129"/>
                </a:cubicBezTo>
                <a:cubicBezTo>
                  <a:pt x="271" y="118"/>
                  <a:pt x="300" y="97"/>
                  <a:pt x="331" y="82"/>
                </a:cubicBezTo>
                <a:cubicBezTo>
                  <a:pt x="346" y="75"/>
                  <a:pt x="362" y="70"/>
                  <a:pt x="377" y="65"/>
                </a:cubicBezTo>
                <a:cubicBezTo>
                  <a:pt x="396" y="58"/>
                  <a:pt x="435" y="47"/>
                  <a:pt x="435" y="47"/>
                </a:cubicBezTo>
                <a:cubicBezTo>
                  <a:pt x="448" y="39"/>
                  <a:pt x="466" y="40"/>
                  <a:pt x="476" y="30"/>
                </a:cubicBezTo>
                <a:cubicBezTo>
                  <a:pt x="482" y="24"/>
                  <a:pt x="485" y="0"/>
                  <a:pt x="482" y="7"/>
                </a:cubicBezTo>
                <a:cubicBezTo>
                  <a:pt x="477" y="20"/>
                  <a:pt x="474" y="34"/>
                  <a:pt x="470" y="47"/>
                </a:cubicBezTo>
                <a:cubicBezTo>
                  <a:pt x="465" y="100"/>
                  <a:pt x="464" y="199"/>
                  <a:pt x="424" y="239"/>
                </a:cubicBezTo>
                <a:cubicBezTo>
                  <a:pt x="412" y="274"/>
                  <a:pt x="427" y="242"/>
                  <a:pt x="400" y="269"/>
                </a:cubicBezTo>
                <a:cubicBezTo>
                  <a:pt x="381" y="288"/>
                  <a:pt x="383" y="311"/>
                  <a:pt x="360" y="327"/>
                </a:cubicBezTo>
                <a:cubicBezTo>
                  <a:pt x="336" y="361"/>
                  <a:pt x="280" y="386"/>
                  <a:pt x="238" y="397"/>
                </a:cubicBezTo>
                <a:cubicBezTo>
                  <a:pt x="232" y="401"/>
                  <a:pt x="225" y="403"/>
                  <a:pt x="220" y="408"/>
                </a:cubicBezTo>
                <a:cubicBezTo>
                  <a:pt x="214" y="414"/>
                  <a:pt x="215" y="426"/>
                  <a:pt x="208" y="431"/>
                </a:cubicBezTo>
                <a:cubicBezTo>
                  <a:pt x="190" y="444"/>
                  <a:pt x="164" y="441"/>
                  <a:pt x="144" y="449"/>
                </a:cubicBezTo>
                <a:cubicBezTo>
                  <a:pt x="128" y="456"/>
                  <a:pt x="114" y="466"/>
                  <a:pt x="98" y="472"/>
                </a:cubicBezTo>
                <a:cubicBezTo>
                  <a:pt x="71" y="482"/>
                  <a:pt x="39" y="487"/>
                  <a:pt x="11" y="495"/>
                </a:cubicBezTo>
                <a:cubicBezTo>
                  <a:pt x="3" y="520"/>
                  <a:pt x="0" y="509"/>
                  <a:pt x="22" y="525"/>
                </a:cubicBezTo>
                <a:close/>
              </a:path>
            </a:pathLst>
          </a:custGeom>
          <a:solidFill>
            <a:srgbClr val="00800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5"/>
          <p:cNvSpPr/>
          <p:nvPr/>
        </p:nvSpPr>
        <p:spPr>
          <a:xfrm>
            <a:off x="6770520" y="2179800"/>
            <a:ext cx="766800" cy="812520"/>
          </a:xfrm>
          <a:custGeom>
            <a:avLst/>
            <a:gdLst/>
            <a:ahLst/>
            <a:rect l="l" t="t" r="r" b="b"/>
            <a:pathLst>
              <a:path w="483" h="512">
                <a:moveTo>
                  <a:pt x="0" y="512"/>
                </a:moveTo>
                <a:cubicBezTo>
                  <a:pt x="9" y="475"/>
                  <a:pt x="20" y="445"/>
                  <a:pt x="40" y="413"/>
                </a:cubicBezTo>
                <a:cubicBezTo>
                  <a:pt x="50" y="367"/>
                  <a:pt x="61" y="321"/>
                  <a:pt x="93" y="285"/>
                </a:cubicBezTo>
                <a:cubicBezTo>
                  <a:pt x="108" y="268"/>
                  <a:pt x="145" y="244"/>
                  <a:pt x="145" y="244"/>
                </a:cubicBezTo>
                <a:cubicBezTo>
                  <a:pt x="156" y="191"/>
                  <a:pt x="202" y="171"/>
                  <a:pt x="250" y="163"/>
                </a:cubicBezTo>
                <a:cubicBezTo>
                  <a:pt x="281" y="141"/>
                  <a:pt x="322" y="136"/>
                  <a:pt x="355" y="116"/>
                </a:cubicBezTo>
                <a:cubicBezTo>
                  <a:pt x="388" y="96"/>
                  <a:pt x="395" y="85"/>
                  <a:pt x="419" y="58"/>
                </a:cubicBezTo>
                <a:cubicBezTo>
                  <a:pt x="444" y="30"/>
                  <a:pt x="460" y="23"/>
                  <a:pt x="483" y="0"/>
                </a:cubicBezTo>
              </a:path>
            </a:pathLst>
          </a:cu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6"/>
          <p:cNvSpPr/>
          <p:nvPr/>
        </p:nvSpPr>
        <p:spPr>
          <a:xfrm>
            <a:off x="6850080" y="2706840"/>
            <a:ext cx="428760" cy="74520"/>
          </a:xfrm>
          <a:custGeom>
            <a:avLst/>
            <a:gdLst/>
            <a:ahLst/>
            <a:rect l="l" t="t" r="r" b="b"/>
            <a:pathLst>
              <a:path w="270" h="47">
                <a:moveTo>
                  <a:pt x="17" y="47"/>
                </a:moveTo>
                <a:cubicBezTo>
                  <a:pt x="12" y="41"/>
                  <a:pt x="0" y="37"/>
                  <a:pt x="2" y="29"/>
                </a:cubicBezTo>
                <a:cubicBezTo>
                  <a:pt x="4" y="21"/>
                  <a:pt x="17" y="20"/>
                  <a:pt x="25" y="17"/>
                </a:cubicBezTo>
                <a:cubicBezTo>
                  <a:pt x="47" y="7"/>
                  <a:pt x="72" y="6"/>
                  <a:pt x="95" y="0"/>
                </a:cubicBezTo>
                <a:cubicBezTo>
                  <a:pt x="243" y="7"/>
                  <a:pt x="184" y="6"/>
                  <a:pt x="270" y="6"/>
                </a:cubicBezTo>
              </a:path>
            </a:pathLst>
          </a:cu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7"/>
          <p:cNvSpPr/>
          <p:nvPr/>
        </p:nvSpPr>
        <p:spPr>
          <a:xfrm>
            <a:off x="6899400" y="2544840"/>
            <a:ext cx="517320" cy="87120"/>
          </a:xfrm>
          <a:custGeom>
            <a:avLst/>
            <a:gdLst/>
            <a:ahLst/>
            <a:rect l="l" t="t" r="r" b="b"/>
            <a:pathLst>
              <a:path w="326" h="55">
                <a:moveTo>
                  <a:pt x="0" y="55"/>
                </a:moveTo>
                <a:cubicBezTo>
                  <a:pt x="64" y="47"/>
                  <a:pt x="119" y="29"/>
                  <a:pt x="181" y="20"/>
                </a:cubicBezTo>
                <a:cubicBezTo>
                  <a:pt x="238" y="0"/>
                  <a:pt x="192" y="14"/>
                  <a:pt x="326" y="14"/>
                </a:cubicBezTo>
              </a:path>
            </a:pathLst>
          </a:cu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8"/>
          <p:cNvSpPr/>
          <p:nvPr/>
        </p:nvSpPr>
        <p:spPr>
          <a:xfrm>
            <a:off x="7093080" y="2411280"/>
            <a:ext cx="369720" cy="63720"/>
          </a:xfrm>
          <a:custGeom>
            <a:avLst/>
            <a:gdLst/>
            <a:ahLst/>
            <a:rect l="l" t="t" r="r" b="b"/>
            <a:pathLst>
              <a:path w="233" h="40">
                <a:moveTo>
                  <a:pt x="0" y="40"/>
                </a:moveTo>
                <a:cubicBezTo>
                  <a:pt x="15" y="4"/>
                  <a:pt x="17" y="7"/>
                  <a:pt x="53" y="0"/>
                </a:cubicBezTo>
                <a:cubicBezTo>
                  <a:pt x="171" y="7"/>
                  <a:pt x="111" y="5"/>
                  <a:pt x="233" y="5"/>
                </a:cubicBezTo>
              </a:path>
            </a:pathLst>
          </a:cu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9"/>
          <p:cNvSpPr/>
          <p:nvPr/>
        </p:nvSpPr>
        <p:spPr>
          <a:xfrm>
            <a:off x="6788160" y="2854440"/>
            <a:ext cx="287280" cy="36360"/>
          </a:xfrm>
          <a:custGeom>
            <a:avLst/>
            <a:gdLst/>
            <a:ahLst/>
            <a:rect l="l" t="t" r="r" b="b"/>
            <a:pathLst>
              <a:path w="181" h="23">
                <a:moveTo>
                  <a:pt x="0" y="23"/>
                </a:moveTo>
                <a:cubicBezTo>
                  <a:pt x="84" y="2"/>
                  <a:pt x="74" y="0"/>
                  <a:pt x="181" y="0"/>
                </a:cubicBezTo>
              </a:path>
            </a:pathLst>
          </a:cu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Флейта.mp3" descr=""/>
          <p:cNvPicPr/>
          <p:nvPr/>
        </p:nvPicPr>
        <p:blipFill>
          <a:blip r:embed="rId5"/>
          <a:stretch/>
        </p:blipFill>
        <p:spPr>
          <a:xfrm>
            <a:off x="190800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0" name="Фагот.mp3" descr=""/>
          <p:cNvPicPr/>
          <p:nvPr/>
        </p:nvPicPr>
        <p:blipFill>
          <a:blip r:embed="rId6"/>
          <a:stretch/>
        </p:blipFill>
        <p:spPr>
          <a:xfrm>
            <a:off x="341964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0" y="-171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Дмитрий Борисович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04 г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Кабалевский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87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кабалевский"/>
          <p:cNvPicPr/>
          <p:nvPr/>
        </p:nvPicPr>
        <p:blipFill>
          <a:blip r:embed="rId1"/>
          <a:stretch/>
        </p:blipFill>
        <p:spPr>
          <a:xfrm>
            <a:off x="6084720" y="1700280"/>
            <a:ext cx="2718000" cy="3024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0" y="1484280"/>
            <a:ext cx="694836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оссийский композитор, педагог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 народный артист СССР, профессо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сковской консерватории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4611600"/>
            <a:ext cx="914400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70-е гг. 20 века разработал новую  систему музыкального  воспитания в  общеобразовательной  шк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ff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v"/>
          <p:cNvPicPr/>
          <p:nvPr/>
        </p:nvPicPr>
        <p:blipFill>
          <a:blip r:embed="rId1"/>
          <a:stretch/>
        </p:blipFill>
        <p:spPr>
          <a:xfrm>
            <a:off x="1655640" y="1136520"/>
            <a:ext cx="7453440" cy="57484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5076720" y="374004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НТОН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050920" y="444816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АККОМПАН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563000" y="5214960"/>
            <a:ext cx="9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Л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197760" y="52149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ТЕМБ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515640" y="4133880"/>
            <a:ext cx="23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ДИНАМ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>
            <a:hlinkClick r:id="" action="ppaction://hlinkshowjump?jump=nextslide"/>
          </p:cNvPr>
          <p:cNvSpPr/>
          <p:nvPr/>
        </p:nvSpPr>
        <p:spPr>
          <a:xfrm>
            <a:off x="2824560" y="406224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МЕЛОД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5942880" y="211788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ТЕМ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4294800" y="254952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ИТ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6746040" y="2838600"/>
            <a:ext cx="174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ЕГИС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0" y="11484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batC"/>
              </a:rPr>
              <a:t>Цветок нас жд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batC"/>
              </a:rPr>
              <a:t>Нам музыка всего дор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3be1"/>
                </a:solidFill>
                <a:latin typeface="ArbatC"/>
              </a:rPr>
              <a:t>Фантаз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3be1"/>
                </a:solidFill>
                <a:latin typeface="ArbatC"/>
              </a:rPr>
              <a:t>          </a:t>
            </a:r>
            <a:r>
              <a:rPr b="1" lang="ru-RU" sz="3200" spc="-1" strike="noStrike">
                <a:solidFill>
                  <a:srgbClr val="5b3be1"/>
                </a:solidFill>
                <a:latin typeface="ArbatC"/>
              </a:rPr>
              <a:t>сказоч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3be1"/>
                </a:solidFill>
                <a:latin typeface="ArbatC"/>
              </a:rPr>
              <a:t>                   </a:t>
            </a:r>
            <a:r>
              <a:rPr b="1" lang="ru-RU" sz="3200" spc="-1" strike="noStrike">
                <a:solidFill>
                  <a:srgbClr val="5b3be1"/>
                </a:solidFill>
                <a:latin typeface="ArbatC"/>
              </a:rPr>
              <a:t>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batC"/>
              </a:rPr>
              <a:t>Не заблуди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batC"/>
              </a:rPr>
              <a:t>      </a:t>
            </a:r>
            <a:r>
              <a:rPr b="1" lang="ru-RU" sz="3200" spc="-1" strike="noStrike">
                <a:solidFill>
                  <a:srgbClr val="660066"/>
                </a:solidFill>
                <a:latin typeface="ArbatC"/>
              </a:rPr>
              <a:t>нам помож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41" descr="http://www.muz-urok.ru/muz_pamyat/673_7.jpg"/>
          <p:cNvPicPr/>
          <p:nvPr/>
        </p:nvPicPr>
        <p:blipFill>
          <a:blip r:embed="rId1"/>
          <a:stretch/>
        </p:blipFill>
        <p:spPr>
          <a:xfrm>
            <a:off x="-252360" y="-843120"/>
            <a:ext cx="9109080" cy="86900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5651640" y="306864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лод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600200" y="2152800"/>
            <a:ext cx="189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рит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187280" y="4149720"/>
            <a:ext cx="20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емб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492360" y="501336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3203640" y="1125360"/>
            <a:ext cx="18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ем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 rot="18858000">
            <a:off x="4828680" y="1443600"/>
            <a:ext cx="263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нам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5508720" y="486900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 rot="2140200">
            <a:off x="5147640" y="486864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гис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13"/>
          <p:cNvSpPr txBox="1"/>
          <p:nvPr/>
        </p:nvSpPr>
        <p:spPr>
          <a:xfrm>
            <a:off x="3449520" y="2811600"/>
            <a:ext cx="2041560" cy="19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49473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нтонация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" name="WordArt 14"/>
          <p:cNvSpPr txBox="1"/>
          <p:nvPr/>
        </p:nvSpPr>
        <p:spPr>
          <a:xfrm>
            <a:off x="3492360" y="3502080"/>
            <a:ext cx="182736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НТОНАЦИЯ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melod"/>
          <p:cNvPicPr/>
          <p:nvPr/>
        </p:nvPicPr>
        <p:blipFill>
          <a:blip r:embed="rId1"/>
          <a:srcRect l="5446" t="1444" r="4835" b="25490"/>
          <a:stretch/>
        </p:blipFill>
        <p:spPr>
          <a:xfrm>
            <a:off x="2916360" y="1411200"/>
            <a:ext cx="6264000" cy="388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melod"/>
          <p:cNvPicPr/>
          <p:nvPr/>
        </p:nvPicPr>
        <p:blipFill>
          <a:blip r:embed="rId2"/>
          <a:srcRect l="0" t="74490" r="0" b="1514"/>
          <a:stretch/>
        </p:blipFill>
        <p:spPr>
          <a:xfrm>
            <a:off x="2448000" y="5372280"/>
            <a:ext cx="6696000" cy="1225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МЕЛОД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181440" y="1052640"/>
            <a:ext cx="40323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batC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batC"/>
              </a:rPr>
              <a:t>Мелод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дноголосный выразительный напев, который может передавать различные образы, чувства, настро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key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93040" y="0"/>
            <a:ext cx="750960" cy="10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АККОМПАНЕМЕН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ba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batC"/>
              </a:rPr>
              <a:t>Аккомпанеме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4800" spc="-1" strike="noStrike">
                <a:solidFill>
                  <a:srgbClr val="000000"/>
                </a:solidFill>
                <a:latin typeface="AmerType Md BT"/>
              </a:rPr>
              <a:t>музыкальное сопровождение мелоди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ke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547120" y="6021360"/>
            <a:ext cx="596880" cy="83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akk"/>
          <p:cNvPicPr/>
          <p:nvPr/>
        </p:nvPicPr>
        <p:blipFill>
          <a:blip r:embed="rId3"/>
          <a:stretch/>
        </p:blipFill>
        <p:spPr>
          <a:xfrm>
            <a:off x="2195640" y="2583000"/>
            <a:ext cx="4608360" cy="43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00"/>
                </a:solidFill>
                <a:latin typeface="Arial"/>
              </a:rPr>
              <a:t>ЛАД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ba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batC"/>
              </a:rPr>
              <a:t>Ла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строение музы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жор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н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ke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547120" y="6021360"/>
            <a:ext cx="596880" cy="836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maj"/>
          <p:cNvPicPr/>
          <p:nvPr/>
        </p:nvPicPr>
        <p:blipFill>
          <a:blip r:embed="rId3"/>
          <a:stretch/>
        </p:blipFill>
        <p:spPr>
          <a:xfrm>
            <a:off x="1116000" y="2152800"/>
            <a:ext cx="3382920" cy="3508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min"/>
          <p:cNvPicPr/>
          <p:nvPr/>
        </p:nvPicPr>
        <p:blipFill>
          <a:blip r:embed="rId4"/>
          <a:stretch/>
        </p:blipFill>
        <p:spPr>
          <a:xfrm>
            <a:off x="4716360" y="2098800"/>
            <a:ext cx="3908520" cy="34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00"/>
                </a:solidFill>
                <a:latin typeface="Arial"/>
              </a:rPr>
              <a:t>ДИНАМ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410840"/>
            <a:ext cx="8964720" cy="29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ba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batC"/>
              </a:rPr>
              <a:t>Динами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 сила звука, переход от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тихого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iano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к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громкому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orte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наоборот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ke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547120" y="6048360"/>
            <a:ext cx="596880" cy="836640"/>
          </a:xfrm>
          <a:prstGeom prst="rect">
            <a:avLst/>
          </a:prstGeom>
          <a:ln w="0">
            <a:noFill/>
          </a:ln>
        </p:spPr>
      </p:pic>
      <p:sp>
        <p:nvSpPr>
          <p:cNvPr id="72" name="Line 5"/>
          <p:cNvSpPr/>
          <p:nvPr/>
        </p:nvSpPr>
        <p:spPr>
          <a:xfrm flipV="1">
            <a:off x="611280" y="3860280"/>
            <a:ext cx="7489800" cy="10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611280" y="4941720"/>
            <a:ext cx="748980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2050920" y="3962520"/>
            <a:ext cx="6985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pp</a:t>
            </a:r>
            <a:r>
              <a:rPr b="1" lang="en-US" sz="5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en-US" sz="5000" spc="-1" strike="noStrike">
                <a:solidFill>
                  <a:srgbClr val="ff0000"/>
                </a:solidFill>
                <a:latin typeface="Monotype Corsiva"/>
              </a:rPr>
              <a:t>p </a:t>
            </a:r>
            <a:r>
              <a:rPr b="1" lang="en-US" sz="5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mp   </a:t>
            </a:r>
            <a:r>
              <a:rPr b="1" lang="en-US" sz="7000" spc="-1" strike="noStrike">
                <a:solidFill>
                  <a:srgbClr val="000000"/>
                </a:solidFill>
                <a:latin typeface="Monotype Corsiva"/>
              </a:rPr>
              <a:t>mf   </a:t>
            </a:r>
            <a:r>
              <a:rPr b="1" lang="en-US" sz="8000" spc="-1" strike="noStrike">
                <a:solidFill>
                  <a:srgbClr val="ff0000"/>
                </a:solidFill>
                <a:latin typeface="Monotype Corsiva"/>
              </a:rPr>
              <a:t>f</a:t>
            </a:r>
            <a:r>
              <a:rPr b="1" lang="en-US" sz="5000" spc="-1" strike="noStrike">
                <a:solidFill>
                  <a:srgbClr val="ff0000"/>
                </a:solidFill>
                <a:latin typeface="Monotype Corsiva"/>
              </a:rPr>
              <a:t>   </a:t>
            </a:r>
            <a:r>
              <a:rPr b="1" lang="en-US" sz="5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en-US" sz="9000" spc="-1" strike="noStrike">
                <a:solidFill>
                  <a:srgbClr val="000000"/>
                </a:solidFill>
                <a:latin typeface="Monotype Corsiva"/>
              </a:rPr>
              <a:t>ff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-132120" y="4578480"/>
            <a:ext cx="82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p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00"/>
                </a:solidFill>
                <a:latin typeface="Arial"/>
              </a:rPr>
              <a:t>РИТ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252720" y="765000"/>
            <a:ext cx="93963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ba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batC"/>
              </a:rPr>
              <a:t>Музыкальный рит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это чередование разных длительностей звук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ke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8360" y="115920"/>
            <a:ext cx="596880" cy="836640"/>
          </a:xfrm>
          <a:prstGeom prst="rect">
            <a:avLst/>
          </a:prstGeom>
          <a:ln w="0">
            <a:noFill/>
          </a:ln>
        </p:spPr>
      </p:pic>
      <p:sp>
        <p:nvSpPr>
          <p:cNvPr id="79" name="WordArt 6"/>
          <p:cNvSpPr txBox="1"/>
          <p:nvPr/>
        </p:nvSpPr>
        <p:spPr>
          <a:xfrm>
            <a:off x="4786200" y="2781360"/>
            <a:ext cx="4249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latin typeface="Calibri"/>
              </a:rPr>
              <a:t>РОВНЫЙ</a:t>
            </a:r>
            <a:endParaRPr b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0000ff"/>
              </a:solidFill>
              <a:latin typeface="Calibri"/>
              <a:ea typeface="Calibri"/>
            </a:endParaRPr>
          </a:p>
        </p:txBody>
      </p:sp>
      <p:pic>
        <p:nvPicPr>
          <p:cNvPr id="80" name="Picture 3" descr="D:\Для учебы\РАБОТА\К откр.уроку\eighth-note-hi.png"/>
          <p:cNvPicPr/>
          <p:nvPr/>
        </p:nvPicPr>
        <p:blipFill>
          <a:blip r:embed="rId3"/>
          <a:stretch/>
        </p:blipFill>
        <p:spPr>
          <a:xfrm>
            <a:off x="5607000" y="3608280"/>
            <a:ext cx="3213000" cy="2989440"/>
          </a:xfrm>
          <a:prstGeom prst="rect">
            <a:avLst/>
          </a:prstGeom>
          <a:ln w="0">
            <a:noFill/>
          </a:ln>
        </p:spPr>
      </p:pic>
      <p:pic>
        <p:nvPicPr>
          <p:cNvPr id="81" name="TextBox 2" descr=""/>
          <p:cNvPicPr/>
          <p:nvPr/>
        </p:nvPicPr>
        <p:blipFill>
          <a:blip r:embed="rId4"/>
          <a:stretch/>
        </p:blipFill>
        <p:spPr>
          <a:xfrm rot="20248800">
            <a:off x="-36000" y="2349000"/>
            <a:ext cx="4464000" cy="1712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D:\Для учебы\РАБОТА\К откр.уроку\eighth-note-hi.png"/>
          <p:cNvPicPr/>
          <p:nvPr/>
        </p:nvPicPr>
        <p:blipFill>
          <a:blip r:embed="rId5"/>
          <a:stretch/>
        </p:blipFill>
        <p:spPr>
          <a:xfrm>
            <a:off x="571680" y="3608280"/>
            <a:ext cx="3213000" cy="2989440"/>
          </a:xfrm>
          <a:prstGeom prst="rect">
            <a:avLst/>
          </a:prstGeom>
          <a:ln w="0">
            <a:noFill/>
          </a:ln>
        </p:spPr>
      </p:pic>
      <p:sp>
        <p:nvSpPr>
          <p:cNvPr id="83" name="Oval 10"/>
          <p:cNvSpPr/>
          <p:nvPr/>
        </p:nvSpPr>
        <p:spPr>
          <a:xfrm>
            <a:off x="1835280" y="5948280"/>
            <a:ext cx="215640" cy="217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3203640" y="429264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be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876400" y="2852640"/>
            <a:ext cx="2990880" cy="24004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00"/>
                </a:solidFill>
                <a:latin typeface="Arial"/>
              </a:rPr>
              <a:t>ТЕМ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ba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batC"/>
              </a:rPr>
              <a:t>Темп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скорость зву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key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47120" y="0"/>
            <a:ext cx="596880" cy="836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2700360" y="5445000"/>
            <a:ext cx="31669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Умере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0011-011-Gepard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5724360" y="3740040"/>
            <a:ext cx="3419640" cy="223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i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0" y="1700280"/>
            <a:ext cx="2987640" cy="22413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0"/>
          <p:cNvSpPr/>
          <p:nvPr/>
        </p:nvSpPr>
        <p:spPr>
          <a:xfrm>
            <a:off x="-115560" y="4022640"/>
            <a:ext cx="31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едле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6028200" y="5967360"/>
            <a:ext cx="256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ыстр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00"/>
                </a:solidFill>
                <a:latin typeface="Arial"/>
              </a:rPr>
              <a:t>РЕГИСТ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5292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высота звучания голоса или инструмент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ArbatC"/>
              </a:rPr>
              <a:t>Регистр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соки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редни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изки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e_pingping_sultan_kosen0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5181480" y="906480"/>
            <a:ext cx="3927600" cy="590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08:55:51Z</dcterms:created>
  <dc:creator>Татьяна</dc:creator>
  <dc:description/>
  <dc:language>en-US</dc:language>
  <cp:lastModifiedBy>Ani Gasparyan</cp:lastModifiedBy>
  <dcterms:modified xsi:type="dcterms:W3CDTF">2020-04-06T19:37:54Z</dcterms:modified>
  <cp:revision>118</cp:revision>
  <dc:subject/>
  <dc:title>Слайд 1</dc:title>
</cp:coreProperties>
</file>