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E261E-CA43-491E-9E4E-A4C35B824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7FEFF-188C-4420-A15F-34275944E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FB878-F96C-448A-B006-3F95A5953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8976C-485E-454B-A394-B153789FC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03D6D-8FD4-4CB7-85A6-209A7C589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C92FA-0B2E-483E-93AD-02A9AC675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A3CB0-238E-4964-AA47-35170E4CF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9F65B-12E4-41A5-95A7-C07FD36DC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28E4A-A7B7-4DC0-B92D-EAC182CE6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9BB1A-A188-4406-ABC5-3D8708CA9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F206E-3957-49E1-8645-3E7007751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D1830-5304-42AA-9814-25177956E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90705-4731-46CD-8FF9-743F4205E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25326-5988-43EE-BB29-B1787A0A9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A9B2C-5EB8-4A76-85FE-6B1385A42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B6E85-19E3-4D66-8435-BDC1E8CC1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02012-054E-4679-8A5C-BC4F05556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35AF0E-3F03-4444-8C11-DA409DDE2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9A0F16-52B0-4782-AF58-E79473E64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327113-E256-4671-9B7C-D7285F1C6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6A0BEF-CFD2-43B1-8689-70B0291CC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7D7699-15D8-4BDE-B07D-0AF5E12E2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4CAF8-AF8D-47D6-B9D1-5C192C44A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3980E9-F8CE-4757-9B3F-FAEB12523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6EC062-9554-4848-BC60-1D221D284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5C7CCF-8389-44DD-96C9-DB30CE2D2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1E0AD4-0394-46B5-9B37-D7D904920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8B2A1A-5D77-4795-AF2A-12C02E572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EA9A12-1203-4BE6-AC7E-2BBFC3859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5C24A5-9A4E-46C0-9960-A93A4C755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C7327C-56D2-49CB-9AB1-1F2FA5C0B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51FB8E-13B4-4705-B251-F07506160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1296AF-B412-4027-968B-CD3A6450B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85C21-496D-4BEC-B6F5-2A412C4FA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A66614-FBB5-44B5-A63F-79DD57699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0FDF11-0C2F-4D1D-845B-ADDCC9B93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5FA7CA-D824-4A29-A3B1-8B312303D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4EE075-796F-4556-8004-DAD6EFC34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3408F7-48F0-45D0-8884-D6B8A627F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687DE9-2A08-4637-9058-BE308E247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E6910C-D8EF-4C01-AFF6-BD0F988D9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AABDFE-E764-4068-801E-E2BDFD262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B0BA6E-9C24-4BD9-8185-C328ABAE4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42F6A1-A35D-4B7F-AED5-11E9CFF1E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FBD95-DF27-45BF-82B7-78A04C393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FB3A71-A53F-4A34-9CB5-33657CB77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17C61E-DDD9-4A0D-8D39-8499DF014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E19574-1886-4B2D-88B0-967D67053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A30861-7237-4F38-BF45-F6C36C33A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4FBAB5-356E-482C-864B-BBA7E7B75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62C0D1-9EA8-4A80-A141-FDD41FBC1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8834B5-0176-4E97-B808-BA8F27789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CA0BAB-4E21-4C48-B693-269342823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ACB0BB-266B-4B44-A8E1-87DBDA76C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AB88C4-8BE3-46DC-AA09-117E28A36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7C5DB-AEEA-4F2B-9B67-080232530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F01B36-63B1-4DB7-96F9-ABA47FC56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A4B494-D18C-4706-A753-349754B07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5A51A0-CDEB-425B-B9A5-D3490845F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750FA1-7894-4C79-B878-281001052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8BB9A8-ED42-48A9-8A42-F88109FCB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302D7F-E3D0-4460-816F-11158B4ED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729C85-23CA-4954-A644-E5295A6E7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B991F5-D867-49DD-8C1C-674CCEBB3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829F81-C7EA-4E26-A8E1-6C92A95C1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236DEF-7121-465E-B3EE-7E13094F5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88E1A-4F32-475E-A959-F46506EBC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B2B713-6E83-45DE-AACC-A4BA5514A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ED90DC-8430-437F-9764-67D0B4C57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0F9CFE-CE30-40BB-961F-9F82E3F6C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6078A5-DEF2-4DC5-8FDA-56D1C2527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319C72-EA09-4D98-B3B6-8419DF0DC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9E5523-551E-44EF-A8A4-A216DAB5E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754C64-6929-4243-9F51-12E867FA7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2F55EF-54D6-495F-AC61-E14D73870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59B79E-5DA3-49D3-BDEC-7481414F5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D03917-98A7-4DCB-B613-E66F931A9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C7D29-D9AF-430A-96A8-8DB049A1A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8B881D-D7BB-436C-B8D2-44997B023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09E32E-3BDA-4EE6-9325-A38DF96CE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D2E11E-E86E-4126-9172-3637D483F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65B80F-2FCE-4B9F-99EC-921BBF1CC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825532-FC85-44F7-A085-1A3A2DB11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83AD1-7BF9-45E6-A2FE-23CD2115A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9C768-5D62-44C8-9CB6-D76A9D8AC0C0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9AB6D-C07C-4DA8-819D-0F3D0753F320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09506-368D-4ACD-8835-D449319EFE5A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4DB21-0936-44B2-A4CC-ED03F90D2805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6005B-9D45-4673-BF2D-239E004EABED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E88D4-A952-49CF-95D8-5457CB689913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066CC-1849-4A5A-B057-FA3217E9DE6A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Цветок «Хризантема» из гофрированной бумаги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4356000" y="5805360"/>
            <a:ext cx="4788000" cy="10526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20e04"/>
                </a:solidFill>
                <a:latin typeface="Corbel"/>
              </a:rPr>
              <a:t>Игнатьева Мария Андреевна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20e04"/>
                </a:solidFill>
                <a:latin typeface="Corbel"/>
              </a:rPr>
              <a:t>Педагог дополнительного образования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0" name="Picture 4" descr=""/>
          <p:cNvPicPr/>
          <p:nvPr/>
        </p:nvPicPr>
        <p:blipFill>
          <a:blip r:embed="rId1"/>
          <a:stretch/>
        </p:blipFill>
        <p:spPr>
          <a:xfrm>
            <a:off x="1468440" y="1981080"/>
            <a:ext cx="4981680" cy="27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Инструменты и материалы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Гофрированная бумага: основной и зеленый цвета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Ножницы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Карандаш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Линейка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Клей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Шпажка или зубочистка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Правила безопасности при работе с ножницами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Не оставляй ножницы в открытом виде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Не режь ножницами на ходу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Клади ножницы на стол так, чтобы он не свешивались  за край стола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Не балуйся с ножницами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Последовательность выполнения работы: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95440" indent="-5144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рем гофрированную бумагу основного цвета (каким будет цветом хризантема). Отмечаем 5 см. в ширину и 40 см. в длину.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7" name="Рисунок 3" descr="1.jpg"/>
          <p:cNvPicPr/>
          <p:nvPr/>
        </p:nvPicPr>
        <p:blipFill>
          <a:blip r:embed="rId1"/>
          <a:stretch/>
        </p:blipFill>
        <p:spPr>
          <a:xfrm>
            <a:off x="5284800" y="3786120"/>
            <a:ext cx="3541680" cy="26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Последовательность выполнения работы: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95440" indent="-5144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ртим линии. Проверяем правильно ли мы расположили гофру. Отрезаем полоску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0" name="Рисунок 4" descr="3.jpg"/>
          <p:cNvPicPr/>
          <p:nvPr/>
        </p:nvPicPr>
        <p:blipFill>
          <a:blip r:embed="rId1"/>
          <a:stretch/>
        </p:blipFill>
        <p:spPr>
          <a:xfrm>
            <a:off x="4853160" y="3638520"/>
            <a:ext cx="4297320" cy="322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4-06T15:38:00Z</dcterms:created>
  <dc:creator>Маша</dc:creator>
  <dc:description/>
  <dc:language>en-US</dc:language>
  <cp:lastModifiedBy> </cp:lastModifiedBy>
  <dcterms:modified xsi:type="dcterms:W3CDTF">2020-04-06T19:37:05Z</dcterms:modified>
  <cp:revision>25</cp:revision>
  <dc:subject/>
  <dc:title>Цветок «Хризантема» из гофрированной бумаги</dc:title>
</cp:coreProperties>
</file>