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808A-1F14-40CE-B7B3-CC33D0522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7206-E297-4D43-8B7A-983ED313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08FA-561A-4ADC-8ADA-47D9DDCAF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5B6E-5F5C-4F53-B3E7-A16C60362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5AEA-B56C-43B4-B273-18D9A82B2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BEC6-2D05-4C40-92BC-4D649700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0C59-5935-4A17-99D2-FF2FB583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31FA-1179-4951-B602-71172CD0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762D-6792-4F8B-B9C0-9999DEF6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3CC5-AA49-4ECF-8E85-A5A62839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DD05-9146-42EF-9681-1A3869BE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51D6-2EE5-4CF6-86B4-B8F08A4C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3605-268A-419E-ACB2-CC6DD2DB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E330-C7B6-4B22-A8FA-70C8626E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AF78-0EC4-4205-93CC-BBA059BD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6EB9-F701-478E-B191-395262ECE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9EF6-BF5E-40BD-B221-43E6CA206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5E3CE-4F6F-4DCA-B8DA-5312E042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83079-87E1-4E5A-8262-391E7892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EBB5E-A141-4692-BCDC-0D5AA526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1476C-9A43-4D1A-AEF5-23C28E92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FADA3-FDBD-4B60-8801-9866A142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2009-2865-48E9-9265-1F9C4ECB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FDD66-8A60-4FEF-AE4B-73D17BF9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383FE-73C9-45D9-B936-7624E067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DEB0C-69EA-4F4C-8023-34B79148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A689A-3F46-4A17-8C72-3D0ABE0C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AEAFB-37DF-4213-A346-9B3041DA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0873D-0271-4A05-87B0-32422D8A4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09B69-1509-4BAF-A2D6-79CE8153A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5A167-6D1A-4C77-BFBD-B7C39C2A6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4CF2E-02A2-4968-9FA8-C1D17B91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DFEA2-576C-47CF-A0D3-4C4479B0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2FBF-0C66-4D3E-9E75-710A4A63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01AAB-96BE-4508-A251-EE66F1BF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B9914-EAD1-4456-9705-C0AD0518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0ADCD-7770-460B-B3B5-DBF032A9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C455D-2FF4-4A6C-940B-670F33E8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97F2A-B1A1-44D5-B24F-CF6AB809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106C9-B0FA-457D-8904-39074DA9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C69EB-15B6-41C6-88A7-A6CCA16B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F3AAC-0204-4C90-A9F6-47B32DD51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82E54-EC68-4604-B3BB-E6643E884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46B8D-4A33-4B19-9887-2E2DD9981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C679-7334-46E9-AA65-099A665B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6E71A-FDE5-4993-9ACC-9F91B966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406A9-54B8-47AF-9C79-1B55AC65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7B291-BA53-4EE5-9EF9-CBAC025E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324C3-A751-4E05-8098-18AC1268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18D7E-32FD-469B-BDAA-493C3258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FA0DE-DA48-4BDC-9DA7-AA03179A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44F00-FD13-4624-9EC9-456AEAEA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5F26C-336B-4206-B3BA-A4E45D98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9CBC1-229D-4251-9360-7DCE4D2B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8DE3F-3BFD-45B6-82F0-851EDC2AA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1651-4EF1-4993-A611-F22EC335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71C07-113A-4505-928B-CE1C8CBA3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5F1A8-6DDE-44DA-ABEC-1DD9B29C7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B95A5-0457-4648-97A2-354A5307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BA47C-2BC7-453E-B190-8D8CB4F5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D1368-C714-4E4C-8408-E061512C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8A289-7D82-4207-AEA9-9EDD225A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57922-FC5E-47AE-8CD3-372F464B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53E98-E9A1-41F3-873E-72387CAE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3948C-84FE-4AC7-923B-EEAFFAC6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5190F-8605-4466-B447-15A96709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27AA-2E90-4792-9FCA-CB8C3FEB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ED0C2-9824-4FCC-BD46-141FF515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1C56B-1769-4F27-A5E7-704FDE78E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D5B77-B625-493E-AD80-8886CA384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727C2-89BC-40C4-BD93-FDDE9F93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D15B7-AAEB-45D5-98FD-870E5C8C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7B5D6-E987-4CE6-A9F2-A9A76151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C6EEC-C0B3-498B-A012-667CBDF9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534D4-91BB-46BE-AA0D-30E24654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476D0-2372-4B04-9503-78661BC4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C0E25-54B0-4DA9-9851-1161284D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0AD6-C1BA-46F6-925F-5D4727FD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346F1-B4E7-437F-8B86-889FA64F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EF980-97B0-4AB2-81A2-784D08FB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2728A-162B-41B9-9073-C6988F53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8A563-707B-48BC-9A11-8BE67431F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317C6-6B69-44E2-9A1B-7E79801A0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A286-9EE2-4B8E-B604-24FE683E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1D20-CCF4-449F-BD8D-CBDBE3C0551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6CC1-DEFB-4B98-9BCE-7052838AD33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F4E8-3EFA-43DA-9B9F-E0CCAE41A50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FBCC-4484-427D-8E01-C31D3AF9E43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743D-D0AC-453F-BB8E-6FB0ACF97E8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AB92-ADCF-4067-A7B0-50BFE600E7B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094D-EEA5-4CFB-A9E2-A3CC1939DAB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Цветок «Хризантема» из гофрированной бумаг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356000" y="5805360"/>
            <a:ext cx="4788000" cy="10526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Игнатьева Мария Андреевн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Педагог дополнительного образова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4" descr=""/>
          <p:cNvPicPr/>
          <p:nvPr/>
        </p:nvPicPr>
        <p:blipFill>
          <a:blip r:embed="rId1"/>
          <a:stretch/>
        </p:blipFill>
        <p:spPr>
          <a:xfrm>
            <a:off x="1468440" y="1981080"/>
            <a:ext cx="498168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равила безопасности при работе с ножницам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 оставляй ножницы в открытом вид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 режь ножницами на ходу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лади ножницы на стол так, чтобы он не свешивались  за край стол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 балуйся с ножница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следовательность выполнения работы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длину всей полосы отмечаем по 1 с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5" name="Рисунок 4" descr="5.jpg"/>
          <p:cNvPicPr/>
          <p:nvPr/>
        </p:nvPicPr>
        <p:blipFill>
          <a:blip r:embed="rId1"/>
          <a:stretch/>
        </p:blipFill>
        <p:spPr>
          <a:xfrm>
            <a:off x="5138640" y="3713040"/>
            <a:ext cx="379728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следовательность выполнения работы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резаем бахромой по отметкам. Не забывайте оставлять место и резать на одном уровне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8" name="Рисунок 3" descr="6.jpg"/>
          <p:cNvPicPr/>
          <p:nvPr/>
        </p:nvPicPr>
        <p:blipFill>
          <a:blip r:embed="rId1"/>
          <a:stretch/>
        </p:blipFill>
        <p:spPr>
          <a:xfrm>
            <a:off x="5718240" y="3279600"/>
            <a:ext cx="322416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6T15:38:00Z</dcterms:created>
  <dc:creator>Маша</dc:creator>
  <dc:description/>
  <dc:language>en-US</dc:language>
  <cp:lastModifiedBy> </cp:lastModifiedBy>
  <dcterms:modified xsi:type="dcterms:W3CDTF">2020-04-06T19:41:28Z</dcterms:modified>
  <cp:revision>21</cp:revision>
  <dc:subject/>
  <dc:title>Цветок «Хризантема» из гофрированной бумаги</dc:title>
</cp:coreProperties>
</file>