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C10-5767-4CD6-B20B-9D4030B7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4A7-2287-4B98-BB45-DEAAD397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E4B-8A1B-456C-A38A-5FC1E154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EF6-98FA-4492-9C51-1168C1C9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7A29-AE56-4657-B624-93EB0EA0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41A1-4F7F-4F60-8815-8B94C438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7813-5446-4855-BC68-6D56780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332A-3601-4735-AC58-EB797F4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3900-D9F0-42BE-A6EB-478AF56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14A5-C1BC-4CEE-BDC8-ADE56A8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9549-A3CB-400D-BFC9-4360BE9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996-E177-4B1F-8658-CD428E99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CB48-37DB-43CC-B763-C0BA5219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852-6622-44C4-ABF3-5E24653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9E52-7408-4181-9ED7-F19E308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A3FA-C48B-4AC7-B78F-FC060C0D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C96C-A2F8-4C8E-88F3-F109DFB5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1AF5-6785-485F-BD87-56ECFE95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A9BB-20C9-4DC7-B084-2E629CE6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2388-9F99-49E3-B6E0-7AE308E5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D627-C89D-4E54-8345-1BA49EA0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C9F1-E557-423C-A508-65DDB58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BF2-A612-4949-9AD7-971AEA5C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E0B0-8098-4476-9544-60BAA58C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12EB-DB37-4736-86B1-7633180D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D6F5-B6EB-4865-89F7-623FB233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EEEF-17BD-44A3-B8BE-E50FE9E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E286-68F7-4420-AF64-1EE206D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118F-638E-4E2E-98D0-2157DA3D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BB03-E017-48AD-960B-D11BF61A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858C-D15D-4AD1-B88F-A1914BC0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EE21-D24A-40CE-A6B5-B124244D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0DFBE-C75C-4078-9C4F-D92BE9F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C1F-EB1D-48FD-9F89-00B2F00A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FFB6-BAF5-4700-8AEE-D16BD24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0369-E955-4DF4-8430-5230CCF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DF5FB-2E32-4244-8F13-E8FDCE7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7269-B80C-488A-896F-B24433E9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5B7A-21CE-48A1-9934-963E041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1FD7-98A2-400D-9EBC-66BB325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2DB3-2C2D-4836-9F47-FE3D4DD4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316B-6AFA-43FF-86D7-74DE87AD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D315-181A-42BF-90DC-BDC92CB6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3187-CCBF-4B0C-A173-D1F934D8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CC4-5622-41C9-8879-B7839D9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F3265-FA20-4CD3-B49B-662857A4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1D3F-A7ED-4389-B1C5-61C1A465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9C08-EC7E-4BD1-AAAA-D72C228A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8C5C-A7BA-4742-8901-684D8147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1555-A44D-4701-83C9-ABD6F69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F9667-3399-46D4-A066-9B9FEF6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898DC-F24A-40B4-A875-EE35E21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0785-BAB9-4092-8F57-77981FE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2383-DC90-4C8B-9AAE-97B99D6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6104-CA40-4C75-B881-13276896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479-A82A-44B1-B9B8-40C8E567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3520-78C6-4D9E-9A61-23784413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0A73-9196-442D-8A92-D8F18BBD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A19D-BC99-4E46-827D-EE69B8EA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164A-EC56-47C9-BF85-E0FFE129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2623A-93B1-4A0F-86E1-58D4E1A3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5F63C-A66B-412B-9043-8C75501B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AE90-E55E-49F8-B6F0-06FC566C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797C-6B84-4D0D-886B-BFC84F6C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C19B-F4C3-4C63-BB03-279CEF7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6635-C1F7-4143-94F0-1EFC381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A37-FE8F-4465-A283-570726B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4DFA-3143-4933-8764-49CDD5ED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FA27-4E24-43EB-9252-3C352918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85C7-EE85-4FA0-AD21-2561D399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B0D2-0042-497F-B7EB-13A401CF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6FE48-2231-4297-A44E-92EEECC1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76FA-767C-4D08-B854-7668BF0F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2C2BA-BB26-4132-80BF-30AD4F9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F3D1-C7CA-49E4-9600-D07D6F2C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0DC9A-520D-4288-9029-A81AAE5F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F2D08-0A40-4392-8F7A-B397E28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F27-466C-493F-9E6A-5CAC502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A6A97-3761-452A-ACF7-81A45BF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0802-FFCF-4CA3-8459-BBA20D22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BC71-BE82-43B8-9C9A-15E551D8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2704-BD15-4612-90A0-53730440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608C-275D-4E37-BA82-38D398A2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F0B-7CDB-436D-82E1-027291F8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16EC-5D4F-4942-8168-67AA73F0A2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C192-1701-48E8-85CE-DC41FE7AD0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D076-C2A5-41D8-BB49-45C7522A8F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F8FB-6D76-4C4F-BCB1-AF8AC5A6FE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03C9-92F9-487D-90C7-77C10A8958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30E2-59C3-49FD-A060-F71ED8AA9E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1FA9-9789-4FE4-9181-4542E895EB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ступим к лепесткам. Берем полоску и прокручиваем 1 ра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Рисунок 4" descr="8.jpg"/>
          <p:cNvPicPr/>
          <p:nvPr/>
        </p:nvPicPr>
        <p:blipFill>
          <a:blip r:embed="rId1"/>
          <a:stretch/>
        </p:blipFill>
        <p:spPr>
          <a:xfrm>
            <a:off x="5430960" y="3492360"/>
            <a:ext cx="32860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кладываем пополам и растягиваем лепесто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3" descr="9.jpg"/>
          <p:cNvPicPr/>
          <p:nvPr/>
        </p:nvPicPr>
        <p:blipFill>
          <a:blip r:embed="rId1"/>
          <a:stretch/>
        </p:blipFill>
        <p:spPr>
          <a:xfrm>
            <a:off x="4853160" y="2487600"/>
            <a:ext cx="39733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19:44:51Z</dcterms:modified>
  <cp:revision>20</cp:revision>
  <dc:subject/>
  <dc:title>Цветок «Хризантема» из гофрированной бумаги</dc:title>
</cp:coreProperties>
</file>