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9AC-AF55-4FDC-9696-C8A99E88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0D6-E4E5-4400-93EC-F37C2EDD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9CC-D736-4FDE-B1A7-12EE16AC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C18-EECA-4EF8-BE16-8C9009FF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3386-6DE9-4E81-8DF1-5BE085AD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1325-CC01-46EC-BB55-9B35D49B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3E4A-A2AF-42ED-887A-D90C7231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D64C-CCC4-4393-A775-84CEB94D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DA0E-7921-442E-BD9D-51A646DB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27C0-B5FD-42E0-84F3-7C1CC9BF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009C-533F-4060-B700-F90E4074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777-A0D4-4A9B-920A-8E8E4B29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0FCE-525A-4B60-9C00-EBAB692F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CF5C-418A-4B08-91FE-764F9833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1DDB-C00E-46E5-9B2D-6875AA79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D7FF-A838-4022-A2AA-3D15F6F7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C6BB-ACBE-40B9-8638-2C3A31F0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CDAD-9AC6-4010-9F98-A71CA332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513A8-6399-48CC-8E0B-7569EAB5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970EA-12CB-4674-8721-31B514A4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D13C6-3169-4519-8E88-57D40988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5525A-0EAE-48B1-AD50-5DDD30F3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7E1-D9D4-4750-81C0-44E314E0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539AC-154F-4F1C-84AC-6DF1F078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CFAE9-C315-4DA2-82FC-6BD2DEA1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0236-30AA-4667-8608-584D9C3A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16E49-DC15-4165-A2EB-C51859E7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85D53-C05C-4B7E-B29E-B4261392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726C3-F1D2-4886-94D6-B99FE10B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8E3CA-9208-422C-A633-B32E3E4E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86709-7276-4274-B680-B60F0C91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F1E61-BEF9-4CC0-BA20-B0476F51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C519E-1AB0-4D2D-BC2D-9812A750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CD1-D3AD-449D-8AC7-1C3CF24F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C8C96-4C70-4E1A-A26D-1A29132A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4EA92-02F7-4E89-ADB9-92397DE8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D9431-EB1F-4BEA-A1F2-46DF8508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038F7-EBF3-4F25-AEFD-2726C4C7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AD5FC-6B89-4899-91E8-8ABD2A98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A45F5-C1E1-44F7-ACCB-B10F4D15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11E7-CC29-4F3E-BC1A-5A9BDD2E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E6A2A-439A-4DAB-A065-AD17C99C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8C5BC-35CE-4010-94B5-D1C51E78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F004C-CD75-4CBA-856B-05902062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53D6-42F5-452C-830D-FDA486BB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DA9CD-33FD-406C-8860-D6174F83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396BA-2CE8-4A0B-9569-378B5627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E1006-BD12-4951-9A31-00E93F6E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2CB77-C4EF-45B3-88B9-2B7259EB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7B2C4-DC70-4AE5-BD27-33C21EE5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6D22A-F4EE-46B3-8D58-B5DC4F9D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1E28F-2589-4413-A59B-DB13D226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EFBD5-936D-4B5A-926A-D30E5B09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FCD5E-9264-47B7-8CCB-39B49B3B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26145-227C-4FDD-A052-9634C707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F6B-4CC6-4C8E-92EC-902F8DFA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E8857-B70E-4219-8CFA-77CB2B33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F3F3E-C535-4C97-87C3-6E475ED2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423F3-9FF7-43AF-86C9-FF749D49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B095A-A8FA-4448-8CE5-3C76F1A8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00241-8D43-49C3-AB1B-2713AE05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E2EA7-DF23-4BC8-808B-6781C56E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8F39A-0E85-4B03-A9C6-7D6896E7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8429A-5A1E-4457-9B69-1B35C86A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EFC55-1DAA-4B79-BE41-B27DD63B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85C7F-E13A-4F03-829F-76AA5AB1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C6F-89E7-4DD5-B14A-91401398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72651-CB7F-4461-B7E6-497A9A54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06895-9EF9-4382-B0B9-5E907AC9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848AD-8ECD-4CBF-AFF9-47AC75BD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2B4AA-A571-49F0-800F-3757E4FF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2A66C-77F1-4B17-9C9A-07D8E333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F8185-C9F3-42A2-8103-1A78D29F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D06D8-E401-4086-A160-5F151E60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901CE-C31D-4460-A479-7AD85FE5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B3475-0C45-4C14-834E-4D41C7E7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D8E8C-D560-4EF6-B5A0-9A64FC2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1FD-338A-4B75-8834-A093973E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19172-D3CC-4BE1-986D-CB36C4F9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05B4D-529C-47EE-9D2E-D61610C9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DD0D1-9017-4DF2-885F-78ED7681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231B5-5290-49B5-B21B-77876F21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E2B62-7C34-40BA-B711-EDB9A5CE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5C1-AD2B-4F56-A9F0-8D3ED521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7D53-E28B-40A9-AFBB-DFCADE07605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7371-83B2-4D09-967C-0ABB5C6BD66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CC8E-7F5B-46F1-9FA9-ED465192969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CF89-D224-4CA6-A1CC-3B98AB8B1B5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7DCE-E1D5-4C8F-B673-DD97F689C01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D189-947C-45D2-8E96-E55EE88993B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66A6-0B5B-452B-9776-3C61946CA3A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веток «Хризантема» из гофрированной бумаг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6000" y="5805360"/>
            <a:ext cx="4788000" cy="1052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гнатьева Мария Андрее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1468440" y="1981080"/>
            <a:ext cx="49816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авила безопасной работы с кле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  работе с клеем пользуйся кисточкой, если это над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ри то количество клея, которое требуется для выполнения работы на данном этап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источку руки после работы хорошо вымой с мыл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ледовательность выполнения работ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носим клей на лепесток и приклеиваем к основани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3" descr="11.jpg"/>
          <p:cNvPicPr/>
          <p:nvPr/>
        </p:nvPicPr>
        <p:blipFill>
          <a:blip r:embed="rId1"/>
          <a:stretch/>
        </p:blipFill>
        <p:spPr>
          <a:xfrm>
            <a:off x="1255680" y="3279600"/>
            <a:ext cx="3565440" cy="322452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4" descr="12.jpg"/>
          <p:cNvPicPr/>
          <p:nvPr/>
        </p:nvPicPr>
        <p:blipFill>
          <a:blip r:embed="rId2"/>
          <a:stretch/>
        </p:blipFill>
        <p:spPr>
          <a:xfrm>
            <a:off x="5138640" y="3279600"/>
            <a:ext cx="365148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6T15:38:00Z</dcterms:created>
  <dc:creator>Маша</dc:creator>
  <dc:description/>
  <dc:language>en-US</dc:language>
  <cp:lastModifiedBy> </cp:lastModifiedBy>
  <dcterms:modified xsi:type="dcterms:W3CDTF">2020-04-06T19:48:56Z</dcterms:modified>
  <cp:revision>20</cp:revision>
  <dc:subject/>
  <dc:title>Цветок «Хризантема» из гофрированной бумаги</dc:title>
</cp:coreProperties>
</file>