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69F-628F-445F-80E5-B0ABFA2A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02D-0268-4866-8B29-35F7217A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DB0-D4E2-4349-99BB-BAF3678E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D62-2529-4A9A-AEDD-FCF27B13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7DFB-E40B-4D70-AF1A-27F4D711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6AAC-642C-41C6-AF04-3C7DA44E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482D-DF4C-4AAE-9EBC-30F9887F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BE5A-6446-4D8D-9510-0FCF475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8E43-778A-4229-9A5A-B5705DB9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BEDA-6DD9-485A-A138-3856069A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CDC6-58D7-41E7-82E3-8A5B27B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D95-8EAB-4B26-A3DE-9CCB4BFF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F10E-8C13-4989-B8D3-20A1325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C756-0325-44DB-BA03-5C3C341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1276-D87E-4A54-8A3F-DD1CF70F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DF8A-EEFD-47AD-86B6-BAE2136A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8777-9F22-48F7-A8D6-7CB79EFF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9FD8-5331-4B62-AFAB-41C3FD30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BA84-15E1-4A3F-B33E-088D4067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D7A40-A133-4B10-8D6E-3A9D8D72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D332-7080-494B-B282-703DF34A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FB17-12FF-4FEC-A887-9E276E6A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C93-6BB1-4D48-AEB3-8FCDEB34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02D9-83E6-492E-83F2-C692EA93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D95D-8E58-4366-ABD3-C830044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B302-830D-4FC7-9FD7-CBC455FB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AEC5-E895-4E1A-B904-683914E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A7D9-1F41-4A02-8611-5C2BDC95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2859-F33F-4705-ADF3-32B97A5C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78D9-F4B6-435D-9E65-96264526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24D3-16B5-4389-A09B-94685780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7481F-CFEF-4BEF-BDE2-57330470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59AB-8848-4199-A6BB-61FAE22D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011-C801-42BB-92CD-6CF2C627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048EE-AB56-4035-BF03-A97269D9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13C0-B23B-4E9E-AEA1-8F9DF12B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7498-0A93-4D62-916E-D3DB697D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68D6-0C64-4791-B5AC-BCFE742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C7B8-9DD7-471C-9C1C-1CB611F4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A3FB-A606-4BAA-AB45-8E97943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2E273-7C7C-4055-B2CF-E3BE0323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CFF0-D9C4-4D56-8425-D323BCB3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9B33-0A5D-40FA-8C2F-07FBCF91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C054-B972-40AC-A4D0-FB9DDF8B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3B6-382A-4E9C-A170-55EDB06C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E3E3E-6066-4FBE-9D24-D5E74B35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4E3A-84FD-4459-8EC3-E68F3335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EC36-A46D-4737-B05E-EEEF78E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49E6-A4CE-4941-8F94-759C804F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278A-0C3C-4445-9BFA-819199C5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6DE9C-2FBA-411D-9BA1-E2C0EA7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05BF-2DEA-465A-B9BA-6DAF681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17BF4-5DA3-4DDC-AE85-ABD35192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73D96-8EE4-46B4-9A53-69773E54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EF294-5DE3-4634-A97F-AFD06C9D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D87-3D77-4646-AA50-ECD70889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14A58-4833-4D9D-9FED-5065AB51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1899D-71EA-4194-B68F-3E5C9162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87A68-AF14-4412-9099-835A69DC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C1FA-7FE3-4D8C-BB61-C124C35C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BB605-3BDA-415E-871B-E45BA543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7B9F-FE03-4537-8CE0-94776B02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69D4D-489D-4A87-B9A6-AF9BB69E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66C1C-1E49-4B18-B6E0-2FCCAF3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22B0-6261-415F-ACA0-4379D184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E0BF4-741F-4C37-AEB3-175B9DC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3E8-EA65-427C-AF77-3D48AD9F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49EBD-D249-465A-A39F-FC8600C0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7FD44-A2E2-4C43-A1B6-0357AEF0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3ECCA-4A98-45FA-9AA8-1DF08D69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1292C-0411-4D6F-AA65-D71597DC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5FD3B-F896-47B3-ADAE-464606D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C4CB5-B33E-4C5F-A44B-BB6AD219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E58A8-5179-45DB-8BDA-078B7B92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C0FE-75BE-48F2-8747-6F44A541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E0EC1-167F-4696-A2BE-5A0F791E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900D0-744C-4C15-84E6-147BF82A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734-AF23-40D3-ACD1-7400D23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73A18-18EC-412F-B249-6B461B32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DA0FB-2127-473A-B4D6-5ACBF9F1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12D1B-E820-44C7-A040-90161141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A9E66-B2DD-41C4-9D18-F97AAB21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FDCD1-CC08-4B4E-ACC6-56A1725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8B0-35A5-4946-8EFE-CAF3863B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DB72-1734-457B-961C-ABBA2E9789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AE40-05D1-4D3B-B57F-AF608B3106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71A5-E4A3-4671-A02D-B5C4A80FBF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0979-92BB-41A7-BE5A-A0A1BB05F0E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17B3-33E8-447C-9F70-59E1FB152E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C740-F12B-4838-855A-14376B3E5B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7EF-70E5-4F83-BFCF-0C766FEED4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468440" y="1981080"/>
            <a:ext cx="4981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мин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videoplayback.mp4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7690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19:51:35Z</dcterms:modified>
  <cp:revision>19</cp:revision>
  <dc:subject/>
  <dc:title>Цветок «Хризантема» из гофрированной бумаги</dc:title>
</cp:coreProperties>
</file>