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A4A-8CC5-408F-812C-D5F3DBD9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830-EF9D-4A2D-B2DA-17E92188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421-B9CF-48CA-8B4C-DE0578AF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D03-8EF0-4BE8-8D8A-D49E93C8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7939-6DAF-4134-8E5D-0BDE42DF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A842-794E-4F5F-9DCA-2563BBB8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4F00-EF1B-42F0-AA7C-F9128F14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2950-85C4-403D-AF2B-DA3BD060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E629-CB5A-479A-A6E0-070C06F0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BBAE-7016-4A17-B7ED-F29A151C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041C-D18B-4FCE-86F7-325A8B2A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944-16F6-4628-9B33-0305267A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70D1-B759-4E90-937E-8962B161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7D0C-2A82-4495-A4F2-876B0A37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9BA6-4BC8-46FF-9F14-C69CDD7A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3392-03A5-47C3-80CD-336EC2BE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848E-1E00-4620-B81C-D9B7B6F2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2BA86-527B-4575-86F2-A4D101EC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AB7D-AEC3-46C2-979E-740D9B82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6AD2C-F93F-4B70-942A-54A01520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0945A-C4C1-4A57-B0C6-8DBBA81E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2238D-1C07-4346-B7C7-3A195DAF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8573-1C34-4DA3-9098-D020E0B9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75086-0801-4AFE-ADD9-CE694C3B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2E739-A6B8-4665-B022-EB2E7501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D234-565A-42A0-84FC-4DF4E1A8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39967-E91A-4A76-9D71-5B0E0516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66739-FD86-462F-BE8A-55FCE124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58260-5500-45A7-92BD-5A29933C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6C729-76F7-4514-A905-9C3F835B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0C7F6-FD1B-48E1-B1EA-5D81E3B2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55239-4021-4378-BC1A-32B181E7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086F0-4206-4BAE-9AE7-A1857BDD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7E2-87AE-4579-B800-EA7E20DC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5F5D7-1DAB-4053-AE0A-4EFE26CF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72B8D-8830-4166-930B-8AC9316C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20F20-0ED3-408A-AAB3-78D9AD49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0B45D-5D9D-40B1-93FC-C824D3B1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C51DD-552C-4929-8A30-E7AEDEE5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72C92-9DF0-42DA-8271-2CAEB838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3CFA4-C070-453D-852C-866B5AD0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08ED2-4E00-4359-AC32-A6F78964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B1BA5-B803-46E8-AF7B-E116353E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9EC78-8C4D-4BEA-8F0E-55B42563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9EE5-CB32-4CA7-8F63-4D4E6111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772F8-0E4A-4207-8792-7D5821C9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28ACD-E5CF-4684-913D-1AF03A10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54A06-369E-4E30-9F06-573812CD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E7C47-8C99-49EC-ADFD-7304F676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46C28-9DB5-4EE6-A833-295738DE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F6D38-B63F-4092-89A2-A024F37A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E9B35-847A-4ACF-9CDA-9536F520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33C21-1783-4AE7-B2DE-C4F97240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3CF14-47B6-422C-BB6F-6385DEE8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59967-DCEB-4142-A940-6CA38CC6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912-AB93-41B8-BBD0-BE3559C3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79422-151D-4E65-A5B0-5823B4F4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C0AAB-ABA5-4C39-83F4-E074893C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C706B-6E36-47BF-B73B-74D97C04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0C2AD-198F-4531-A842-27EDD10C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40AC7-EC5D-4F75-9CE2-F21A7997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A494C-C968-40E4-A37F-E4AF7F40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F84CA-AE1E-4FB4-AB2C-B2DD04C5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4B60F-7A73-4BE6-9403-9E9B54FB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B4FAD-0243-46CF-B941-FEED8471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E387D-02AC-4A1E-8749-B9EC458C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A92-14AB-4D0C-9B52-FFE84533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47563-7484-43D9-AA4A-210CD8D1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2D618-6518-4096-9F79-C1DB8117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ECF18-A406-4AB8-A9E9-9A587030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3C862-DC6C-44B5-884B-B8E5E8FA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FF1D7-1666-4AA6-8C29-C3A3772F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BEC95-917E-4FFB-83EF-E2F965A8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9B127-B2E8-44D6-8E17-FEBCC4EC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49152-4994-4563-B508-54CFF3D7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9B890-E3F4-424A-BA90-3AE2F06C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661A5-8730-483F-ABCD-453AC3B4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DAE7-9562-44BF-A81B-34544F56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3DDBF-D8A5-4DFF-909A-FC9FE03E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53DE5-64C4-4344-B838-8255A96B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9E104-3574-415E-AEB7-D1FE3531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896CD-4464-49F7-938B-DA3C7A29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2F4A8-7760-42AB-B624-77B43B8D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983B-781A-40CD-A1B7-C39EF1CF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06EA-E4A0-44ED-B272-F11F06F68EC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CB6D-CBE0-4C0D-B4BF-9BE8A94144F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A7B3-BEB7-4D3F-8E4A-268C2DF7CFA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D9F5-CDD5-4F0E-BBDD-8A8209181DD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B7C7-2CE7-430E-B2E7-9A890F70857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D92C-C64C-4022-8DF2-06ABD523BBA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8911-AEE2-44E0-883B-CEE47BB8302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веток «Хризантема» из гофрированной бумаг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356000" y="5805360"/>
            <a:ext cx="4788000" cy="1052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гнатьева Мария Андрее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едагог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1468440" y="1981080"/>
            <a:ext cx="49816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авила безопасной работы с клее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 работе с клеем пользуйся кисточкой, если это над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ери то количество клея, которое требуется для выполнения работы на данном этап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источку руки после работы хорошо вымой с мыло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т, что у нас получает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Рисунок 3" descr="13.jpg"/>
          <p:cNvPicPr/>
          <p:nvPr/>
        </p:nvPicPr>
        <p:blipFill>
          <a:blip r:embed="rId1"/>
          <a:stretch/>
        </p:blipFill>
        <p:spPr>
          <a:xfrm>
            <a:off x="5072040" y="3303720"/>
            <a:ext cx="3645000" cy="32432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1980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ледовательность выполнения работ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ледовательность выполнения работ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ступаем к сборке цветка. Берем шпажку. Наносим клей на начало полосы и скручивае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Рисунок 3" descr="14.jpg"/>
          <p:cNvPicPr/>
          <p:nvPr/>
        </p:nvPicPr>
        <p:blipFill>
          <a:blip r:embed="rId1"/>
          <a:stretch/>
        </p:blipFill>
        <p:spPr>
          <a:xfrm>
            <a:off x="5072040" y="3206880"/>
            <a:ext cx="3035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6T15:38:00Z</dcterms:created>
  <dc:creator>Маша</dc:creator>
  <dc:description/>
  <dc:language>en-US</dc:language>
  <cp:lastModifiedBy> </cp:lastModifiedBy>
  <dcterms:modified xsi:type="dcterms:W3CDTF">2020-04-06T19:58:26Z</dcterms:modified>
  <cp:revision>23</cp:revision>
  <dc:subject/>
  <dc:title>Цветок «Хризантема» из гофрированной бумаги</dc:title>
</cp:coreProperties>
</file>