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6016-5376-46B1-8EA5-F6DD8BB5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1332-C038-400C-9936-73DDF983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455E-F52B-47FD-82B8-80C8E3BA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BDE-7E03-4B9A-BB4E-B8C8A5ED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834A-8EB7-4C6E-9346-6E5AD2C7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10A0-7351-41A5-8F1E-3685AB27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F21D-3508-4A77-9F27-19DCC446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D9B9-746C-4301-BAD7-A1FCFB8F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0A08-611E-4F09-91A8-09FAACA5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C8C5-C046-44F2-B161-16ED61EB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8864-7D1A-4D5E-8112-D6266B84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8F8B-4875-445B-B111-645D752A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C01E-BF8F-4169-BA58-BAD6F067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504D-8A88-4F43-B301-C493E425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DE1E-FC62-4277-B08D-5482C182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6CEF-C0CC-4A8F-97A9-5CC0C789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4C2A-D46B-4E80-8E9D-4C2ADBE7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4BB97-454E-4A87-B2A9-77B22385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DF7CD-5B02-489C-AC19-583B84E4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2BA51-E8B0-4539-BCEC-906816B7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FAC52-FB41-4B4D-9130-3980CBF1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4AA64-E6A7-43AD-A54A-E2FED54B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A94A-C40D-4F19-80B3-C13180C6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DC063-7C75-4686-8831-8180ABD6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7B99E-C7BA-4EBF-ADE1-882C2C02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2AF9C-2848-4CFE-812E-2C97AE33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E1EE4-26FA-4AB1-9B5F-B116DA1B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6325D-409C-45C8-B576-95C6FC55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CEF40-D6AA-4626-9320-49785FBD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DA7D1-59AE-451C-817B-8800105A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4A5CA-DDC0-463A-9504-79911B11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314B4-96BE-4AD2-8CA8-48B1BB52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89279-516D-4E2D-A906-DE9E9FCB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6702-BEFF-4D7F-95A0-015209D2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ACE34-5985-4F43-9B68-97DB59DA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D8218-DABF-4956-B89D-32435BA9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C1C25-BD44-46C2-AD1D-135A7E25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2DA5B-7895-4C93-8B36-B7E73C2A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24A27-9B80-4D8D-8E6E-F4320E70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703D1-5FD4-4CCA-A6F0-C28B9B60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CDA80-4373-4099-8694-D8BC77F0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DD102-93AF-42EC-A3F1-4B39043D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79667-1D45-4886-85E4-00A6EFDA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D6798-DE8E-4230-9AA8-E4755C6D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DDA3-F14D-439D-BE1A-97E67E55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72C78-7128-4E1D-8AF2-6B808246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1EE09-0390-4CAE-9357-988E36E3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BCC7B-BF3D-479E-B556-72B0B0FC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3F196-5C1B-4462-A8AA-4C68E2D5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DCC56-C724-4DED-AF18-F939F434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39890-82EC-4B2A-9164-B3ED6255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7DDFA-395B-4569-A328-926B8AB9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72473-61A3-48E9-BA5B-B5896F8A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E784B-616E-4AC6-AB4D-28504223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576C6-CC30-41D3-90A5-9AA4A6FF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207-6ADE-413E-92D3-22C766F7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149EC-C12A-4940-8738-EC097985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B8624-44EE-4007-9F05-159361FA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5580E-1371-43C6-B968-B089A052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85E09-D006-431E-B886-750A7D49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96CCB-692E-4AA6-B8C6-40F9ECBF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28610-EF95-4B06-963C-4FCB3333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343F7-DA13-4E24-BE1B-686E04A8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78490-958D-4317-966A-6B9C2288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54B67-098C-4BF5-AADC-F8E1427F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E9523-3E9A-4E64-B89F-54BF3A75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FEAB-4291-4759-9958-58A8E773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C0122-C016-47E6-B40C-97E920DE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94A3F-52E5-4479-ADE8-F532E0B5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43DD7-B95F-49E8-AF9A-5B2C673A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8F68A-5941-4218-95E3-DB95CF38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4CA47-0C3C-44E0-B44E-203D4887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DD8E7-4195-4384-9635-3D99C5E1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8A3D0-3BBF-4782-B7DA-6D76B381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9B195-0E0D-482B-BB73-49E4DFF6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3CAE8-B766-4CF8-8707-400673E8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02189-03DC-4096-8AF5-3028FB29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41C5-16DC-41ED-9276-052C1779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FB64A-0B9B-4AA8-BDB6-B0AC43D2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D0687-3429-4778-A0A0-BC79A4D9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D95A0-802B-4A7B-B0A5-0485F89C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781EF-9CC5-4783-889C-5EC7B0CE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C424F-DB22-40DD-B4AD-AB0231EC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2127-7E60-407E-AD25-64AD0781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34B8-81CB-4BA5-822E-8A1D450E195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3CB7-488F-4DD5-A047-E278D9C037A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15BC-B026-4A2A-B5D2-062673D1053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A6B4-823F-4023-9486-EE3CCE3FC42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1D52-1EB7-4550-B699-8890DBF103C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E33F-30FF-4525-AB10-6F35F4A081C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C9AA-8CE9-4E2D-BF5E-BBDBD8C0F89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веток «Хризантема» из гофрированной бумаг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356000" y="5805360"/>
            <a:ext cx="4788000" cy="1052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Игнатьева Мария Андрее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едагог дополнительного образов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1689120" y="1981080"/>
            <a:ext cx="476100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следовательность выполнения работы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должаем склеивать пока не закончится полоса. Но, смотри, много клея не наноси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Рисунок 3" descr="15.jpg"/>
          <p:cNvPicPr/>
          <p:nvPr/>
        </p:nvPicPr>
        <p:blipFill>
          <a:blip r:embed="rId1"/>
          <a:stretch/>
        </p:blipFill>
        <p:spPr>
          <a:xfrm>
            <a:off x="5138640" y="2846520"/>
            <a:ext cx="363384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следовательность выполнения работы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т, что у нас получается. По кругу отгибаем лепестки, но не трогаем серединк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Рисунок 3" descr="16.jpg"/>
          <p:cNvPicPr/>
          <p:nvPr/>
        </p:nvPicPr>
        <p:blipFill>
          <a:blip r:embed="rId1"/>
          <a:stretch/>
        </p:blipFill>
        <p:spPr>
          <a:xfrm>
            <a:off x="5626080" y="3060720"/>
            <a:ext cx="320040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6T15:38:00Z</dcterms:created>
  <dc:creator>Маша</dc:creator>
  <dc:description/>
  <dc:language>en-US</dc:language>
  <cp:lastModifiedBy> </cp:lastModifiedBy>
  <dcterms:modified xsi:type="dcterms:W3CDTF">2020-04-06T20:03:24Z</dcterms:modified>
  <cp:revision>22</cp:revision>
  <dc:subject/>
  <dc:title>Цветок «Хризантема» из гофрированной бумаги</dc:title>
</cp:coreProperties>
</file>