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067-12E0-4A68-9F32-D3BF53FD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1A7-9EF4-4A39-B591-80CD831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08E-8709-411A-B985-CADBA33A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2D7-0685-470E-BCBD-EA992083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E89-DB37-4770-9382-F427770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F8CA-CCDF-4FEA-822D-81F7B01D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0028-C339-4565-AB95-8E78A1CA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394-5EE7-4256-A346-C2A80400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1F44-6FCB-4C7C-B489-336B5877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07CF-2ADA-46BE-8AFD-627039AB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13DF-8E33-4275-9813-8E57A64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15A-9858-4F0B-9C92-43D3C51C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B150-B96C-446F-B442-E54EF56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1CB1-D0D8-4C85-9EDC-9CEAAA0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C3DA-5095-4B88-9A1D-66A7FAA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52C4-14C3-428B-A84C-840011E1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0F10-EB8F-4451-85FC-543243C2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7F56-700B-4546-BE06-0FEEF959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8A61-2DEC-44B2-8EB8-7E3E4A6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6982-99F9-4499-B5B2-06A6E15B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C92C-2558-458D-B627-BFF1B99E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5385-7C6E-4EE0-9B52-353DD3F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0BE-237D-40DE-9BDC-7470A67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C799-CD67-42A8-8489-8115B43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A602-0C22-40D0-8C11-556CA3C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74BC-CED7-490B-B45B-7462EAA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4917-BF83-4D43-B363-C7B7B991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BC6D-C54F-4421-8B53-309325EE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F008-B637-40A0-951D-55E1EDA5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BF8C-2518-433A-8601-3DF82D35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8D5E-0038-4320-B310-22D89A71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5C7D-5361-4E65-AA49-5E4E915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F83D-3E62-45DD-9FDD-A85D0984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332-D6C4-4F37-BE14-F4217B54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7AD0-9862-4E14-95BA-0BB52059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C11E-CC1A-4E03-A82C-7085375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A49E-4226-490F-B9CF-070B128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432F-F082-483C-B941-18A9127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4DE6-916E-480D-8432-AFB8DB4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4202-E955-429B-802E-7E5ED34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E45CB-C5FF-4D29-80A9-E1A45AC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EFB2-4653-4F13-B37C-377E64F1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BCEEE-2BB6-4522-A629-CE25AA54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95CF7-531D-41A6-9C79-82418678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685-075D-441D-87A1-7DC0900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9BC4-C8D4-4926-AB6A-8BCB632D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FF50-EE68-4FFD-B18F-401E86B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517B-80B0-4C01-93E5-AC52DA46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7681-7DA7-4B8F-A8CC-C3F4D83F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2A8B-81A2-4F4C-89B3-4188A43D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49E7-F93A-45D0-B0C7-0830705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A936-BB07-450D-AFA7-819C309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62F5-1638-42E5-8CA3-10325F03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8CC0-2E78-469C-A40C-7819E0CE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503C9-E8A9-4C1A-B528-D63BD88B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FC7-E3D1-4D4A-B63C-E0344AC0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9661-A132-45B8-912F-63AFCC6B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95FA-C30D-4213-919F-9FF8051B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470A-7417-4482-B6E6-44519CFD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FE41-1347-46AB-8859-19AC35EC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CC7C-E3DB-4076-A372-3ED6E31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8E68E-453F-44F3-9B1B-77DD61A8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12366-0D2E-49CB-AFC4-7DA0AEB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D257-426E-4A39-86C2-06373E0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238F3-42E6-4064-8FDA-8BE9DC4B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D7DD7-3E44-4BD1-8CAB-E3AC44A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B36-647F-40AA-80EA-161D0D9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9942-7450-4C7E-95A4-81A2B4CC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B36D-E62D-4A62-99E2-520F7703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450A-916B-4C42-BFD0-92037777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22BF-786F-42BC-A136-7840C3FC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B8FC5-D61E-4A6C-810D-A45D9DCB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5C9F-2523-4640-87E9-3ED2341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9C36-A03F-4692-A9D6-060406F5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D0554-419E-45BC-9F1F-A4D2932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8E01-9F14-4484-B3F1-AEDA96C3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387F4-AE4C-4A92-8515-08C76E0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479-05A0-4F51-840C-102349E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7E993-9EC1-4038-B050-8210358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3B94-94D7-4CFA-AF2F-6B353D64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CFE65-2092-4699-A09C-C43C2965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7CAA-EA81-4CEC-AC53-22B8F3D4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2CC7-55E6-43D6-9531-E8C6D8B2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085-5699-4551-A9DB-7606C1F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FFB-8B69-40B3-9470-BBACB33B62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D30-CC7E-468F-8F6D-3E74AC7F6E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5E40-6118-45F3-8BCE-96D553339A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84E-4BFA-470D-84BB-C23C748B7D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280-86D9-4F0C-ABE7-3155CA46C4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22F0-B6EC-4489-B93A-FF2B790BE1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FA25-6E42-4DB5-9E39-A0FDAFA9EA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689120" y="2103480"/>
            <a:ext cx="47610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ступим к лепесткам. Вырезаем прямоугольник 5х7 см.(Следи за расположением гофры). Складываем пополам и разреза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Рисунок 3" descr="17.jpg"/>
          <p:cNvPicPr/>
          <p:nvPr/>
        </p:nvPicPr>
        <p:blipFill>
          <a:blip r:embed="rId1"/>
          <a:stretch/>
        </p:blipFill>
        <p:spPr>
          <a:xfrm>
            <a:off x="1755720" y="3840120"/>
            <a:ext cx="3468600" cy="30243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18.jpg"/>
          <p:cNvPicPr/>
          <p:nvPr/>
        </p:nvPicPr>
        <p:blipFill>
          <a:blip r:embed="rId2"/>
          <a:stretch/>
        </p:blipFill>
        <p:spPr>
          <a:xfrm>
            <a:off x="5645160" y="3833640"/>
            <a:ext cx="293832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20:08:37Z</dcterms:modified>
  <cp:revision>21</cp:revision>
  <dc:subject/>
  <dc:title>Цветок «Хризантема» из гофрированной бумаги</dc:title>
</cp:coreProperties>
</file>