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11B-8519-4450-B742-39D5E9C4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665-95C2-4B6A-AEEB-02DF89B7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C2E-7326-41E5-9F2D-17B2BE65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E69-20CD-4966-A66C-F3AE1A57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E8DD-36DF-4C57-BD30-6203277E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8BF-B460-406D-9B5D-1ED44F89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5345-53D5-4A17-9177-063FC25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5546-2CF7-47D8-9EDC-204D9678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8D8-D5CA-4D9C-A2D2-168F939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22C2-A960-41BF-8126-CA386B1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01D-1028-444D-8A10-5373B14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20E-1D2A-48A8-AFF4-1EC40B2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463-452D-4A61-A032-61EBF4A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230-475B-4ECD-A728-D0917C8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6B27-616A-42BE-8014-7527948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348F-7940-46D9-8AF2-E7BD1BE3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CE84-FC7D-4DEF-9944-A0DF14BE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789B-AB24-4865-A219-1B9E4DD0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00DC-05AB-46E7-BE20-D449C10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F8A7-F710-46F4-96AC-3008125B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6285-C5FE-42CA-A0DB-CA0F6A33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59E1-288D-4853-82DC-5091345A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121-882E-4F5F-8EBD-EFB4A8CF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ED4F-F420-4003-A027-007BDA94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B240-D943-4091-866F-074F7D9C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6DCA-FF83-4F57-BDAB-AD32AC6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4AC7-9EF6-47C4-ADD1-DE12CAA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53F3-4462-4438-9F33-52BEC42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E33D-A461-4021-8429-833799A5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8DEB-DEC9-4ED9-AF35-AFD54148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927E-D093-4769-B783-3EE6F3FD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73D7-3047-48EA-862B-F62C43D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FFC7-CCCF-404A-99C5-328B422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F24-3493-44E5-B71D-37EF67C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AA25-FF7B-43D3-84EF-868AA850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059A-49B5-4CD3-843B-DA83BB14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1900-FEB5-47C3-B1FF-852472DB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5251-10A7-4A17-9555-0424D7A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9CFB-CA2D-49C0-ACF9-E1A3656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82B3-F374-4BF0-9D3B-160B6A3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63E9-39CC-455F-871F-B8B4342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4B94-65A9-485F-A2B1-6CAC6DDB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76EE-2DCC-40E3-9F72-A4296D99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629A1-6C94-4A63-B1EB-FC4E4679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1B2-4F52-41F8-9EB6-B9D6ECA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EB44A-9645-494F-9C84-14C5C868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3E02A-ED7E-4C46-8AD0-C782645C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D594-6E78-41C9-B502-06B4C5F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305FF-AE2C-40C4-AC1E-A7F7756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BA4D-1F05-46ED-AFEE-8F5D6CC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DC34-9079-46CC-85AB-3861F04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DA63-7C2D-4F1B-B2F7-2ED2419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7111-DBC4-4082-99C8-FDC8065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35B9-4127-4623-8D4A-A2E3A4E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5443-7B88-426B-9111-696A5360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B6F-6212-44B5-A4CF-BA67885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8C80-4C5F-41AE-B9E2-3A192A01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7D1B-1769-4D15-833F-7FD35A96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C10D-1A6C-442A-8357-D8077C73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43D2-A1E1-45C0-9EA4-53905C0F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46D1-A9DA-435D-8EE6-DAC6F50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C03D-4A18-4BC7-AC71-3BF9A40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D96C9-59CB-4905-8D80-2B2D636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488D-1F2D-461E-836E-11DD83C5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A5834-BDC2-4A9F-8143-4190965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C613-AF6D-4D23-ABA6-B50E639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806-68B1-4A07-BAE9-B00847C5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BF86-6461-42A1-8C3C-B58B7D2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1D72-63E8-4F61-8E10-3FEA8E43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E078-D03F-48D0-A276-8A29D3F6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CD42-7066-4407-A465-B3546AAA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DD780-C51C-44CB-9D7D-C57136B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8241-5C18-4BA4-9E9A-D2142623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895D-5A99-45D8-BEB4-F9667D6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27916-4EC5-4E81-9C85-1D5D52EA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4AAC-2313-4EB1-8A78-95EE724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F207F-ED44-41B8-9B15-AAA3EE5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E83-80C2-4C66-A261-2A96970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4B54-E456-4365-AC95-7B8D536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BADF-5FD9-4007-821C-9CC4086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9BFC-EEC2-40F0-B917-F4623CC3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E44A-A50F-472D-B0CA-8F57A33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395F-4EDA-4A9B-A094-797AAE3F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65E-A482-409E-B91E-B3BDE63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882-E403-4743-B7A0-D176059557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8F5-A029-420F-A029-2E8E463365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6FCE-C9BC-48B1-9D5D-3536F3AAEF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A2A7-F30B-4D8D-9E1A-E26972B3A5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7D6A-57DB-4DB1-893C-CA88B26511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696-4B44-47C0-B140-1F451B88AD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D52-BDFB-42DB-AFA1-11B571859A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2048040" y="1981080"/>
            <a:ext cx="44020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 прямоугольник и складываем, чтобы получилось 3 равных ча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3" descr="19.jpg"/>
          <p:cNvPicPr/>
          <p:nvPr/>
        </p:nvPicPr>
        <p:blipFill>
          <a:blip r:embed="rId1"/>
          <a:stretch/>
        </p:blipFill>
        <p:spPr>
          <a:xfrm>
            <a:off x="1109520" y="3925800"/>
            <a:ext cx="4187880" cy="29386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20.jpg"/>
          <p:cNvPicPr/>
          <p:nvPr/>
        </p:nvPicPr>
        <p:blipFill>
          <a:blip r:embed="rId2"/>
          <a:stretch/>
        </p:blipFill>
        <p:spPr>
          <a:xfrm>
            <a:off x="5864400" y="4187880"/>
            <a:ext cx="2908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20:13:57Z</dcterms:modified>
  <cp:revision>20</cp:revision>
  <dc:subject/>
  <dc:title>Цветок «Хризантема» из гофрированной бумаги</dc:title>
</cp:coreProperties>
</file>