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451-33F4-4CEE-8412-A1E48A75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3A9-9444-400B-B97B-4AA3945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8B7-786B-42A0-98A9-FEC4188C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D2E-B89B-441D-9D62-2E73AE93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0F8-62A0-4DC0-8CB7-944E78A8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E458-BC62-40C0-82CD-BCB5B59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1306-AF13-4EBD-9436-928D3BB9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631-356F-4795-96F2-7F4711D1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BFFE-9771-436D-8335-E957584E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79C-4F11-422C-8DFD-A5261A5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E9A4-03AF-4B65-A282-86C159D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303-929E-4C99-8F76-17D208BB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9207-BB68-4F40-B652-FE5E617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657-4BE4-41BC-80B2-EA29C9E0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173-01B8-4C8D-B111-5911DACD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B482-1AEA-4928-9122-D05A626D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0F2-16AE-4845-9073-BC76A1E1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5691-E4AD-4061-888C-FC412A31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66A7-7E4F-4C94-A38D-58B9086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98A7-F2FD-489E-B024-47A912F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6AB8-D1A4-4B9E-9060-83189F16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1E82-BD1B-4629-A664-9B777568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E8A-400F-4E8A-97D2-DE443CC4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EC33-AF08-44A0-8867-F58C920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BFE7-E0F7-4990-A475-B4683D6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3A93-5C45-485B-8587-E1E4170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D00B-BC48-484F-9CEE-A216410C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FE05-7B81-41D2-9C50-1171147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15A5-BF43-44B7-9DC7-26720EBC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BAAF-9330-409C-9FEB-317B34EB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C414-F195-4B7D-B388-0AA1FA4D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A421-F053-433B-BDC4-4A4CC0C6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3BE4-677F-45BB-BA20-EC3F26BF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D95-DD39-406E-AC09-88EAA520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C98A-5C2D-429E-99BB-78477FD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970A-A8D5-48E3-8A47-4C02365B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88FA-4211-43A2-9B7D-D62EE356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1C59-E139-4116-9635-85C6E14D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E4213-788A-4694-9744-2757AFD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818B-1C4B-4080-BCBE-08CE79A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A60D-341D-446D-B605-CECAC79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5377-98F0-4F47-AA75-43BC9E60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22D1-A7CE-434A-83CA-0CEC5961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68A2-5FDC-4309-B2F6-43184669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64B-A97F-48BD-BF78-18CD28E0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4F6B-70BD-4F6E-BCED-8511D0C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A2D4-799C-448D-9B22-7918919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3ED7-CFC9-45FD-B6D1-7542D5F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DB1A-F64E-433E-9DB0-7C027CA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62FF1-32C5-4616-BFF3-C7104B6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4EA2-54FB-4EFD-B844-2EE7942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B6B8-99AA-40C4-8AF5-9500766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0900-9B38-4165-831B-AF03576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5E9C-82EF-475B-A6A1-ED5323AE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09E2-627D-41A9-9DA4-740B223C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1FA-19AE-4E0E-9A1E-792DD4E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5447-C067-49F2-B661-CB3C1617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23C01-B2E8-48AD-9A86-6DE8183B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B8F9-916F-4E51-8D5F-E8BFA517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BBCD-C56B-4487-BBCA-47282CDF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5AA5-7B9F-470D-B540-1B8B1875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3C58-6DB1-44DE-B77D-5F30B678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918F-FCD7-46CB-ACC1-390B6B52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46C6-5CD7-4150-87F6-8BAAF8C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7931-7803-432F-B698-4ABA9BE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006BD-888E-4278-AB31-CF3F35E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96F-B099-4439-ADBF-73E24CB0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025B-8D87-45DE-A3F3-E079C2CB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FB06A-CF8D-4C9D-A4DA-341D9CEB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58A2D-435C-426D-8C75-5A912CAD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38692-D277-4EBB-A11D-4D70C09B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A75A-010C-4234-9C94-27F8E73F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1F6E-B2EE-4821-8E49-957CC63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33532-DB46-44D4-A969-9C5A89F1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4844C-3EF4-49E7-83B0-4E20E60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A45E-B436-4C8D-A4D6-784B122F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4B816-C888-4632-AAF9-B671003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A1F-8990-4EF9-BB32-1A149D0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8089-1164-44E2-9EEB-BB48C87F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8B21E-DFAE-4570-A5F9-C2505081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7FC4-6B75-48F0-9878-55CA4CC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30F5-ECAB-4912-B0A4-D808013A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F338-80E5-48AE-8E7C-C98DFD7A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085-CD07-472D-BBF3-E869B53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7B6-3C4C-4E33-A78C-9103643C70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2E3C-E852-43CF-9D36-71AC45811A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370-5035-4CEF-B0FB-59A7CE9B90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3CA-E0EB-483C-A913-33ECD8C853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31ED-4768-4A7A-A193-02CC7E3199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573-CE06-4491-A63B-F8D76493426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4BBB-4731-425C-A852-8F623278F5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основания срезаем уголок. А верх лепестка заостряем. Вот такие лепестки у нас получаются. Растягиваем 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Рисунок 3" descr="21.jpg"/>
          <p:cNvPicPr/>
          <p:nvPr/>
        </p:nvPicPr>
        <p:blipFill>
          <a:blip r:embed="rId1"/>
          <a:stretch/>
        </p:blipFill>
        <p:spPr>
          <a:xfrm>
            <a:off x="749160" y="4400640"/>
            <a:ext cx="2822760" cy="24638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22.jpg"/>
          <p:cNvPicPr/>
          <p:nvPr/>
        </p:nvPicPr>
        <p:blipFill>
          <a:blip r:embed="rId2"/>
          <a:stretch/>
        </p:blipFill>
        <p:spPr>
          <a:xfrm>
            <a:off x="6400800" y="4187880"/>
            <a:ext cx="2749680" cy="26766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23.jpg"/>
          <p:cNvPicPr/>
          <p:nvPr/>
        </p:nvPicPr>
        <p:blipFill>
          <a:blip r:embed="rId3"/>
          <a:stretch/>
        </p:blipFill>
        <p:spPr>
          <a:xfrm>
            <a:off x="3413160" y="4400640"/>
            <a:ext cx="3232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20:17:15Z</dcterms:modified>
  <cp:revision>18</cp:revision>
  <dc:subject/>
  <dc:title>Цветок «Хризантема» из гофрированной бумаги</dc:title>
</cp:coreProperties>
</file>