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CEF9-B73B-462C-8D26-F7D93881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4004-C743-407A-828E-DD3A2523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6736-E9F3-4F98-A82A-9DF91819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236D-EC5C-44DC-BC75-95756570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6437-A162-4487-A286-FAE61995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9704-1FAF-4BA3-99F3-12176A6D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81B6-E6CE-4AC0-93E7-8A482703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F2BA-8410-4BFF-BE5F-E210FF98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F190-4B2D-4E27-8F91-09B538A8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9960-AE43-4D98-A380-FDE77043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6109-3266-41DA-B842-1A2BAB2B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7AF-FF07-4722-A84E-32B5FD50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3B14-F65A-420C-9D3D-BC17DC7F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F5CF-307A-4490-A2AF-3B99041B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1482-0762-402E-82A2-56CCEC5C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9FAC-8565-45CB-85FB-8401E22D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475F-D222-48FF-ABC0-C8BE11B7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1244A-5EFE-461C-B87B-1C72AF96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45D22-ADE6-409E-B819-F153FC00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E4E36-AA94-4362-A615-F0C84A65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2F059-2784-43B0-92E8-D2F8AB6E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42009-7011-464B-8DDF-797166A0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8315-F320-4A9B-9363-CC89D576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3823C-5EA2-432D-B552-DA3D9FE5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29A3A-B6BB-407F-8DD4-C1FA8FA6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4B74C-08FD-43B3-9E27-5FFE3F9F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A8559-F11D-40F4-BCEA-9C4147A6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0E8A3-8168-4E39-BDCD-FA4BB5B4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14F2C-C10E-4021-A041-FAC4F73E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56936-1349-4ECE-AE1C-6C300644D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12530-C7D4-4FD3-AFF9-367B527C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05C2B-A2DC-4DCA-BEE1-72004027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83425-0D52-4330-BF64-D142655A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E02-418C-4AC7-B4DD-9B45F57B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54466-2613-414A-A114-F0E75CD1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6BAF3-15F0-4356-A82C-7DB59F6D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69DE0-2CB4-40C8-A828-EE402172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8159C-9353-47B7-8391-CB36D229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DD528-CD9A-446F-A941-E04F377D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12603-5636-4686-92AF-17DBFD3D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C40FA-E4C9-4985-BB35-69BF28B0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1DA55-346D-44BF-AC3C-5D629700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4A1A8-45F1-4583-9FFB-A33C129E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8844D-6C04-41DE-A574-8E27ED5E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1D72-E577-4260-B113-67E6D756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24006-78F0-4D6C-B992-EA8FD91A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02E48-BEC7-4803-ADD9-48401425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0DF9B-E4FC-47B5-A46B-BE9BCC0B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73BFF-D37A-4FE8-957A-C95FFC02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5A044-5DA4-4E00-BC4F-E8402D87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D8BB8-7AA5-4B73-822E-924EB267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CE2F8-99A7-479B-8278-9D7AF1A5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B5F53-5958-45B4-BFBF-13C52F3A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5433C-AA6F-4939-8A64-2D0E784D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AC0BD-7387-4C75-93E6-0BA22C09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60BE-413F-40B9-ACD4-9FD92DDC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54730-0EFB-4CA3-93A5-1BE69A498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FA891-C1F0-48BE-B6C5-CD994E6E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04DB0-BB7F-4B6E-900A-7A4C63B2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0BFF5-8F4E-451F-A337-F775EB5B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E9EA7-4827-4F83-8622-5422ADE9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CC714-DBF8-4A68-9CF5-FA38D30E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8FBED-959D-44BB-BE50-DA362D87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BE3D8-AE4B-4189-B1B7-3C892A1D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AF14D-FFA9-420E-AC4C-D0E7E568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97FE5-46C3-4420-A60A-EAFC647D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35C3-3032-4FB9-8410-9A561C41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64CB6-7D3C-4038-8F96-57F606AC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C85C4-3A57-4EF7-9F2F-EEE3C821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34952-C928-4783-9B75-EAA45DB4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BFE52-BDAA-4F03-888C-92C76222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903AE-431B-476E-8635-65BB8F6C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DD906-A938-4722-8655-4CD377A2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0A7A7-A53E-4F1E-AB89-0EAA4DF6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FB555-4948-46E2-B671-11FEFF80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4F0F1-73FD-42DB-A8BB-48CA5D0D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CE4F1-D6AF-47C0-99A1-51D2CAFC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2131-1E5E-4EA0-98DA-25CAC8E6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74CB0-AF74-40E1-8A7F-BC71C2C7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EE6B0-5DEC-41AD-9EDE-4E739B97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CCB36-86E4-43FF-B36B-4611D6D2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E6424-4C8C-4DA8-8A51-BD6332A7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C5FDF-A134-43E0-9BDA-6A3DD0525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44FE-D18D-4EE7-8D85-B9B84636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C129-D3B3-4F40-8300-D102AED5E36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FA14-F020-4031-ACA0-E8B081ECEB2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2DA2-BC38-4859-A36D-2CE424E544C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E848-DF0F-4FA0-8746-C613A8D026F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4EC6-35C9-4EED-9587-3EC633A1045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BB23-E09D-490C-94BB-505E184D3F9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FAA0-5582-419B-98F0-07F07D4D33E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веток «Хризантема» из гофрированной бумаг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356000" y="5805360"/>
            <a:ext cx="4788000" cy="1052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Игнатьева Мария Андреев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Педагог дополнительного образова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1468440" y="1981080"/>
            <a:ext cx="498168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авила безопасной работы с клеем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  работе с клеем пользуйся кисточкой, если это над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ери то количество клея, которое требуется для выполнения работы на данном этап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лишки клея убирай мягкой тряпочкой или салфеткой, осторожно прижимая е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источку руки после работы хорошо вымой с мыл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следовательность выполнения работы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клеиваем их цветку. Наш цветок гот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Рисунок 3" descr="24.jpg"/>
          <p:cNvPicPr/>
          <p:nvPr/>
        </p:nvPicPr>
        <p:blipFill>
          <a:blip r:embed="rId1"/>
          <a:stretch/>
        </p:blipFill>
        <p:spPr>
          <a:xfrm>
            <a:off x="1395360" y="3395520"/>
            <a:ext cx="3756240" cy="346896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4" descr="25.jpg"/>
          <p:cNvPicPr/>
          <p:nvPr/>
        </p:nvPicPr>
        <p:blipFill>
          <a:blip r:embed="rId2"/>
          <a:stretch/>
        </p:blipFill>
        <p:spPr>
          <a:xfrm>
            <a:off x="5718240" y="3786120"/>
            <a:ext cx="343224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6T15:38:00Z</dcterms:created>
  <dc:creator>Маша</dc:creator>
  <dc:description/>
  <dc:language>en-US</dc:language>
  <cp:lastModifiedBy> </cp:lastModifiedBy>
  <dcterms:modified xsi:type="dcterms:W3CDTF">2020-04-06T20:18:23Z</dcterms:modified>
  <cp:revision>17</cp:revision>
  <dc:subject/>
  <dc:title>Цветок «Хризантема» из гофрированной бумаги</dc:title>
</cp:coreProperties>
</file>