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84E-DBC8-4E5A-895B-02AAFEA0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FDA-BBDF-44E3-AEEF-D72C8633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C7D-9BB2-4882-99A5-C9570FF5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737-ECF6-46C5-AF8E-24004D57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486C-0219-4127-8F50-7EE02CAE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8D5E-8D86-411F-8430-6C7D50A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8657-268A-4F11-BA91-EB5F3CEF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4B94-404B-4B61-9A55-BFDBD874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A9B6-73E0-4E05-A190-F16A0AA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8E0C-06DF-4200-81C4-35BE8BE4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B891-D1A6-4C35-8CB9-501091E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8A7-CAA4-468B-92D1-8D8C21B9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72ED-3A38-4A30-A1C3-BB8AF54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D5F9-0A7C-40AF-8F2E-09E06CC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D182-1368-4D28-960C-1CB2AFD7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E6C4-40B7-4F21-930E-D0881048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469E-9385-4BAF-A91E-E4FE5E99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85A-9109-4758-AC2A-7738F0CE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3D0-752A-42DA-BB7F-4E7AD5A2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667-AFBF-40C7-A4ED-F3077635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ADB-DAA6-47E2-A16C-BC5B4321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DEC-535E-40F5-9D20-F0A44BC4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903-D1CB-4864-9C9A-205022F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4D0-FD5E-4EC0-BA89-AE3B1F8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131C-792F-4DCA-98DD-6F82B613C1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CAF-4D3F-4062-81CE-28D255905E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4070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д Москвой нависла страшная опас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защиты родной столицы поднялся весь наро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1942 года советская армия перешла в наступлен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68360" y="58197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ивотанковые ежи на улицах Москв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том 1942 года начались ожесточённые бои за Сталингра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ражеские самолёты непрерывно бомбили гор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коре он превратился в ру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коло двух месяцев продолжались бои на улицах город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11280" y="56768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лгоград. Дом Павло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3683160" cy="3313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том 1943 года разгорелось сражение под Курск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беда под Курском стала началом крупного наступления советской арм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68360" y="53881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урская битва. Пехота идёт в атаку под прикрытием танк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1944 году территория Советского Союза была полностью освобождена от захватчи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ские войска вышли к германской границ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апреле 1945 года начался штурм Берлина – столицы Герман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745080" cy="295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457440" cy="4321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581360"/>
            <a:ext cx="376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намя Победы, водружённое над рейхстагом в ночь 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 мая 1945 года М.А.Егоровым и М.В.Кантар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003640" y="5243400"/>
            <a:ext cx="33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ижды герой Советского Союза Георгий Константинович Жу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едставители германского командования подписали документ, в котором признали своё поражени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038840" cy="313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54440" cy="3916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468360" y="51721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.К.Жуков подписывает Акт о безоговорочной капитуляции фашистской Германи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 мая 1945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5003640" y="58770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дость побед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рад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4608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84360" y="5892840"/>
            <a:ext cx="77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рад Победы. Маршалы Советского Союза Г.К.Жуков и Г.К.Рокоссовский. 24 июня 1945 года. Красная площад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елика была цена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а потеряла свыше 26 миллионов челов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инах лежали города и сёл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взорвали древние храмы и разрушили великолепные двор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ерманию были вывезены ценнейшие произведения искус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амять о вой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оскве у Кремлёвской стены горит вечный огонь – памятник погибшим воин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5334120" y="1865160"/>
            <a:ext cx="2666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а - геро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нинград (Санкт-Петербург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нград (Волгоград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ск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российс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рманс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енс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л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сентября 1939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816360" cy="4105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рмания вторглась на территорию Польши, затем были: Дания, Норвегия, Бельгия, Нидерланды, Франция, Греция, Югослав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ечная слава героям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5904000" cy="37735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619280" y="57484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чный огонь на Марсовом пол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анкт – Петербур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ь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чалась и когда закончилась Великая Отечественная войн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героические страницы Великой Отечественной войны тебе известн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российские города получили звание «город – герой»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4083120" y="277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7"/>
          <p:cNvSpPr/>
          <p:nvPr/>
        </p:nvSpPr>
        <p:spPr>
          <a:xfrm rot="19606800">
            <a:off x="4211640" y="2491920"/>
            <a:ext cx="1297080" cy="486000"/>
          </a:xfrm>
          <a:prstGeom prst="rightArrow">
            <a:avLst>
              <a:gd name="adj1" fmla="val 50000"/>
              <a:gd name="adj2" fmla="val 667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083120" y="248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924360" y="1844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795840" y="262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564000" y="620640"/>
            <a:ext cx="485640" cy="2200320"/>
          </a:xfrm>
          <a:prstGeom prst="upArrow">
            <a:avLst>
              <a:gd name="adj1" fmla="val 50000"/>
              <a:gd name="adj2" fmla="val 11326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903840" y="294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13"/>
          <p:cNvSpPr/>
          <p:nvPr/>
        </p:nvSpPr>
        <p:spPr>
          <a:xfrm rot="814800">
            <a:off x="3203640" y="2707920"/>
            <a:ext cx="863640" cy="485640"/>
          </a:xfrm>
          <a:prstGeom prst="leftArrow">
            <a:avLst>
              <a:gd name="adj1" fmla="val 50000"/>
              <a:gd name="adj2" fmla="val 444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06728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9"/>
          <p:cNvSpPr/>
          <p:nvPr/>
        </p:nvSpPr>
        <p:spPr>
          <a:xfrm rot="20197800">
            <a:off x="3132000" y="3068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1"/>
          <p:cNvSpPr/>
          <p:nvPr/>
        </p:nvSpPr>
        <p:spPr>
          <a:xfrm rot="3394800">
            <a:off x="3467160" y="4028760"/>
            <a:ext cx="3270240" cy="486000"/>
          </a:xfrm>
          <a:prstGeom prst="rightArrow">
            <a:avLst>
              <a:gd name="adj1" fmla="val 50000"/>
              <a:gd name="adj2" fmla="val 168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404820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3"/>
          <p:cNvSpPr/>
          <p:nvPr/>
        </p:nvSpPr>
        <p:spPr>
          <a:xfrm rot="2817600">
            <a:off x="396576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 власти в Герм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382920" cy="3600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ходился Адольф Гитл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емился управлять всем мир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рассвете 22 июня 1941 год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403884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объявления войны Германия напала на Советский Сою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рестская крепость – первой встретила вра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308400" cy="3989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84360" y="5229360"/>
            <a:ext cx="33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естская крепость. Холмский воро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643280" y="5805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ульптура «Мужество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стране пришлось сражаться с сильным и жестоким противник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было всем: и воинам на фронте, и тем, кто сражался с врагом на захваченных территориях – партизанам и подпольщикам, и тем, кто трудился в ты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сё для фронта! Всё для победы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038840" cy="3024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тот призыв звучал в те го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4038480" cy="2951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468360" y="566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артиллерийском завод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716360" y="574848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ведчики получают боевое зада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роическая летопись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ой Отечественной вой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538800" cy="3887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00 дней блокады Ленингра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рога жизни через Ладожское озер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02:16Z</dcterms:created>
  <dc:creator>Admin</dc:creator>
  <dc:description/>
  <dc:language>en-US</dc:language>
  <cp:lastModifiedBy>home</cp:lastModifiedBy>
  <dcterms:modified xsi:type="dcterms:W3CDTF">2020-04-06T09:11:11Z</dcterms:modified>
  <cp:revision>6</cp:revision>
  <dc:subject/>
  <dc:title>Великая война</dc:title>
</cp:coreProperties>
</file>