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107-2018-4CFD-B832-3CB9124A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33B-6EFF-466F-90E8-FE96324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4B5-A202-4F8D-9103-8FFC3BDF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F3B-C2D6-43B0-8E78-B84A85DC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A818-7CA4-4F33-B91C-BF10D6EB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953D-E66B-4608-9791-8CA5ECE9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74AC-AF13-494A-8E99-4293FD8E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E2D1-BE16-4E51-8019-78179ACB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4724-8F79-4495-9977-F71E78CC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FC21-8884-47E6-AE5C-43AAFEC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DEB7-1DA5-4A38-90E1-5A3D66B9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F43-84A4-486C-8CED-CB0ADE1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873-7198-4641-8CA1-3474392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12F6-50D5-4EC9-8D74-766369E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0A1A-8E32-437D-ACDB-43C35DBF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D553-D785-4B3E-A065-97AEC05C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5531-DDDF-478F-AE84-87BE875E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9C7-A62A-410A-B099-6B8ACA04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D13-0467-44C5-995D-F64E145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312-8B81-4AFB-A5D6-56D19210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DCC-48A4-47C9-B39F-761218D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650-D86F-4DDD-A32D-7E95473E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30B-B696-4A33-9CCE-13B2981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834-97BF-4433-8A8B-1D0FF39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057-8460-4363-9C6B-E64A5DA881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F304-FF8B-465D-B7BE-19F1E57779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4070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д Москвой нависла страшная опас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защиты родной столицы поднялся весь наро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1942 года советская армия перешла в наступле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68360" y="58197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ивотанковые ежи на улицах Москв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том 1942 года начались ожесточённые бои за Сталингра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ражеские самолёты непрерывно бомбили гор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коре он превратился в ру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коло двух месяцев продолжались бои на улицах горо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56768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лгоград. Дом Павло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3683160" cy="3313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том 1943 года разгорелось сражение под Курск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беда под Курском стала началом крупного наступления советской арм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68360" y="5388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урская битва. Пехота идёт в атаку под прикрытием танк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44 году территория Советского Союза была полностью освобождена от захватчи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ские войска вышли к германской границ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апреле 1945 года начался штурм Берлина – столицы Герман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745080" cy="295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457440" cy="4321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581360"/>
            <a:ext cx="376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намя Победы, водружённое над рейхстагом в ночь 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 мая 1945 года М.А.Егоровым и М.В.Кантар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003640" y="5243400"/>
            <a:ext cx="33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ижды герой Советского Союза Георгий Константинович Жу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дставители германского командования подписали документ, в котором признали своё поражени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038840" cy="31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54440" cy="3916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468360" y="51721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.К.Жуков подписывает Акт о безоговорочной капитуляции фашистской Герман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 мая 1945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5003640" y="58770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дость побе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рад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4608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84360" y="5892840"/>
            <a:ext cx="77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ад Победы. Маршалы Советского Союза Г.К.Жуков и Г.К.Рокоссовский. 24 июня 1945 года. Красная площад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лика была цена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а потеряла свыше 26 миллионов челов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инах лежали города и сёл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взорвали древние храмы и разрушили великолепные двор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ерманию были вывезены ценнейшие произведения искус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амять о вой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оскве у Кремлёвской стены горит вечный огонь – памятник погибшим воин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5334120" y="1865160"/>
            <a:ext cx="2666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а - геро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нинград (Санкт-Петербург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нград (Волгоград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ск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российс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рманс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енс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л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сентября 1939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816360" cy="4105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рмания вторглась на территорию Польши, затем были: Дания, Норвегия, Бельгия, Нидерланды, Франция, Греция, Югослав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чная слава героям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5904000" cy="37735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619280" y="57484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чный огонь на Марсовом пол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нкт – Петербур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ь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чалась и когда закончилась Великая Отечественная войн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героические страницы Великой Отечественной войны тебе извест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российские города получили звание «город – герой»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083120" y="277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7"/>
          <p:cNvSpPr/>
          <p:nvPr/>
        </p:nvSpPr>
        <p:spPr>
          <a:xfrm rot="19606800">
            <a:off x="4211640" y="2491920"/>
            <a:ext cx="1297080" cy="486000"/>
          </a:xfrm>
          <a:prstGeom prst="rightArrow">
            <a:avLst>
              <a:gd name="adj1" fmla="val 50000"/>
              <a:gd name="adj2" fmla="val 667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83120" y="248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924360" y="1844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795840" y="262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564000" y="620640"/>
            <a:ext cx="485640" cy="2200320"/>
          </a:xfrm>
          <a:prstGeom prst="upArrow">
            <a:avLst>
              <a:gd name="adj1" fmla="val 50000"/>
              <a:gd name="adj2" fmla="val 11326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903840" y="294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3"/>
          <p:cNvSpPr/>
          <p:nvPr/>
        </p:nvSpPr>
        <p:spPr>
          <a:xfrm rot="814800">
            <a:off x="3203640" y="2707920"/>
            <a:ext cx="863640" cy="485640"/>
          </a:xfrm>
          <a:prstGeom prst="leftArrow">
            <a:avLst>
              <a:gd name="adj1" fmla="val 50000"/>
              <a:gd name="adj2" fmla="val 444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06728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9"/>
          <p:cNvSpPr/>
          <p:nvPr/>
        </p:nvSpPr>
        <p:spPr>
          <a:xfrm rot="20197800">
            <a:off x="3132000" y="3068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1"/>
          <p:cNvSpPr/>
          <p:nvPr/>
        </p:nvSpPr>
        <p:spPr>
          <a:xfrm rot="3394800">
            <a:off x="3467160" y="4028760"/>
            <a:ext cx="3270240" cy="486000"/>
          </a:xfrm>
          <a:prstGeom prst="rightArrow">
            <a:avLst>
              <a:gd name="adj1" fmla="val 50000"/>
              <a:gd name="adj2" fmla="val 168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404820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3"/>
          <p:cNvSpPr/>
          <p:nvPr/>
        </p:nvSpPr>
        <p:spPr>
          <a:xfrm rot="2817600">
            <a:off x="396576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 власти в Герм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382920" cy="3600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ходился Адольф Гитл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емился управлять всем мир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рассвете 22 июня 1941 год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объявления войны Германия напала на Советский Сою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рестская крепость – первой встретила вра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308400" cy="3989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84360" y="5229360"/>
            <a:ext cx="33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естская крепость. Холмский воро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64328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ульптура «Мужество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стране пришлось сражаться с сильным и жестоким противник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было всем: и воинам на фронте, и тем, кто сражался с врагом на захваченных территориях – партизанам и подпольщикам, и тем, кто трудился в ты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сё для фронта! Всё для победы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038840" cy="302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тот призыв звучал в те го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4038480" cy="2951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468360" y="566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артиллерийском завод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716360" y="574848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ведчики получают боевое зад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538800" cy="3887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00 дней блокады Ленингра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рога жизни через Ладожское озер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02:16Z</dcterms:created>
  <dc:creator>Admin</dc:creator>
  <dc:description/>
  <dc:language>en-US</dc:language>
  <cp:lastModifiedBy>home</cp:lastModifiedBy>
  <dcterms:modified xsi:type="dcterms:W3CDTF">2020-04-06T09:11:11Z</dcterms:modified>
  <cp:revision>6</cp:revision>
  <dc:subject/>
  <dc:title>Великая война</dc:title>
</cp:coreProperties>
</file>