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648-5A11-4323-BE18-31195A12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238-C7C6-4F17-AFF8-0B04720A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B2A-84FB-4868-A07C-5FF364BD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352-283E-474B-87BE-F3D1513D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C353-9701-483E-B66B-BFD4B3C8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24FD-6BC2-4E97-B42B-BC0DBD75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E992-EFA2-43FE-97FD-9ADFA435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9B69-3191-4B03-B8BD-ADA607E3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AD5A-3F13-4340-9AE8-9E2F358B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0849-E12B-42CC-A139-4BC8BB0D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0484-DA91-4559-B15F-DDDFB71D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D2C-E02A-4EE7-A351-8AF8033E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9EF1-21B0-46B1-B5B7-9F5DDA4E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C7E7-A682-4E02-A27F-9B348CD3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A36C-4C8B-4242-AE10-0AB4C896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4B94-34EC-4F7E-AB57-1025B882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C50E-8A76-4215-A438-7B0BAECF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9E9-2B80-42F7-8A25-1F0E0706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9ED-DC92-43F0-920C-D8383E90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FBE-C242-4398-A721-23754FB0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D1E-CAC2-4D08-8C5E-C4528EE4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F71-4B5A-4ABB-916C-AEB9AFDC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8C0-920A-47BF-8462-B209BE0B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F46-83B8-4886-9C6A-CD6BA00A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f1d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f1d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5366-B14C-471B-B15E-BA6B428781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f1d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f1d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70BB-F144-4328-8CC0-3AC18F20A1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стория возникновения и развитие волейбола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640" y="4652640"/>
            <a:ext cx="352584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stock-vector-kids-playing-volleyball-89624227"/>
          <p:cNvPicPr/>
          <p:nvPr/>
        </p:nvPicPr>
        <p:blipFill>
          <a:blip r:embed="rId1"/>
          <a:srcRect l="0" t="0" r="0" b="11813"/>
          <a:stretch/>
        </p:blipFill>
        <p:spPr>
          <a:xfrm>
            <a:off x="1258920" y="2276640"/>
            <a:ext cx="662616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Цель:</a:t>
            </a:r>
            <a:br>
              <a:rPr sz="3800"/>
            </a:b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познакомить учеников с истоками развития игры в волейбол;</a:t>
            </a:r>
            <a:br>
              <a:rPr sz="3800"/>
            </a:b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познакомить учеников с правилами игры в волейбол;</a:t>
            </a:r>
            <a:br>
              <a:rPr sz="3800"/>
            </a:b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привить любовь к игре в волейбол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Изобретатель волейбола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5761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Волейбо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– один из самых популярных в мире видов спорта. Родина волейбола – Соединенные Штаты Америки. Новую игру изобрел в 1895г.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Вильям Морган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Он предложил перебрасывать мяч через теннисную сетку, натянутую на высоте около 2 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Название новой игре дал доктор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Альфред Холстед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– преподаватель Спрингфильдского колледж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«волейбол» – летающий мя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В 1896 г. волейбол был впервые продемонстрирован перед публикой. А через год в США были опубликованы первые правила игры, которые имели всего 10 пунк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x_9afa1429"/>
          <p:cNvPicPr/>
          <p:nvPr/>
        </p:nvPicPr>
        <p:blipFill>
          <a:blip r:embed="rId1"/>
          <a:stretch/>
        </p:blipFill>
        <p:spPr>
          <a:xfrm>
            <a:off x="6084720" y="1628640"/>
            <a:ext cx="28083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лейбол как Олимпийский вид спорта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На родине волейбола первые соревнования состоялис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 1922г. в Бруклине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Тогда же американцы выступили с предложением включить волейбол в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ограмму Олимпийских игр 1924г.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лимпийское признание волейбол получил только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 1957г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. Но в программу Игр был впервые включен лишь на Олимпиад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1964г. в Токи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Тогда в Японскую столицу приехали 6 женских и 10 мужских коман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ервыми олимпийскими чемпионами стали сборные СССР (мужчины) и Японии (женщин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На олимпийских турнирах наибольших успехов достигли сборные СССР и сборная Япо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2706092"/>
          <p:cNvPicPr/>
          <p:nvPr/>
        </p:nvPicPr>
        <p:blipFill>
          <a:blip r:embed="rId1"/>
          <a:srcRect l="10693" t="18701" r="10849" b="19708"/>
          <a:stretch/>
        </p:blipFill>
        <p:spPr>
          <a:xfrm>
            <a:off x="3203640" y="836640"/>
            <a:ext cx="316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Волейбол в СССР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 СССР волейбол начал широко развиваться в 1920-1921 годах в Казани, Нижнем Новгор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Затем он появился на  в Хабаровске и Владивостоке, а в 1925 году на Укра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олейбол той поры в шутку называли в стране «игрой актеров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 Москве первые волейбольные площадки появились во дворах театров – Мейерхольда, Камерного, Революции, Вахтанг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8 июля 1923 года в Москве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состоялся первый официальный матч. С этой встречи и ведется летоисчисление волейбо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Современный волейбол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а рубеже XX-XXI веков российский волейбол занимал одно из ведущих мест в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Это подтвердили Олимпиады в Сиднее и Афинах, где мужские и женские сборные заняли призовые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 Пекине, мужчины заняли 3 место, а финал мужского волейбольного турнира стал украшением Олимпиады в Лондо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борная России, уступающая по ходу матча 0:2 отыграла два матчбола и сумела вырвать победу у бразиль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лейбольная площадка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681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олейбольная площад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ровная и прямоугольной формы. Ограниченная разметкой, являющаяся местом проведения волейбольных матч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азмер площадки в дл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8 метров и 9 метров в шир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лощадка разделена на две части размером 99 метров с помощью сетки метровой шир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axPSIP7QnSo"/>
          <p:cNvPicPr/>
          <p:nvPr/>
        </p:nvPicPr>
        <p:blipFill>
          <a:blip r:embed="rId1"/>
          <a:stretch/>
        </p:blipFill>
        <p:spPr>
          <a:xfrm>
            <a:off x="5076720" y="1628640"/>
            <a:ext cx="3821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Волейбольный мяч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лейбольный мяч состоит из шести панелей кожи, натянутой вокруг карк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ждая панель состоит из трёх секций или рядов. Мяч может быть разноцветным или полностью бел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iatkowka-wektor_11-40926"/>
          <p:cNvPicPr/>
          <p:nvPr/>
        </p:nvPicPr>
        <p:blipFill>
          <a:blip r:embed="rId1"/>
          <a:stretch/>
        </p:blipFill>
        <p:spPr>
          <a:xfrm>
            <a:off x="611280" y="1628640"/>
            <a:ext cx="40384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Правила игры в волейбол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лейбол коллективная игра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ь игры: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ударами рук направить мяч на сторону соперников и там приземл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атч состоит из 5 пар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ыигрывает партию команда набравшая 25 оч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 матче побеждает команда, которая одолела соперников в 3 партиях из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6T15:10:03Z</dcterms:created>
  <dc:creator>Артём</dc:creator>
  <dc:description/>
  <dc:language>en-US</dc:language>
  <cp:lastModifiedBy>НР</cp:lastModifiedBy>
  <dcterms:modified xsi:type="dcterms:W3CDTF">2020-04-06T04:51:15Z</dcterms:modified>
  <cp:revision>11</cp:revision>
  <dc:subject/>
  <dc:title>История возникновения и развитие волейбола</dc:title>
</cp:coreProperties>
</file>