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778-0A2D-4A38-8B37-C23C7D53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D4D-D269-47F6-9DB9-6D81BC71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055-32E9-41E0-92F5-943E883C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1AF-0D09-4CDD-AE12-4C6535CE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2FC9-BE42-4F35-A269-6F89FE60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C96B-B9D7-4392-B285-1D7E1CE9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52E-BDCF-4072-B476-32821DA1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9240-ED0A-4959-A4A8-FA039B29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FC1E-A998-46D3-BCB4-A9BE272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DEB2-26E1-467B-97E9-B14F362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7224-3A87-40FA-9D72-82C9C93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8A9-05CB-49BA-90F2-5494B77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EDC0-8705-4CBC-8D46-FBF29F4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0439-5CD4-4930-8885-FB12EA8C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A34A-E41E-4240-85D1-BDEDB70F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8574-7816-48A5-B4CD-28DE6758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3536-0078-4CA8-AA3F-29C3D192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30F-EAA3-496B-B400-AAF24214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F73-E554-4422-BE70-340C597A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CEF-6531-4AAD-A3E6-D1269B34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78D-462B-4777-8E57-6E8A9136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C93-3793-4245-B614-3C7A074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D2E-203B-4F74-8036-08E1D42C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F03-D2F6-43C2-80B2-AF49764B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523F-6193-4DE1-89C3-D8F956E72E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8ED-869B-467D-B0F4-0D71E333E1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тория возникновения и развитие волейбол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4652640"/>
            <a:ext cx="352584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tock-vector-kids-playing-volleyball-89624227"/>
          <p:cNvPicPr/>
          <p:nvPr/>
        </p:nvPicPr>
        <p:blipFill>
          <a:blip r:embed="rId1"/>
          <a:srcRect l="0" t="0" r="0" b="11813"/>
          <a:stretch/>
        </p:blipFill>
        <p:spPr>
          <a:xfrm>
            <a:off x="1258920" y="2276640"/>
            <a:ext cx="662616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Цель:</a:t>
            </a: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познакомить учеников с истоками развития игры в волейбол;</a:t>
            </a: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познакомить учеников с правилами игры в волейбол;</a:t>
            </a: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привить любовь к игре в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Изобретатель волейбола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5761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Волейбо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– один из самых популярных в мире видов спорта. Родина волейбола – Соединенные Штаты Америки. Новую игру изобрел в 1895г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Вильям Морга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Он предложил перебрасывать мяч через теннисную сетку, натянутую на высоте около 2 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азвание новой игре дал доктор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льфред Холстед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 преподаватель Спрингфильдского колледж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«волейбол» – летающий мя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 1896 г. волейбол был впервые продемонстрирован перед публикой. А через год в США были опубликованы первые правила игры, которые имели всего 10 пун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x_9afa1429"/>
          <p:cNvPicPr/>
          <p:nvPr/>
        </p:nvPicPr>
        <p:blipFill>
          <a:blip r:embed="rId1"/>
          <a:stretch/>
        </p:blipFill>
        <p:spPr>
          <a:xfrm>
            <a:off x="6084720" y="1628640"/>
            <a:ext cx="28083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лейбол как Олимпийский вид спорта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а родине волейбола первые соревнования состоялис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1922г. в Бруклине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огда же американцы выступили с предложением включить волейбол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грамму Олимпийских игр 1924г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лимпийское признание волейбол получил тольк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1957г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 Но в программу Игр был впервые включен лишь на Олимпиад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964г. в Токи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огда в Японскую столицу приехали 6 женских и 10 мужских ком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рвыми олимпийскими чемпионами стали сборные СССР (мужчины) и Японии (женщин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а олимпийских турнирах наибольших успехов достигли сборные СССР и сборная Япо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706092"/>
          <p:cNvPicPr/>
          <p:nvPr/>
        </p:nvPicPr>
        <p:blipFill>
          <a:blip r:embed="rId1"/>
          <a:srcRect l="10693" t="18701" r="10849" b="19708"/>
          <a:stretch/>
        </p:blipFill>
        <p:spPr>
          <a:xfrm>
            <a:off x="3203640" y="836640"/>
            <a:ext cx="316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Волейбол в СССР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СССР волейбол начал широко развиваться в 1920-1921 годах в Казани, Нижнем Новгор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атем он появился на  в Хабаровске и Владивостоке, а в 1925 году на Укра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олейбол той поры в шутку называли в стране «игрой актеров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Москве первые волейбольные площадки появились во дворах театров – Мейерхольда, Камерного, Революции, Вахтанг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8 июля 1923 года в Москв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состоялся первый официальный матч. С этой встречи и ведется летоисчисление волейб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Современный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 рубеже XX-XXI веков российский волейбол занимал одно из ведущих мест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Это подтвердили Олимпиады в Сиднее и Афинах, где мужские и женские сборные заняли призов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Пекине, мужчины заняли 3 место, а финал мужского волейбольного турнира стал украшением Олимпиады в Лондо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борная России, уступающая по ходу матча 0:2 отыграла два матчбола и сумела вырвать победу у бразиль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лейбольная площадка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681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олейбольная площа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овная и прямоугольной формы. Ограниченная разметкой, являющаяся местом проведения волейбольных матч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змер площадки в дл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8 метров и 9 метров в шир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лощадка разделена на две части размером 99 метров с помощью сетки метровой шир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xPSIP7QnSo"/>
          <p:cNvPicPr/>
          <p:nvPr/>
        </p:nvPicPr>
        <p:blipFill>
          <a:blip r:embed="rId1"/>
          <a:stretch/>
        </p:blipFill>
        <p:spPr>
          <a:xfrm>
            <a:off x="5076720" y="1628640"/>
            <a:ext cx="3821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Волейбольный мяч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ейбольный мяч состоит из шести панелей кожи, натянутой вокруг карк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ая панель состоит из трёх секций или рядов. Мяч может быть разноцветным или полностью бел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iatkowka-wektor_11-40926"/>
          <p:cNvPicPr/>
          <p:nvPr/>
        </p:nvPicPr>
        <p:blipFill>
          <a:blip r:embed="rId1"/>
          <a:stretch/>
        </p:blipFill>
        <p:spPr>
          <a:xfrm>
            <a:off x="611280" y="1628640"/>
            <a:ext cx="4038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Правила игры в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ейбол коллективная игр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игры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дарами рук направить мяч на сторону соперников и там приземл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атч состоит из 5 пар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ыигрывает партию команда набравшая 25 оч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матче побеждает команда, которая одолела соперников в 3 партиях из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15:10:03Z</dcterms:created>
  <dc:creator>Артём</dc:creator>
  <dc:description/>
  <dc:language>en-US</dc:language>
  <cp:lastModifiedBy>НР</cp:lastModifiedBy>
  <dcterms:modified xsi:type="dcterms:W3CDTF">2020-04-06T04:51:15Z</dcterms:modified>
  <cp:revision>11</cp:revision>
  <dc:subject/>
  <dc:title>История возникновения и развитие волейбола</dc:title>
</cp:coreProperties>
</file>