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FE8-4332-42BC-BBB5-65D1BAAB00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1A8-2B2F-43D6-91F5-F658015D3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111-A5A3-49CE-B4D0-59A4ACD0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856-1171-4636-B362-D6255CCF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F6D-28A0-409E-9B93-F096DE34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25E-641E-4343-9D28-9284A7F7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CC30-2B76-40C7-84AC-826C5D3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5A5-DEE3-4773-929C-C1BAB38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9AB1-35DA-4656-BA9B-C3C32F8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6551-BB31-4C14-8426-CC091C7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A7C-D298-4E54-AD8D-D8177A76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43D0-DC7B-417F-9008-27B62E7B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9E71-8301-4C06-ADF3-5B75A1A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F74-C342-4AF6-9043-72061A1F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36ED-11B5-44DB-AFD6-707A6F7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7814-CF5E-4A27-BCF2-EF2F6DB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1D7D-2588-4C7C-8ECA-D97CA54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92B5-894A-4011-B999-4DB79C01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291-AF85-4C68-86C5-555D80F8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1090-A967-49B1-9C77-86AAC37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9141-FE81-458C-98DD-7435A46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5E10-0A56-4992-9099-7ED2A00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CE9C-41B4-41EA-BCB1-08FE556A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B97B-2E53-4FC3-8396-2039348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37B-C848-4A7C-8AD0-39B863E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592B-422C-4E55-BA1E-8E41E67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A2A4-CD40-4761-BDFE-5FB3AF8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3164-85AD-436C-B385-DD60D84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F1E2-D11F-4A03-854E-3970B4D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D4D3-4142-4749-BCD2-EBA004E6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A653-FA0F-4FFE-BF5B-104D5C43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3022-6655-4950-8CDC-A93D899A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7AB8-B092-4DF2-B0E9-EACA538F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2252-FC08-469C-BEBD-5DE12FD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1EA8-045C-4204-AFA5-DEB0FE2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53B-42F8-47A4-9E66-A3D6D4DD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A19B-EC1B-4CC6-8D12-E2656838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E68B-16E8-46B2-83DE-4D17FEC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4C31-4204-4CA4-9AD2-3A1FBDE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F6DFC-4B94-4B09-A416-1F056CE3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E342-1735-4459-A534-6D12B2B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3148-794C-4107-8DFA-22B281F4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0572-9475-4D8E-AC03-21FB675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2EAC4-60CC-4E2D-B4BA-FCDB488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CEF7-D0BD-4653-A996-BDB5B1E5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797-D841-4B9C-BB82-749B4F2F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542-64DE-4F4D-A9D2-C409BCC7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464-0A6E-4049-86A2-35D870A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557-39FB-496F-BB60-CD45071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FB6-1913-4264-9445-7826050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CDC2-9097-4C22-AA2E-4082C29647C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FA27-4CAF-4757-AB80-4C86101CF43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F0A-E0ED-4191-878A-21EFE2E59B7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2DCA-D7E1-4997-A006-206EE0EC1E5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sholenkova@mail.ru" TargetMode="External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7FA1-E41C-467A-B730-49B9A999B1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перем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9A92-5731-451F-B44E-097B5B1F12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314880" y="1792440"/>
            <a:ext cx="562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Если ввести с клавиатуры 21 и 33, то получим 2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261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264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7"/>
          <p:cNvSpPr/>
          <p:nvPr/>
        </p:nvSpPr>
        <p:spPr>
          <a:xfrm>
            <a:off x="3156120" y="53164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56120" y="593424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820800" y="4327560"/>
            <a:ext cx="7429320" cy="771480"/>
          </a:xfrm>
          <a:prstGeom prst="wedgeRoundRectCallout">
            <a:avLst>
              <a:gd name="adj1" fmla="val -3810"/>
              <a:gd name="adj2" fmla="val 100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еобразовать вводимые с клавиатуры символы в целое число, надо указать тип вводимой переменной, т.е.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6"/>
          <p:cNvCxnSpPr/>
          <p:nvPr/>
        </p:nvCxnSpPr>
        <p:spPr>
          <a:xfrm flipH="1" flipV="1">
            <a:off x="820440" y="1296360"/>
            <a:ext cx="2983680" cy="14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Прямая со стрелкой 8"/>
          <p:cNvCxnSpPr/>
          <p:nvPr/>
        </p:nvCxnSpPr>
        <p:spPr>
          <a:xfrm flipH="1" flipV="1">
            <a:off x="661320" y="1999440"/>
            <a:ext cx="3142440" cy="1089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Прямая со стрелкой 10"/>
          <p:cNvCxnSpPr/>
          <p:nvPr/>
        </p:nvCxnSpPr>
        <p:spPr>
          <a:xfrm flipH="1" flipV="1">
            <a:off x="820440" y="2596680"/>
            <a:ext cx="2898000" cy="889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8CE-3382-48AB-95E3-4553FF7580A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353200" y="1042920"/>
            <a:ext cx="1919160" cy="484200"/>
          </a:xfrm>
          <a:prstGeom prst="wedgeRoundRectCallout">
            <a:avLst>
              <a:gd name="adj1" fmla="val -69027"/>
              <a:gd name="adj2" fmla="val 255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3"/>
          <p:cNvSpPr/>
          <p:nvPr/>
        </p:nvSpPr>
        <p:spPr>
          <a:xfrm>
            <a:off x="441360" y="34844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4"/>
          <p:cNvSpPr/>
          <p:nvPr/>
        </p:nvSpPr>
        <p:spPr>
          <a:xfrm>
            <a:off x="3625920" y="350352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41360" y="2487600"/>
            <a:ext cx="78595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B59-50FB-455C-9DB2-9F691D080E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/>
            <a:ahLst/>
            <a:rect l="l" t="t" r="r" b="b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lnTo>
                  <a:pt x="84590" y="2998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/>
            <a:ahLst/>
            <a:rect l="l" t="t" r="r" b="b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lnTo>
                  <a:pt x="84380" y="2998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070-3B1B-4A88-A89F-B5AECDFAD9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03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0D90-A696-43D2-B439-20F58E807C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18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839F-57E9-42DF-BD4B-460B3C5DF0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B06E-7C75-44C7-87A1-2C58B1BC58B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401760" y="1427040"/>
            <a:ext cx="813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емые учени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пишите программы в текстовом редакторе Блокнот (все три задания в одном файле) и отправляете мне на электронную почту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sholenkova@mail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3.04.2020. Можете использовать почту родителей, но лучше если заведете с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ме указываете ваш класс, а файл называете своей фамилией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8б, Аван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то-то непонятно, то задавайт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FEA-A793-4F2E-8059-73488D7E2C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1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2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3A5F-F233-4FA5-B728-5C92C3EE148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8987-0029-456B-AD38-68D6924D9D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7DE-82DB-4B88-87D3-547EDF5D317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2C47-D6E5-49AF-A68C-6ABB48C257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68280" y="1376280"/>
            <a:ext cx="82803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95347"/>
              <a:gd name="adj2" fmla="val -240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2239920" y="2152800"/>
            <a:ext cx="2513160" cy="642960"/>
          </a:xfrm>
          <a:prstGeom prst="wedgeRoundRectCallout">
            <a:avLst>
              <a:gd name="adj1" fmla="val -90574"/>
              <a:gd name="adj2" fmla="val -1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190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D38C-2954-4CC7-9B67-726614B8BC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68280" y="8175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ласть памяти, в которой хранится некоторая величина (данные). Величина, а значит и переменная, имеет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255680" y="3170160"/>
            <a:ext cx="2386080" cy="27925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2"/>
          <a:stretch/>
        </p:blipFill>
        <p:spPr>
          <a:xfrm>
            <a:off x="3260880" y="3029040"/>
            <a:ext cx="1334880" cy="120168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лево 6"/>
          <p:cNvSpPr/>
          <p:nvPr/>
        </p:nvSpPr>
        <p:spPr>
          <a:xfrm rot="18783600">
            <a:off x="2943360" y="406368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2749680" y="4681440"/>
            <a:ext cx="663480" cy="7858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>
            <a:off x="4711680" y="306396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989520" y="4753080"/>
            <a:ext cx="1036440" cy="64584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589F-3D46-4AB7-A926-BC21B10996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A79-0BF9-44FD-B35B-98901E7A099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E0CD-9B15-44EA-8693-5085EE55FE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3A6-76FA-49ED-B9A5-87C4F55EB9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30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/>
            <a:ahLst/>
            <a:rect l="l" t="t" r="r" b="b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lnTo>
                  <a:pt x="142667" y="4976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F166-8912-47FD-9519-3FA1DB9695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5"/>
          <p:cNvGrpSpPr/>
          <p:nvPr/>
        </p:nvGrpSpPr>
        <p:grpSpPr>
          <a:xfrm>
            <a:off x="689040" y="4071960"/>
            <a:ext cx="7560720" cy="1800360"/>
            <a:chOff x="689040" y="4071960"/>
            <a:chExt cx="7560720" cy="1800360"/>
          </a:xfrm>
        </p:grpSpPr>
        <p:sp>
          <p:nvSpPr>
            <p:cNvPr id="244" name="Text Box 56"/>
            <p:cNvSpPr/>
            <p:nvPr/>
          </p:nvSpPr>
          <p:spPr>
            <a:xfrm>
              <a:off x="1155600" y="417816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7"/>
            <p:cNvSpPr/>
            <p:nvPr/>
          </p:nvSpPr>
          <p:spPr>
            <a:xfrm>
              <a:off x="689040" y="4071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47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155600" y="270972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вода значения переменной с клавиатуры используется функция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Admin</cp:lastModifiedBy>
  <dcterms:modified xsi:type="dcterms:W3CDTF">2020-04-05T19:48:42Z</dcterms:modified>
  <cp:revision>2004</cp:revision>
  <dc:subject/>
  <dc:title>Программное обеспечение (ПО)</dc:title>
</cp:coreProperties>
</file>