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7"/>
          <p:cNvSpPr/>
          <p:nvPr/>
        </p:nvSpPr>
        <p:spPr>
          <a:xfrm>
            <a:off x="785880" y="571680"/>
            <a:ext cx="71276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8ff20"/>
                </a:solidFill>
                <a:latin typeface="Arial"/>
              </a:rPr>
              <a:t>география  КБР  «Животный мир КБР»</a:t>
            </a:r>
            <a:endParaRPr b="0" lang="en-US" sz="4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371600" y="54291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Животный мир субальпийских лугов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Своеобразен и интересен животный мир субальпийских лугов. Здесь встречаются такие животные, как тур кавказский, волк, лиса, горностай, ласка, куница лесная, барсук, рысь, заяц-русак, суслик малый, мышь лесная, бурозубка малая и серна. 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258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Птицы субальпийских лугов</a:t>
            </a: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Из птиц встречаются перепел, кеклик, серая куропатка, обыкновенная чечевица, скалистый голубь и кавказский тетерев.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Животные альпийской зоны</a:t>
            </a: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5640" y="162864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На альпийских лугах, среди скал и на осыпях, обитают редкие эндемические животные. К ним относятся: тур - горный козел, кавказская серна. Здесь есть полевка гудаурская, прометеева мышь, заяц русак, горностай, волк, лиса, известны случаи встречи со снежным барсом. 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79280" y="1484280"/>
            <a:ext cx="849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Все виды  растений    и  животных,     включённые    в    Красную    книгу КБР,  подразделены  на  5  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категорий. I-ая   категория.   Виды,  находящиеся  под угрозой исчезновения,     спасение    которых 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невозможно  без    осуществления  специальных  мер.  Чем  выше  категория,   тем меньше    угроза 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исчезновения,  например V-ая категория - это восстановленные виды.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Кроссворд в увлекательной форме познакомит с редкими и исчезающими видами    птиц  (каравайка, 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вертишейка, просянка, ремез, фазан, стрепет,  филин, сапсан,  беркут, скопа).   Все они  изображены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на    форме на соответствующих рисунках (рис. 1-10). Для заполнения необходимо также    прочитать  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характеристику о каждой птице, которая появляется в верхней части формы. Полученная информация 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5f5f5f"/>
                </a:solidFill>
                <a:latin typeface="Verdana"/>
              </a:rPr>
              <a:t>поможет заполнить клеточки кроссворда.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Животный мир КБР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55640" y="184464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Microsoft Sans Serif"/>
              </a:rPr>
              <a:t>Животный мир КБР богат и  разнообразен. Здесь насчитывается 62 вида  млекопитающих, представленных 6 видами парнокопытных, 22 видами грызунов, 9 видами насекомоядных, 10 видами рукокрылых, 10 видами хищников. Водится 15 видов пресмыкающихся, 7 видов земноводных, 10 видов рыб. Насчитывается 316 видов и подвидов птиц, из них 157 -- гнездятся, 38 видов прилетают к нам на зимовку, 121 вид встречаются на перелете. В республике плохо изучены беспозвоночные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755640" y="4762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Эндемики</a:t>
            </a:r>
            <a:endParaRPr b="0" lang="en-US" sz="4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282600" y="177336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Verdana"/>
              </a:rPr>
              <a:t>Животный мир КБР характерен тем, что среди его представителей немало эндемиков, т.е. животных, обитающих только в данной местности на небольшой территории. Среди эндемиков Кавказа - кавказский тур</a:t>
            </a:r>
            <a:r>
              <a:rPr b="0" lang="en-US" sz="3200" spc="-1" strike="noStrike">
                <a:solidFill>
                  <a:srgbClr val="5f5f5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5f5f5f"/>
                </a:solidFill>
                <a:latin typeface="Verdana"/>
              </a:rPr>
              <a:t>кавказский улар</a:t>
            </a:r>
            <a:r>
              <a:rPr b="0" lang="en-US" sz="3200" spc="-1" strike="noStrike">
                <a:solidFill>
                  <a:srgbClr val="5f5f5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5f5f5f"/>
                </a:solidFill>
                <a:latin typeface="Verdana"/>
              </a:rPr>
              <a:t>кавказский тетерев</a:t>
            </a:r>
            <a:r>
              <a:rPr b="0" lang="en-US" sz="3200" spc="-1" strike="noStrike">
                <a:solidFill>
                  <a:srgbClr val="5f5f5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5f5f5f"/>
                </a:solidFill>
                <a:latin typeface="Verdana"/>
              </a:rPr>
              <a:t>кавказская выдра</a:t>
            </a:r>
            <a:r>
              <a:rPr b="0" lang="en-US" sz="32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5f5f5f"/>
                </a:solidFill>
                <a:latin typeface="Verdana"/>
              </a:rPr>
              <a:t>и др. </a:t>
            </a:r>
            <a:endParaRPr b="0" lang="en-US" sz="32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Птицы степей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4360" y="191592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В степях много птиц: перепел, коршун, жаворонки, береговая ласточка, овсянка, чекан луговой, чекан черноголовый, зелёный дятел, вертишейка, сизоворонка, золотистая щурка. Очень редки дрофы, стрепеты. 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Пресмыкающиеся степей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Из пресмыкающихся в степной зоне водятся ящерицы, ужи, полозы, ставшая редкой степная гадюка. 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Насекомые степей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Очень много в степях насекомых: медведка, клоп-черепашка, земляные блошки, оводы, слепни, клещи и другие.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Птицы лесостепной зоны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Из птиц встречаются: фазан, сорокопут-журан, сорокопут черноголовый, чёрный дрозд, горлица, витютень, сова ушастая, совка-сплюшная, пёстрый дятел, вертишейка, золотистая щурка.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Животные лесов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Microsoft Sans Serif"/>
              </a:rPr>
              <a:t>Наиболее благоприятными местами для жизни большинства животных являются леса. В лесах обитаемы и почва, и стволы, и кроны деревьев, и плоды различных древесинных пород. У нас в республике наиболее богаты животными горные леса. Здесь живут олень, косуля, медведь, волк, лиса обыкновенная, ласка, лесная куница, барсук, рысь, кот лесной, заяц-русак, соня-полчок, зубр, алтайская белка. 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Птицы лесов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В лесном поясе много птиц: черный дрозд, зеленушка, дятел, пеночка-теньковка, сойки, оляпка.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08:35:21Z</dcterms:created>
  <dc:creator>SamLab.ws</dc:creator>
  <dc:description/>
  <dc:language>en-US</dc:language>
  <cp:lastModifiedBy>Admin</cp:lastModifiedBy>
  <dcterms:modified xsi:type="dcterms:W3CDTF">2020-04-06T18:31:16Z</dcterms:modified>
  <cp:revision>28</cp:revision>
  <dc:subject/>
  <dc:title>Животный мир КБР</dc:title>
</cp:coreProperties>
</file>