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1F1-2F69-4B05-BE8D-3DA44FB7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10A-DCAB-416A-80F2-75C2006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192-2B99-4C9B-8E5D-E6D4B6C5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694-AC1C-46DF-A07F-EC698578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80C4-2081-4EFD-AE1E-FBC99FBC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0C04-FBBA-47BE-9D5A-B5F3D216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670A-DEDF-4E84-9F9F-EBABCA71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EFF2-379A-4958-A1CE-319920AF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C69E-0C27-4BA0-B667-76927E36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6A40-C0F4-4D8F-8ADF-144F7AF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74D3-7D3A-4A2E-9F57-7A3E400C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1EE-CB88-4FBF-8A8D-CFB49414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88D8-17B1-46AC-A4AB-16DAC457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93CC-BB23-4E6D-8088-5FE3899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769E-5708-458A-A8A6-5572969B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D0EB-D24C-467E-9EFC-6F4EDACA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3313-A486-43E3-B9DE-A72E92C6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43EE5-487D-41EE-A062-0924066B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30C8-8D7A-4BE3-93CC-31579706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0416-2F64-489F-990D-1CFDB5DF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F258-02F8-4ED1-BC84-A9629080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E214-98E4-4C86-BC52-38E99292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922-E3EA-4862-A355-1419909D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DCA3E-7B83-4FBE-80ED-F1854750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AAB0-703E-4BAE-8628-5FBEAEFB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7A22-E5C1-4D4B-BED3-616B4339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CDB7-8C2F-49D5-A5EB-3C8E6318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1B18-8D17-4686-A896-DCC568E7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9592-7F82-4FD0-92D1-C14CEBF6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0C411-EE23-4E10-9C1F-CBA600D4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F50EA-EBDD-4116-B26C-1170B81C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24F4-4F96-455F-BFD1-5D8BC896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A78DE-E267-484B-AFD6-B25B06C3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43A-AE6F-46F0-B4CC-7CEF5B44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2729-6526-4203-B085-69A5D93D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1E88-8689-479B-82A3-9D5EAA8C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C8D8-65CA-4A13-B3D1-EB5EFD3A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A16E-2C51-47F9-8CCC-A2497236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25263-9AD7-4631-AA68-D251D52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60C9-59B5-4D64-AA00-F76BF0FC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6B51-1128-43B6-924D-67C46025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CA85-5315-4D37-BCE4-7D2E4D40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A852C-33CE-4F68-8186-165BBF08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F5DB4-DCDA-44A4-8070-BE31A726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402-627E-4C53-9BF7-AEFCB7B4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8E355-E68D-4202-9F4D-BAECE6EE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A666D-8651-4B93-A54F-3FBD8DD7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CB02A-17CB-4FDE-896E-DF3D0CDC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B232B-00F6-4E9D-B182-CFE9E86F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9A862-1AC7-45EC-A167-04615003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4D4F-BDA2-4CDF-9F7C-ABB7874F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2CB7D-D338-4B42-B008-FC0CFAAF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C276D-2476-4771-89AE-EC329B9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2807D-DC9F-4CD6-A4AA-C36D2023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5F610-1FF4-41B4-8ED4-83F76AFE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90B-2D0B-4CBA-B252-83EDB38B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F353A-34B0-4251-9D20-FC553989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855-D438-4F8F-82E8-F1AA1A9D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6FD-82F2-468E-8A1F-47A03D52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F99-22FC-49C5-8206-E508A627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1A9F-AE43-4CCD-88CA-8EA3721D46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5446-4916-4876-B72B-C25D26DD87F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31C1-F596-4EDA-8A58-EC3C43E9BC2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FD90-CDBB-4058-A008-54546080895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2ED5-F357-4155-A0A2-0C8F537DF5F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internet-law.ru/gosts/gost/27759/" TargetMode="External"/><Relationship Id="rId3" Type="http://schemas.openxmlformats.org/officeDocument/2006/relationships/hyperlink" Target="https://internet-law.ru/gosts/gost/27759/" TargetMode="External"/><Relationship Id="rId4" Type="http://schemas.openxmlformats.org/officeDocument/2006/relationships/hyperlink" Target="https://internet-law.ru/stroyka/text/16892/" TargetMode="External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alibri"/>
              </a:rPr>
              <a:t>Жидкова Е.В.</a:t>
            </a:r>
            <a:br>
              <a:rPr sz="4300"/>
            </a:br>
            <a:br>
              <a:rPr sz="4300"/>
            </a:br>
            <a:r>
              <a:rPr b="1" i="1" lang="ru-RU" sz="4300" spc="-1" strike="noStrike">
                <a:solidFill>
                  <a:srgbClr val="572314"/>
                </a:solidFill>
                <a:latin typeface="Calibri"/>
              </a:rPr>
              <a:t> «Жмыхи.Шроты.БФК»</a:t>
            </a:r>
            <a:endParaRPr b="0" lang="en-US" sz="43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100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296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мы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– растительная масса, остающаяся после прессования масличного сырья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rcRect l="13471" t="4491" r="12420" b="7867"/>
          <a:stretch/>
        </p:blipFill>
        <p:spPr>
          <a:xfrm>
            <a:off x="3581280" y="1219320"/>
            <a:ext cx="2362320" cy="2093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43000" y="33526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ро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– отходы, получаемые в результате экстракционного производства масла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rcRect l="13471" t="0" r="25899" b="7096"/>
          <a:stretch/>
        </p:blipFill>
        <p:spPr>
          <a:xfrm>
            <a:off x="3581280" y="42670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49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Arial"/>
              </a:rPr>
              <a:t>Виды жмыхов и шротов</a:t>
            </a:r>
            <a:endParaRPr b="0" lang="en-US" sz="28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100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1009"/>
                </a:solidFill>
                <a:latin typeface="Arial"/>
              </a:rPr>
              <a:t>Подсолнечные, льняные, хлопковые, маковые, конопляные, соевые, арахисовые, кунжутные, рапсовые, рыжиковые, клещевинные, кукуруз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23623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imes New Roman"/>
              </a:rPr>
              <a:t>Сравнение жмыхов и шрото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371600" y="3200400"/>
            <a:ext cx="7543800" cy="2556000"/>
            <a:chOff x="1371600" y="3200400"/>
            <a:chExt cx="7543800" cy="255600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rcRect l="3049" t="30162" r="37004" b="38096"/>
            <a:stretch/>
          </p:blipFill>
          <p:spPr>
            <a:xfrm>
              <a:off x="1371600" y="3200400"/>
              <a:ext cx="7543800" cy="25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 txBox="1"/>
            <p:nvPr/>
          </p:nvSpPr>
          <p:spPr>
            <a:xfrm>
              <a:off x="1371600" y="3200400"/>
              <a:ext cx="7543800" cy="25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</a:rPr>
              <a:t>Химический состав и питательность     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</a:rPr>
              <a:t>жмыхов и шротов</a:t>
            </a:r>
            <a:endParaRPr b="0" lang="en-US" sz="32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Состав и питательность жмыхов и шрота (в %)"/>
          <p:cNvPicPr/>
          <p:nvPr/>
        </p:nvPicPr>
        <p:blipFill>
          <a:blip r:embed="rId2"/>
          <a:stretch/>
        </p:blipFill>
        <p:spPr>
          <a:xfrm>
            <a:off x="380880" y="1600200"/>
            <a:ext cx="87631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Arial"/>
              </a:rPr>
              <a:t>Белково-фосфатидный концентрат </a:t>
            </a:r>
            <a:r>
              <a:rPr b="1" lang="ru-RU" sz="2800" spc="-1" strike="noStrike">
                <a:solidFill>
                  <a:srgbClr val="572314"/>
                </a:solidFill>
                <a:latin typeface="Arial Unicode MS"/>
              </a:rPr>
              <a:t>-</a:t>
            </a:r>
            <a:r>
              <a:rPr b="1" lang="ru-RU" sz="28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72314"/>
                </a:solidFill>
                <a:latin typeface="Arial Unicode MS"/>
              </a:rPr>
              <a:t>побочный продукт</a:t>
            </a:r>
            <a:r>
              <a:rPr b="0" lang="ru-RU" sz="3900" spc="-1" strike="noStrike">
                <a:solidFill>
                  <a:srgbClr val="572314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572314"/>
                </a:solidFill>
                <a:latin typeface="Arial Unicode MS"/>
              </a:rPr>
              <a:t>рафинации</a:t>
            </a:r>
            <a:r>
              <a:rPr b="0" lang="ru-RU" sz="3900" spc="-1" strike="noStrike">
                <a:solidFill>
                  <a:srgbClr val="572314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572314"/>
                </a:solidFill>
                <a:latin typeface="Arial"/>
              </a:rPr>
              <a:t>растительного</a:t>
            </a:r>
            <a:r>
              <a:rPr b="1" lang="ru-RU" sz="2800" spc="-1" strike="noStrike">
                <a:solidFill>
                  <a:srgbClr val="572314"/>
                </a:solidFill>
                <a:latin typeface="Arial Unicode MS"/>
              </a:rPr>
              <a:t> масла</a:t>
            </a:r>
            <a:r>
              <a:rPr b="1" lang="ru-RU" sz="2800" spc="-1" strike="noStrike">
                <a:solidFill>
                  <a:srgbClr val="57231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56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Продукт имеет текущую консистенцию и используется в пищевой, кормовой промышлен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является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высокоэнергетическим компонентом и источником ненасыщенных жирных кислот в комбикорм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rcRect l="18091" t="12805" r="19601" b="15201"/>
          <a:stretch/>
        </p:blipFill>
        <p:spPr>
          <a:xfrm>
            <a:off x="4495680" y="3733920"/>
            <a:ext cx="19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410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Arial"/>
              </a:rPr>
              <a:t>ТРЕБОВАНИЯ К КАЧЕСТВУ ЖМЫХОВ И ШРОТОВ (на примере подсолнечного)</a:t>
            </a:r>
            <a:endParaRPr b="0" lang="en-US" sz="2800" spc="-1" strike="noStrike">
              <a:solidFill>
                <a:srgbClr val="572314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752120"/>
            <a:ext cx="7499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Arial Unicode MS"/>
              </a:rPr>
              <a:t>ГОСТ 80-96</a:t>
            </a:r>
            <a:br>
              <a:rPr sz="2800"/>
            </a:br>
            <a:r>
              <a:rPr b="1" lang="ru-RU" sz="2800" spc="-1" strike="noStrike">
                <a:solidFill>
                  <a:srgbClr val="4f271c"/>
                </a:solidFill>
                <a:latin typeface="Arial Unicode MS"/>
              </a:rPr>
              <a:t>«Жмых подсолнечный. Технические условия»</a:t>
            </a:r>
            <a:br>
              <a:rPr sz="2800"/>
            </a:br>
            <a:r>
              <a:rPr b="1" lang="ru-RU" sz="2800" spc="-1" strike="noStrike" u="sng">
                <a:solidFill>
                  <a:srgbClr val="8dc765"/>
                </a:solidFill>
                <a:uFillTx/>
                <a:latin typeface="Arial Unicode MS"/>
                <a:hlinkClick r:id="rId2"/>
              </a:rPr>
              <a:t>https</a:t>
            </a:r>
            <a:r>
              <a:rPr b="1" lang="ru-RU" sz="2800" spc="-1" strike="noStrike" u="sng">
                <a:solidFill>
                  <a:srgbClr val="8dc765"/>
                </a:solidFill>
                <a:uFillTx/>
                <a:latin typeface="Arial Unicode MS"/>
                <a:hlinkClick r:id="rId3"/>
              </a:rPr>
              <a:t>://internet-law.ru/gosts/gost/27759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Arial Unicode MS"/>
              </a:rPr>
              <a:t>ГОСТ 11246-96 «Шрот подсолнечный. Технические услови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alibri"/>
                <a:hlinkClick r:id="rId4"/>
              </a:rPr>
              <a:t>https://internet-law.ru/stroyka/text/1689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9T06:59:07Z</dcterms:created>
  <dc:creator>БМТК</dc:creator>
  <dc:description/>
  <dc:language>en-US</dc:language>
  <cp:lastModifiedBy>БМТК</cp:lastModifiedBy>
  <dcterms:modified xsi:type="dcterms:W3CDTF">2020-04-06T12:50:23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