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png" ContentType="image/png"/>
  <Override PartName="/ppt/media/image1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6.jpeg" ContentType="image/jpeg"/>
  <Override PartName="/ppt/media/image2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21A-F70C-4602-A32D-EA479EED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DB8-02F0-4065-B5D7-207C5109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CFC-A5A2-49D5-A94C-10CF7481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74A-6E31-47ED-B942-4DE07202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E516-3425-412D-A290-3DBAB923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C17A-EC42-4D7C-9D79-F236327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D18B-A0D0-4629-9F62-D4B4006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66E9-3BA4-4E49-829F-A8A6E4AC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D207-FF20-4FAF-B06D-968B27A0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25E3-76B1-44F1-846D-17CB76F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652E-D18A-4A14-BA56-5C0D29E1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098-85F3-41DF-B9A5-6472E5CE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AAF7-DA5A-4373-AD54-06390FF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5C1E-98DD-4603-9497-27265F0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3C4F-FB55-4555-8E37-1C45E76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51ED-17FE-42C5-A0D9-C7E13EFB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FADC-6FC9-4ECD-A79D-078A9CE9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2BC0-9095-49D2-8094-12F3D5DF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69B5-97DE-4875-9A16-1B8725AE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EBF3-965F-4FBE-82F9-A4DA7DE1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2B01-AF69-4313-9A07-32B2600E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C25D-8187-431A-B338-57BC1D07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CA3-77D9-48B5-97CD-EC8C366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00BD-4A7E-4D64-9C0F-47F9C30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5100-AA3D-42C6-B3F3-D68DF79C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65B3-BF8E-452C-97B2-9C1863C9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CB15-E788-4BA3-B790-E11A601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338E-9FF4-4BF2-80EA-DE593DB8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1025-4C30-4E52-AC2A-AE3089A5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83B0-11F4-4F58-8E29-76AF7357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CEE1-394A-4840-9EF6-2DC705A0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C0BE-858A-48E4-98B9-B003BB52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7E94-B36F-4892-AC23-2D8519EB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19D-B489-4AD6-96AC-6A42564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18D2-3937-4440-9F0D-9D55FDE5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1AA8-9113-4FAF-8BCD-6ED765B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200D-6EFF-4F2A-9B13-F62FA73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6841-DFCE-41E6-B8B6-632A4535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0131B-CF76-4DCC-BDC3-9A8E695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357E-7C53-4D48-9AE1-91BE482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934C-11A3-4F73-B679-80A35B64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5451-63B7-47BB-A830-F9A17D30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FCE58-0108-4127-A54E-08CE4212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AB20-83FB-4B14-BC10-61E10F28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751-01D7-403C-85D3-196254B6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A760-5606-4E1F-9683-2C8C6C0F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C209-BA5A-4B44-B4FB-C5945120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D2DB-1078-4252-99AC-081F7641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8E3FA-274B-4851-8555-D57E65AA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345F-2C1F-497D-85EA-101C6E7C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E45C-E310-4C14-B92A-50124FF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177E-329E-4BD9-A441-7C2E62D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DBC8-42B2-461D-B9E0-12BF7F10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D142-A49E-4EBB-91C4-EE2126D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1C1C9-97B1-49AC-A1C1-78A855B8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8F9-1CA6-4839-85D0-A5D9828B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FFD7-0D75-456B-B140-A3191FFA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90844-4D30-4FFE-BAB2-F94A766D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A7C19-B0E9-4182-9873-8CC350C2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0B664-A166-4518-B22E-7BAF97F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D9BCE-9B1E-4A25-840D-4DBF2297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97848-0D76-47A5-A39B-16E7DB51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0FCC0-2F6A-45E6-AEE0-1F94660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0249A-2858-4DD9-A764-704991F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82B7D-D9FA-446E-BAE7-615F0C33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C76DC-B651-4144-9CD7-4422403E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2D0-80B2-4536-8866-704776B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F69D3-5E23-40C6-9B91-928BE189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9F65E-9B66-49D7-8262-A90972A2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DF363-9BAE-4929-BD57-63D41D7D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1CDAC-5B1E-4C82-A3E0-F706BC7E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E975B-2F02-4EA6-AE4E-61C6D49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6813-0655-4ABB-8995-AD47C720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D365B-FAA9-442C-A718-199E79B7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10CA9-CA03-487A-911A-9A2E75C2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EF4D-D636-4453-99A0-6DDDF5DF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A94C0-0B99-4FC7-8C36-DCA758F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955-ADDC-42ED-8212-6D12676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10D1-2040-48E9-943C-5F45B83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41441-B147-4BCA-BACC-2592314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219A-D6E0-4AAF-B245-78250BE1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7A56-FC22-4C10-A075-85C47CB0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54AA0-A4B1-4955-95BD-D2034FE4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DFF-3EBA-4C5C-BFF1-2215FAA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2BEB-A028-408E-9676-6B0A4B636115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E0CE-0191-46E9-812A-B901617F821F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DAF-3BB0-4658-817B-2673E62A99B3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429D-C1B0-48E3-8F47-FBEBAA1FA12D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1A39-9855-4043-9639-F0F00B6B97AE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E2D2-F87B-4606-9FF8-F79D33603AE7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B03A-08FE-4914-AD38-5D4B56832359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3352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1991 г. были провозглашены независимость Чечни и выход из состава СССР, сформировались чеченские воинские части. Президентом самопровозглашенного государства стал бывший советский генерал 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ДМ. Дудаев.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дготовила: Бойко О.Ю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066680" y="457200"/>
            <a:ext cx="7239240" cy="1295280"/>
          </a:xfrm>
          <a:prstGeom prst="rect">
            <a:avLst/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вая чечен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0" name="Объект 4" descr=""/>
          <p:cNvPicPr/>
          <p:nvPr/>
        </p:nvPicPr>
        <p:blipFill>
          <a:blip r:embed="rId1"/>
          <a:stretch/>
        </p:blipFill>
        <p:spPr>
          <a:xfrm>
            <a:off x="304920" y="473040"/>
            <a:ext cx="8534160" cy="53942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3" name="Объект 4" descr="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6228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6" name="Объект 4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607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33520" y="3808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Так давайте же не забывать друг о друге, помнить о том, что рядом с нами живет тот; кого гордо называют защитником Отечеств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Рисунок 1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2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49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80_1"/>
          <p:cNvPicPr/>
          <p:nvPr/>
        </p:nvPicPr>
        <p:blipFill>
          <a:blip r:embed="rId1"/>
          <a:stretch/>
        </p:blipFill>
        <p:spPr>
          <a:xfrm>
            <a:off x="1905120" y="0"/>
            <a:ext cx="490032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6553080" y="3886200"/>
            <a:ext cx="2467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сия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3" name="WordArt 6"/>
          <p:cNvSpPr txBox="1"/>
          <p:nvPr/>
        </p:nvSpPr>
        <p:spPr>
          <a:xfrm>
            <a:off x="304920" y="4038480"/>
            <a:ext cx="3047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ни нас,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661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33520" y="5335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1993 г. Дудаев распустил парламент Чечни, в республике утвердился диктаторский режи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1 декабря 1994 г. началась 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первая чеченская война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34" name="Picture 4" descr="187_1_0"/>
          <p:cNvPicPr/>
          <p:nvPr/>
        </p:nvPicPr>
        <p:blipFill>
          <a:blip r:embed="rId1"/>
          <a:stretch/>
        </p:blipFill>
        <p:spPr>
          <a:xfrm>
            <a:off x="1447920" y="3124080"/>
            <a:ext cx="655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8_10"/>
          <p:cNvPicPr/>
          <p:nvPr/>
        </p:nvPicPr>
        <p:blipFill>
          <a:blip r:embed="rId1"/>
          <a:stretch/>
        </p:blipFill>
        <p:spPr>
          <a:xfrm>
            <a:off x="6400800" y="380880"/>
            <a:ext cx="2400480" cy="3333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49b"/>
          <p:cNvPicPr/>
          <p:nvPr/>
        </p:nvPicPr>
        <p:blipFill>
          <a:blip r:embed="rId2"/>
          <a:stretch/>
        </p:blipFill>
        <p:spPr>
          <a:xfrm>
            <a:off x="1600200" y="3429000"/>
            <a:ext cx="3962520" cy="24969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533520" y="609480"/>
            <a:ext cx="54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ые войска вступили на территорию Чечни и к лету 1995 г. после тяжелых боев заняли основные населенные пункты республ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ойна, явление жестокое, страшное, но пока существуют на земле злоба, ненависть будут существовать и войны, которые наносят боевые раны людям, уносят из жизни детей и близких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39" name="Picture 4" descr="2"/>
          <p:cNvPicPr/>
          <p:nvPr/>
        </p:nvPicPr>
        <p:blipFill>
          <a:blip r:embed="rId1"/>
          <a:stretch/>
        </p:blipFill>
        <p:spPr>
          <a:xfrm>
            <a:off x="3733920" y="457200"/>
            <a:ext cx="1581120" cy="1392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1_21"/>
          <p:cNvPicPr/>
          <p:nvPr/>
        </p:nvPicPr>
        <p:blipFill>
          <a:blip r:embed="rId2"/>
          <a:stretch/>
        </p:blipFill>
        <p:spPr>
          <a:xfrm>
            <a:off x="5715000" y="4343400"/>
            <a:ext cx="2419200" cy="1708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9"/>
          <p:cNvPicPr/>
          <p:nvPr/>
        </p:nvPicPr>
        <p:blipFill>
          <a:blip r:embed="rId3"/>
          <a:stretch/>
        </p:blipFill>
        <p:spPr>
          <a:xfrm>
            <a:off x="1371600" y="442116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сень 1999 г. отряды боевиков вторглись на территорию Дагестана. В сентябре 1999 г. в ряде городов России, в том числе и Москве, были совершены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террористические акты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унесшие жизни нескольких сот человек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тветные меры Правительства носили жесткий и решительный характер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3" name="WordArt 4"/>
          <p:cNvSpPr txBox="1"/>
          <p:nvPr/>
        </p:nvSpPr>
        <p:spPr>
          <a:xfrm>
            <a:off x="533520" y="4572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торая чеченская вой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44" name="Picture 5" descr="0"/>
          <p:cNvPicPr/>
          <p:nvPr/>
        </p:nvPicPr>
        <p:blipFill>
          <a:blip r:embed="rId1"/>
          <a:stretch/>
        </p:blipFill>
        <p:spPr>
          <a:xfrm>
            <a:off x="7238880" y="5257800"/>
            <a:ext cx="19051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33520" y="5335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 контртеррористической операции было привлечено около 150 тыс. военнослужащих, сил милиции и внутренних войск (против примерно 20 тыс. боевиков)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6" name="Picture 4" descr="45"/>
          <p:cNvPicPr/>
          <p:nvPr/>
        </p:nvPicPr>
        <p:blipFill>
          <a:blip r:embed="rId1"/>
          <a:stretch/>
        </p:blipFill>
        <p:spPr>
          <a:xfrm>
            <a:off x="1371600" y="2819520"/>
            <a:ext cx="6324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5" descr="chechnya_01"/>
          <p:cNvPicPr/>
          <p:nvPr/>
        </p:nvPicPr>
        <p:blipFill>
          <a:blip r:embed="rId1"/>
          <a:stretch/>
        </p:blipFill>
        <p:spPr>
          <a:xfrm>
            <a:off x="4114800" y="380880"/>
            <a:ext cx="4692600" cy="2793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is"/>
          <p:cNvPicPr/>
          <p:nvPr/>
        </p:nvPicPr>
        <p:blipFill>
          <a:blip r:embed="rId2"/>
          <a:stretch/>
        </p:blipFill>
        <p:spPr>
          <a:xfrm>
            <a:off x="762120" y="609480"/>
            <a:ext cx="3124080" cy="2210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Pervaja_chechenskaya_vojna_Photo_Felixa_Titova2"/>
          <p:cNvPicPr/>
          <p:nvPr/>
        </p:nvPicPr>
        <p:blipFill>
          <a:blip r:embed="rId3"/>
          <a:stretch/>
        </p:blipFill>
        <p:spPr>
          <a:xfrm>
            <a:off x="1523880" y="3505320"/>
            <a:ext cx="5410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33520" y="6091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марте 2003 г. на референдуме в Чеченской Республике была принята новая Конституция, согласно которой Чечня является неотъемлемой частью Российской Федерации. Президентом Чеченской Республики стал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i="1" lang="ru-RU" sz="2400" spc="-1" strike="noStrike">
                <a:solidFill>
                  <a:srgbClr val="564b3c"/>
                </a:solidFill>
                <a:latin typeface="Century Gothic"/>
              </a:rPr>
              <a:t>Кадыр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1" name="Picture 4" descr="ен"/>
          <p:cNvPicPr/>
          <p:nvPr/>
        </p:nvPicPr>
        <p:blipFill>
          <a:blip r:embed="rId1"/>
          <a:stretch/>
        </p:blipFill>
        <p:spPr>
          <a:xfrm>
            <a:off x="7315200" y="3808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кадыров"/>
          <p:cNvPicPr/>
          <p:nvPr/>
        </p:nvPicPr>
        <p:blipFill>
          <a:blip r:embed="rId2"/>
          <a:stretch/>
        </p:blipFill>
        <p:spPr>
          <a:xfrm>
            <a:off x="6934320" y="4603680"/>
            <a:ext cx="19047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4" name="Объект 3" descr=""/>
          <p:cNvPicPr/>
          <p:nvPr/>
        </p:nvPicPr>
        <p:blipFill>
          <a:blip r:embed="rId1"/>
          <a:stretch/>
        </p:blipFill>
        <p:spPr>
          <a:xfrm>
            <a:off x="1952640" y="1752480"/>
            <a:ext cx="5238720" cy="43736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"/>
          <p:cNvPicPr/>
          <p:nvPr/>
        </p:nvPicPr>
        <p:blipFill>
          <a:blip r:embed="rId2"/>
          <a:stretch/>
        </p:blipFill>
        <p:spPr>
          <a:xfrm>
            <a:off x="-380880" y="152280"/>
            <a:ext cx="4495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User</cp:lastModifiedBy>
  <dcterms:modified xsi:type="dcterms:W3CDTF">2020-04-07T10:30:40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