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627-2BC3-44F0-BFC8-B5D3613346C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CCFE-DE51-44A3-88FC-B4B8A38C34A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BEC8-408F-4DCA-90FF-A518029AEE43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CFE5-30B6-46E2-BB89-70502064A9B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442-B7F1-4829-BAAC-384BC5A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3A4-4DC4-4409-93D4-DB4A174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2C8-CA58-47CF-8CCF-C8253611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8F8-1A65-4FD6-9DA6-37F223BC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624-580A-4D9F-8E87-80452E9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B13-8194-42DA-9AA4-10BED0F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394-2DF0-4DBB-8AA5-720C339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D18-36CC-48B7-B7A3-32989E8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396-D6A4-4B4D-86F6-6E379C6F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ADD-DC31-4897-8AEC-93CC8A1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FEB-32BB-43D8-83B4-2A243E1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87E-9C21-4817-B2D0-834EF1C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3FB-EA63-44D0-96D5-3ACB915C9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95280" y="2858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1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члены предложения.  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0" y="2708280"/>
            <a:ext cx="785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Цель: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знания об однородных членах предложения и знаках препинания при ни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image\Рабочий стол\images.jpeg"/>
          <p:cNvPicPr/>
          <p:nvPr/>
        </p:nvPicPr>
        <p:blipFill>
          <a:blip r:embed="rId1"/>
          <a:stretch/>
        </p:blipFill>
        <p:spPr>
          <a:xfrm>
            <a:off x="6991200" y="450072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16000" y="549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надо зна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59280" y="549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надо уме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11280" y="1484280"/>
            <a:ext cx="381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Script MT Bold"/>
              </a:rPr>
              <a:t>1. Признаки  однородных членов предлож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859280" y="1197000"/>
            <a:ext cx="3816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Script MT Bold"/>
              </a:rPr>
              <a:t>Находить в тексте  однородные члены предлож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Script MT Bold"/>
              </a:rPr>
              <a:t>Правильно расставлять знаки препинания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Script MT Bold"/>
              </a:rPr>
              <a:t>Употреблять в своей речи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¦¬¦-TЖ¦-¦- ¦+TГ¦-¦-TОTЙ¦¬¦¦"/>
          <p:cNvPicPr/>
          <p:nvPr/>
        </p:nvPicPr>
        <p:blipFill>
          <a:blip r:embed="rId1"/>
          <a:stretch/>
        </p:blipFill>
        <p:spPr>
          <a:xfrm>
            <a:off x="2700360" y="3284640"/>
            <a:ext cx="2521080" cy="324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87280" y="0"/>
            <a:ext cx="795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днородными членами предложе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ся такие чле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, которые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чают на один и тот же в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носятся к одному и тому же члену предлож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единяются между собой сочинительной связ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Рисунок3"/>
          <p:cNvPicPr/>
          <p:nvPr/>
        </p:nvPicPr>
        <p:blipFill>
          <a:blip r:embed="rId1"/>
          <a:stretch/>
        </p:blipFill>
        <p:spPr>
          <a:xfrm>
            <a:off x="1258920" y="5589720"/>
            <a:ext cx="15127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-284040" y="1939320"/>
            <a:ext cx="1971360" cy="2968200"/>
            <a:chOff x="-284040" y="1939320"/>
            <a:chExt cx="1971360" cy="2968200"/>
          </a:xfrm>
        </p:grpSpPr>
        <p:sp>
          <p:nvSpPr>
            <p:cNvPr id="65" name="WordArt 108"/>
            <p:cNvSpPr txBox="1"/>
            <p:nvPr/>
          </p:nvSpPr>
          <p:spPr>
            <a:xfrm rot="20833200">
              <a:off x="0" y="2060640"/>
              <a:ext cx="1403280" cy="272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cc3300"/>
                  </a:solidFill>
                  <a:latin typeface="Times New Roman"/>
                </a:rPr>
                <a:t>?</a:t>
              </a:r>
              <a:endPara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6" name="Oval 111"/>
            <p:cNvSpPr/>
            <p:nvPr/>
          </p:nvSpPr>
          <p:spPr>
            <a:xfrm rot="5400000">
              <a:off x="971640" y="2414880"/>
              <a:ext cx="28548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11"/>
            <p:cNvSpPr/>
            <p:nvPr/>
          </p:nvSpPr>
          <p:spPr>
            <a:xfrm rot="5400000">
              <a:off x="756000" y="2414880"/>
              <a:ext cx="28548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9"/>
            <p:cNvSpPr/>
            <p:nvPr/>
          </p:nvSpPr>
          <p:spPr>
            <a:xfrm rot="5670600">
              <a:off x="878760" y="2740320"/>
              <a:ext cx="152280" cy="257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fill="none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</a:path>
                <a:path stroke="0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  <a:lnTo>
                    <a:pt x="3900" y="20539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11"/>
            <p:cNvSpPr/>
            <p:nvPr/>
          </p:nvSpPr>
          <p:spPr>
            <a:xfrm rot="5400000">
              <a:off x="983520" y="2486520"/>
              <a:ext cx="19224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11"/>
            <p:cNvSpPr/>
            <p:nvPr/>
          </p:nvSpPr>
          <p:spPr>
            <a:xfrm rot="5400000">
              <a:off x="761040" y="2492640"/>
              <a:ext cx="20304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2340000" y="6137280"/>
            <a:ext cx="865080" cy="720720"/>
            <a:chOff x="2340000" y="6137280"/>
            <a:chExt cx="865080" cy="720720"/>
          </a:xfrm>
        </p:grpSpPr>
        <p:sp>
          <p:nvSpPr>
            <p:cNvPr id="72" name="WordArt 108"/>
            <p:cNvSpPr txBox="1"/>
            <p:nvPr/>
          </p:nvSpPr>
          <p:spPr>
            <a:xfrm>
              <a:off x="2340000" y="6137280"/>
              <a:ext cx="8650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cc3300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3" name="Oval 111"/>
            <p:cNvSpPr/>
            <p:nvPr/>
          </p:nvSpPr>
          <p:spPr>
            <a:xfrm rot="5400000">
              <a:off x="2691360" y="6234840"/>
              <a:ext cx="107640" cy="16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11"/>
            <p:cNvSpPr/>
            <p:nvPr/>
          </p:nvSpPr>
          <p:spPr>
            <a:xfrm rot="5400000">
              <a:off x="2992680" y="6220440"/>
              <a:ext cx="107640" cy="16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rc 16"/>
            <p:cNvSpPr/>
            <p:nvPr/>
          </p:nvSpPr>
          <p:spPr>
            <a:xfrm rot="5670600">
              <a:off x="2875680" y="6266520"/>
              <a:ext cx="93240" cy="3333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1"/>
            <p:cNvSpPr/>
            <p:nvPr/>
          </p:nvSpPr>
          <p:spPr>
            <a:xfrm rot="5400000">
              <a:off x="2972520" y="6258600"/>
              <a:ext cx="68040" cy="82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1"/>
            <p:cNvSpPr/>
            <p:nvPr/>
          </p:nvSpPr>
          <p:spPr>
            <a:xfrm rot="5400000">
              <a:off x="2660040" y="6277320"/>
              <a:ext cx="68040" cy="82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9" descr="Рисунок3"/>
          <p:cNvPicPr/>
          <p:nvPr/>
        </p:nvPicPr>
        <p:blipFill>
          <a:blip r:embed="rId2"/>
          <a:stretch/>
        </p:blipFill>
        <p:spPr>
          <a:xfrm>
            <a:off x="3635280" y="5613480"/>
            <a:ext cx="1513080" cy="1244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Рисунок3"/>
          <p:cNvPicPr/>
          <p:nvPr/>
        </p:nvPicPr>
        <p:blipFill>
          <a:blip r:embed="rId3"/>
          <a:stretch/>
        </p:blipFill>
        <p:spPr>
          <a:xfrm>
            <a:off x="5867280" y="5613480"/>
            <a:ext cx="15130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21"/>
          <p:cNvGrpSpPr/>
          <p:nvPr/>
        </p:nvGrpSpPr>
        <p:grpSpPr>
          <a:xfrm>
            <a:off x="4859280" y="6137280"/>
            <a:ext cx="865080" cy="720720"/>
            <a:chOff x="4859280" y="6137280"/>
            <a:chExt cx="865080" cy="720720"/>
          </a:xfrm>
        </p:grpSpPr>
        <p:sp>
          <p:nvSpPr>
            <p:cNvPr id="81" name="WordArt 108"/>
            <p:cNvSpPr txBox="1"/>
            <p:nvPr/>
          </p:nvSpPr>
          <p:spPr>
            <a:xfrm>
              <a:off x="4859280" y="6137280"/>
              <a:ext cx="8650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cc3300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2" name="Oval 111"/>
            <p:cNvSpPr/>
            <p:nvPr/>
          </p:nvSpPr>
          <p:spPr>
            <a:xfrm rot="5400000">
              <a:off x="5210280" y="6234480"/>
              <a:ext cx="107640" cy="16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1"/>
            <p:cNvSpPr/>
            <p:nvPr/>
          </p:nvSpPr>
          <p:spPr>
            <a:xfrm rot="5400000">
              <a:off x="5511960" y="6220440"/>
              <a:ext cx="107640" cy="16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25"/>
            <p:cNvSpPr/>
            <p:nvPr/>
          </p:nvSpPr>
          <p:spPr>
            <a:xfrm rot="5670600">
              <a:off x="5394960" y="6266520"/>
              <a:ext cx="93240" cy="3333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1"/>
            <p:cNvSpPr/>
            <p:nvPr/>
          </p:nvSpPr>
          <p:spPr>
            <a:xfrm rot="5400000">
              <a:off x="5491800" y="6258600"/>
              <a:ext cx="68040" cy="82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11"/>
            <p:cNvSpPr/>
            <p:nvPr/>
          </p:nvSpPr>
          <p:spPr>
            <a:xfrm rot="5400000">
              <a:off x="5179320" y="6277320"/>
              <a:ext cx="68040" cy="82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однородных член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6760" y="1071720"/>
            <a:ext cx="7715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Отвечают  на один и тот</a:t>
            </a:r>
            <a:r>
              <a:rPr b="1" i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же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Относятся к одному и тому же члену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Являются одним членом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Обычно выражены одной и той же частью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cript MT Bold"/>
              </a:rPr>
              <a:t>Произносятся с перечислительной интонацией, на письме соединяются союзами и запят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Documents and Settings\image\Рабочий стол\92d313d7c61b8d6d7b43eedd8c943c3f.gif"/>
          <p:cNvPicPr/>
          <p:nvPr/>
        </p:nvPicPr>
        <p:blipFill>
          <a:blip r:embed="rId1"/>
          <a:stretch/>
        </p:blipFill>
        <p:spPr>
          <a:xfrm>
            <a:off x="0" y="5056200"/>
            <a:ext cx="2424240" cy="18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Добавь в предложение однородные члены: На озере ребята купались ...  Солнце осветило луг...  С юга прилетели грачи...  Воздух был прохладен...  Работа шла бодро…  Составьте схемы записанных предложений 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Кто укажет больше действий? Птицы … Ветер … Река … Солнце… Каникулы… Последний однородный член присоедини союзом  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Найди однородные члены. Расставь знаки препинания. Я люблю математику физику литературу и музыку.  Дятлы и зяблики синицы и соловьи обитают в наших лесах.  На крыше сарая оторванный лист железа гремел и трепался на ветру а не падал.  Утро было солнечное безветренное но не жаркое.  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Светлана</cp:lastModifiedBy>
  <dcterms:modified xsi:type="dcterms:W3CDTF">2020-04-07T15:53:09Z</dcterms:modified>
  <cp:revision>55</cp:revision>
  <dc:subject/>
  <dc:title>Тема : Знаки препинания в предложениях с однородными членами</dc:title>
</cp:coreProperties>
</file>