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6.wmf" ContentType="image/x-wmf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F0F-EE2E-46F2-ABCD-AEE03331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44B-B242-4677-A29E-A8B805C4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5CB-1305-4F6B-8369-A0069574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58E5-9B8B-4DF2-8FF3-CCB2EFA0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2B3-4C67-450B-AB41-426FE9E0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B13-5987-4348-86AC-6462F7F3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6D1-6588-46FE-AAD2-296C7363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A580-FE39-450C-8D08-D95B7A58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D191-ABCE-4394-9682-31556F8F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A3D-AE58-45B2-860A-F096A9A7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EC2-45D4-40EE-91B4-A1CA8E9D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0BD4-F96E-4FDE-BBC5-6F8CE8F5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597D-1659-4A42-9585-DA9C6E3BD8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Титул_7.JPG"/>
          <p:cNvPicPr/>
          <p:nvPr/>
        </p:nvPicPr>
        <p:blipFill>
          <a:blip r:embed="rId2"/>
          <a:stretch/>
        </p:blipFill>
        <p:spPr>
          <a:xfrm>
            <a:off x="1440" y="144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ИЗУАЛИЗАЦИЯ ИНФОРМАЦИИ В ТЕКСТОВЫХ ДОКУМЕНТ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42560" y="1052640"/>
            <a:ext cx="76438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умерованные спи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ркированные спи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ногоуровневые спи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афические изобра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изуализац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116000" y="765000"/>
            <a:ext cx="7596360" cy="1434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изуализация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представление информации в наглядном виде. Текстовую информацию представляют в виде списков, таблиц, диаграмм, снабжают иллюстрациями  (фотографиями, схемами, рисунк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2484360" y="3284640"/>
            <a:ext cx="2160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пис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 flipV="1">
            <a:off x="1835280" y="2924280"/>
            <a:ext cx="1440" cy="2736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 flipH="1">
            <a:off x="1834920" y="3500280"/>
            <a:ext cx="647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1332000" y="2421000"/>
            <a:ext cx="4752720" cy="5047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Визуализация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484360" y="4005360"/>
            <a:ext cx="2160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аб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 flipH="1">
            <a:off x="1834920" y="4221000"/>
            <a:ext cx="647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2484360" y="472428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иа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 flipH="1">
            <a:off x="1834920" y="4940280"/>
            <a:ext cx="647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2484360" y="5445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ллюст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 flipH="1">
            <a:off x="1834920" y="5661000"/>
            <a:ext cx="647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0"/>
          <p:cNvSpPr/>
          <p:nvPr/>
        </p:nvSpPr>
        <p:spPr>
          <a:xfrm>
            <a:off x="5292720" y="3213000"/>
            <a:ext cx="3456000" cy="32907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писок предметов 7 клас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лгеб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глийский язы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иолог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еограф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еомет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нформатика и И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ществозн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сский язы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из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им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р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788000" y="3789360"/>
          <a:ext cx="4176720" cy="2389320"/>
        </p:xfrm>
        <a:graphic>
          <a:graphicData uri="http://schemas.openxmlformats.org/drawingml/2006/table">
            <a:tbl>
              <a:tblPr/>
              <a:tblGrid>
                <a:gridCol w="1485720"/>
                <a:gridCol w="1298520"/>
                <a:gridCol w="1392480"/>
              </a:tblGrid>
              <a:tr h="350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е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280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цен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280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тема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ванов Са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лова Кат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тров Вит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280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280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280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90" descr=""/>
          <p:cNvPicPr/>
          <p:nvPr/>
        </p:nvPicPr>
        <p:blipFill>
          <a:blip r:embed="rId1"/>
          <a:stretch/>
        </p:blipFill>
        <p:spPr>
          <a:xfrm>
            <a:off x="4943520" y="3068640"/>
            <a:ext cx="4200480" cy="33559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91"/>
          <p:cNvSpPr/>
          <p:nvPr/>
        </p:nvSpPr>
        <p:spPr>
          <a:xfrm>
            <a:off x="4861080" y="64911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иаграмма цв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2" descr=""/>
          <p:cNvPicPr/>
          <p:nvPr/>
        </p:nvPicPr>
        <p:blipFill>
          <a:blip r:embed="rId2"/>
          <a:stretch/>
        </p:blipFill>
        <p:spPr>
          <a:xfrm>
            <a:off x="5867280" y="2997360"/>
            <a:ext cx="2452680" cy="36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пис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116000" y="765000"/>
            <a:ext cx="7596360" cy="1557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возможные перечни в документах оформляются с помощью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ск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нкты перечня рассматриваются как абзацы, оформленные по единому образ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979640" y="3213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умеров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4"/>
          <p:cNvSpPr/>
          <p:nvPr/>
        </p:nvSpPr>
        <p:spPr>
          <a:xfrm flipV="1">
            <a:off x="4138560" y="2925720"/>
            <a:ext cx="720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506920" y="3213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аркиров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4"/>
          <p:cNvSpPr/>
          <p:nvPr/>
        </p:nvSpPr>
        <p:spPr>
          <a:xfrm flipH="1" flipV="1">
            <a:off x="4858920" y="2925720"/>
            <a:ext cx="64764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187280" y="4653000"/>
          <a:ext cx="7777440" cy="2016000"/>
        </p:xfrm>
        <a:graphic>
          <a:graphicData uri="http://schemas.openxmlformats.org/drawingml/2006/table">
            <a:tbl>
              <a:tblPr/>
              <a:tblGrid>
                <a:gridCol w="2544840"/>
                <a:gridCol w="2640240"/>
                <a:gridCol w="2592360"/>
              </a:tblGrid>
              <a:tr h="433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меры нумерованных спис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Араб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Рим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Латин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Рус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Араб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Рим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Латин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Рус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Араб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Рим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Латин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Рус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87" name="Rectangle 9"/>
          <p:cNvSpPr/>
          <p:nvPr/>
        </p:nvSpPr>
        <p:spPr>
          <a:xfrm>
            <a:off x="2556000" y="2421000"/>
            <a:ext cx="4752720" cy="5047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Список –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еречень в докуме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1"/>
          <p:cNvSpPr/>
          <p:nvPr/>
        </p:nvSpPr>
        <p:spPr>
          <a:xfrm>
            <a:off x="1116000" y="3716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мент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умерованного спис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означаются с помощью чисел или букв (латинских или русски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124000" y="4724280"/>
          <a:ext cx="6193080" cy="2016360"/>
        </p:xfrm>
        <a:graphic>
          <a:graphicData uri="http://schemas.openxmlformats.org/drawingml/2006/table">
            <a:tbl>
              <a:tblPr/>
              <a:tblGrid>
                <a:gridCol w="1455840"/>
                <a:gridCol w="1579680"/>
                <a:gridCol w="1573200"/>
                <a:gridCol w="1584360"/>
              </a:tblGrid>
              <a:tr h="433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меры маркированных спис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amp;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amp;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amp;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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amp;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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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90" name="Text Box 66"/>
          <p:cNvSpPr/>
          <p:nvPr/>
        </p:nvSpPr>
        <p:spPr>
          <a:xfrm>
            <a:off x="1116000" y="3716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мент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кированного спис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означаются с помощью значков-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кер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124000" y="4724280"/>
          <a:ext cx="6193080" cy="2016360"/>
        </p:xfrm>
        <a:graphic>
          <a:graphicData uri="http://schemas.openxmlformats.org/drawingml/2006/table">
            <a:tbl>
              <a:tblPr/>
              <a:tblGrid>
                <a:gridCol w="3035520"/>
                <a:gridCol w="3157560"/>
              </a:tblGrid>
              <a:tr h="433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меры трёхуровневых спис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ла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зд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араграф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араграф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92" name="Rectangle 8"/>
          <p:cNvSpPr/>
          <p:nvPr/>
        </p:nvSpPr>
        <p:spPr>
          <a:xfrm>
            <a:off x="1979640" y="3213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дноуровне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 flipV="1">
            <a:off x="4138560" y="2925720"/>
            <a:ext cx="720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5506920" y="3213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ногоуровне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 flipH="1" flipV="1">
            <a:off x="4858920" y="2925720"/>
            <a:ext cx="64764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2556000" y="2421000"/>
            <a:ext cx="4752720" cy="5047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Структура спис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2"/>
          <p:cNvSpPr/>
          <p:nvPr/>
        </p:nvSpPr>
        <p:spPr>
          <a:xfrm>
            <a:off x="1116000" y="37893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исок, элемент которого сам является списком,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ногоуровневы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042920" y="765000"/>
            <a:ext cx="792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описания ряда объектов, обладающих одинаковыми наборами свойств, наиболее часто используются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аблицы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состоящие из столбцов (граф) и стр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258920" y="3365640"/>
          <a:ext cx="7200720" cy="2744640"/>
        </p:xfrm>
        <a:graphic>
          <a:graphicData uri="http://schemas.openxmlformats.org/drawingml/2006/table">
            <a:tbl>
              <a:tblPr/>
              <a:tblGrid>
                <a:gridCol w="3013200"/>
                <a:gridCol w="1022040"/>
                <a:gridCol w="987480"/>
                <a:gridCol w="1090800"/>
                <a:gridCol w="1087200"/>
              </a:tblGrid>
              <a:tr h="396720"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 столбцов (верхний заголово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 rowSpan="4"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 строк (боковой заголово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9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чей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9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01" name="Line 35"/>
          <p:cNvSpPr/>
          <p:nvPr/>
        </p:nvSpPr>
        <p:spPr>
          <a:xfrm flipV="1">
            <a:off x="4859280" y="5812920"/>
            <a:ext cx="0" cy="621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6"/>
          <p:cNvSpPr/>
          <p:nvPr/>
        </p:nvSpPr>
        <p:spPr>
          <a:xfrm>
            <a:off x="5794200" y="646128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б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7"/>
          <p:cNvSpPr/>
          <p:nvPr/>
        </p:nvSpPr>
        <p:spPr>
          <a:xfrm flipV="1">
            <a:off x="5794200" y="5812920"/>
            <a:ext cx="0" cy="621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8"/>
          <p:cNvSpPr/>
          <p:nvPr/>
        </p:nvSpPr>
        <p:spPr>
          <a:xfrm flipV="1">
            <a:off x="6730920" y="5812920"/>
            <a:ext cx="0" cy="621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9"/>
          <p:cNvSpPr/>
          <p:nvPr/>
        </p:nvSpPr>
        <p:spPr>
          <a:xfrm flipV="1">
            <a:off x="7667640" y="5812920"/>
            <a:ext cx="0" cy="621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0"/>
          <p:cNvSpPr/>
          <p:nvPr/>
        </p:nvSpPr>
        <p:spPr>
          <a:xfrm flipH="1">
            <a:off x="7954920" y="4516560"/>
            <a:ext cx="7207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1"/>
          <p:cNvSpPr/>
          <p:nvPr/>
        </p:nvSpPr>
        <p:spPr>
          <a:xfrm flipH="1">
            <a:off x="7954920" y="5092560"/>
            <a:ext cx="7207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2"/>
          <p:cNvSpPr/>
          <p:nvPr/>
        </p:nvSpPr>
        <p:spPr>
          <a:xfrm flipH="1">
            <a:off x="7954560" y="5884920"/>
            <a:ext cx="7923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3"/>
          <p:cNvSpPr/>
          <p:nvPr/>
        </p:nvSpPr>
        <p:spPr>
          <a:xfrm rot="16200000">
            <a:off x="8371080" y="45331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4"/>
          <p:cNvSpPr/>
          <p:nvPr/>
        </p:nvSpPr>
        <p:spPr>
          <a:xfrm flipH="1">
            <a:off x="7954920" y="4013280"/>
            <a:ext cx="7207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8"/>
          <p:cNvSpPr/>
          <p:nvPr/>
        </p:nvSpPr>
        <p:spPr>
          <a:xfrm>
            <a:off x="6227640" y="227664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бличный н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9"/>
          <p:cNvSpPr/>
          <p:nvPr/>
        </p:nvSpPr>
        <p:spPr>
          <a:xfrm>
            <a:off x="1258920" y="2781360"/>
            <a:ext cx="44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щий заголовок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 flipV="1">
            <a:off x="1619280" y="907560"/>
            <a:ext cx="0" cy="468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1"/>
          <p:cNvSpPr/>
          <p:nvPr/>
        </p:nvSpPr>
        <p:spPr>
          <a:xfrm>
            <a:off x="2411280" y="1268280"/>
            <a:ext cx="6481800" cy="7038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головок таблицы должен давать представление о содержащейся в не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2411280" y="2133720"/>
            <a:ext cx="6481800" cy="7038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головки столбцов и строк должны быть краткими, не содержать лишних слов и сокра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3"/>
          <p:cNvSpPr/>
          <p:nvPr/>
        </p:nvSpPr>
        <p:spPr>
          <a:xfrm>
            <a:off x="2411280" y="3141720"/>
            <a:ext cx="6481800" cy="106884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аблице должны быть указаны единицы измерения. Общие для всей таблицы указываются в заголовке таблицы, если единицы измерения различаются, то они указываются в заголовке строки или столб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4"/>
          <p:cNvSpPr/>
          <p:nvPr/>
        </p:nvSpPr>
        <p:spPr>
          <a:xfrm>
            <a:off x="2411280" y="4632480"/>
            <a:ext cx="6408720" cy="18000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лательно, чтобы все ячейки таблицы были заполнены. При необходимости в них заносят условные обозна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? - данные неизвест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  - данные невозмож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анные должны быть взяты из вышележащей ячей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 flipH="1">
            <a:off x="1618920" y="5589720"/>
            <a:ext cx="7938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1116000" y="333360"/>
            <a:ext cx="590544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Правила оформления табл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4"/>
          <p:cNvSpPr/>
          <p:nvPr/>
        </p:nvSpPr>
        <p:spPr>
          <a:xfrm flipH="1">
            <a:off x="1618920" y="3789360"/>
            <a:ext cx="7938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618920" y="2492280"/>
            <a:ext cx="7938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4"/>
          <p:cNvSpPr/>
          <p:nvPr/>
        </p:nvSpPr>
        <p:spPr>
          <a:xfrm flipH="1">
            <a:off x="1618920" y="1628640"/>
            <a:ext cx="7938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0"/>
          <p:cNvSpPr/>
          <p:nvPr/>
        </p:nvSpPr>
        <p:spPr>
          <a:xfrm>
            <a:off x="1042920" y="26028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ячейках таблиц могут быть размещены тексты, числа,  изоб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1"/>
          <p:cNvSpPr/>
          <p:nvPr/>
        </p:nvSpPr>
        <p:spPr>
          <a:xfrm>
            <a:off x="1222200" y="69228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тические носител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16000" y="1181160"/>
          <a:ext cx="7848720" cy="5578560"/>
        </p:xfrm>
        <a:graphic>
          <a:graphicData uri="http://schemas.openxmlformats.org/drawingml/2006/table">
            <a:tbl>
              <a:tblPr/>
              <a:tblGrid>
                <a:gridCol w="4535640"/>
                <a:gridCol w="1714320"/>
                <a:gridCol w="1598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звание и описание информационного нос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ого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Ёмк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и-ди, компакт-диск) – оптический носитель информации в виде диска с отверстием в центре, информация с которого считывается с помощью лаз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0, 700 М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V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ди-ви-ди) – носитель информации, имеющий возможность хранить больше информации, чем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за счёт использования лазера с меньшей длиной волны, чем для обычных компакт-дис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 – 17,1 Г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u-ray Disc, B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бдю-рей-диск) – формат оптического носителя, используемый для записи и хранения цифровых данных, включая видео высокой чёткости с повышенной плотност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Г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pic>
        <p:nvPicPr>
          <p:cNvPr id="226" name="Picture 84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1461960" cy="744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5" descr=""/>
          <p:cNvPicPr/>
          <p:nvPr/>
        </p:nvPicPr>
        <p:blipFill>
          <a:blip r:embed="rId2"/>
          <a:stretch/>
        </p:blipFill>
        <p:spPr>
          <a:xfrm>
            <a:off x="5724360" y="3860640"/>
            <a:ext cx="1584360" cy="706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6" descr=""/>
          <p:cNvPicPr/>
          <p:nvPr/>
        </p:nvPicPr>
        <p:blipFill>
          <a:blip r:embed="rId3"/>
          <a:stretch/>
        </p:blipFill>
        <p:spPr>
          <a:xfrm>
            <a:off x="5796000" y="5445000"/>
            <a:ext cx="1444680" cy="7797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87"/>
          <p:cNvSpPr/>
          <p:nvPr/>
        </p:nvSpPr>
        <p:spPr>
          <a:xfrm>
            <a:off x="7020000" y="5877000"/>
            <a:ext cx="216000" cy="1443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2195640" y="2852640"/>
            <a:ext cx="5256000" cy="6494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Работа с табл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Object 90" descr=""/>
          <p:cNvPicPr/>
          <p:nvPr/>
        </p:nvPicPr>
        <p:blipFill>
          <a:blip r:embed="rId4"/>
          <a:stretch/>
        </p:blipFill>
        <p:spPr>
          <a:xfrm>
            <a:off x="6157800" y="3141720"/>
            <a:ext cx="2106720" cy="68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Графические изоб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116000" y="836640"/>
            <a:ext cx="7848720" cy="6966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ременные текстовые процессоры позволяют включать в документы различные графические изображ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052720" y="278136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Изменение разм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052720" y="335772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Изменение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052720" y="386064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Изменение яр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052720" y="443700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оворот объ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052720" y="494172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Накладывание о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1405080" y="2420640"/>
            <a:ext cx="0" cy="2663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187280" y="1989000"/>
            <a:ext cx="482472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Редактирование графических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 flipH="1">
            <a:off x="1404720" y="299736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4"/>
          <p:cNvSpPr/>
          <p:nvPr/>
        </p:nvSpPr>
        <p:spPr>
          <a:xfrm flipH="1">
            <a:off x="1404720" y="350028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4"/>
          <p:cNvSpPr/>
          <p:nvPr/>
        </p:nvSpPr>
        <p:spPr>
          <a:xfrm flipH="1">
            <a:off x="1404720" y="407844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4"/>
          <p:cNvSpPr/>
          <p:nvPr/>
        </p:nvSpPr>
        <p:spPr>
          <a:xfrm flipH="1">
            <a:off x="1404720" y="458136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4"/>
          <p:cNvSpPr/>
          <p:nvPr/>
        </p:nvSpPr>
        <p:spPr>
          <a:xfrm flipH="1">
            <a:off x="1404720" y="508464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219640" y="2924280"/>
            <a:ext cx="3097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Изображений из автофиг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5219640" y="3429000"/>
            <a:ext cx="3097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Красочных надпи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4"/>
          <p:cNvSpPr/>
          <p:nvPr/>
        </p:nvSpPr>
        <p:spPr>
          <a:xfrm flipV="1">
            <a:off x="8677440" y="2565000"/>
            <a:ext cx="0" cy="1079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4"/>
          <p:cNvSpPr/>
          <p:nvPr/>
        </p:nvSpPr>
        <p:spPr>
          <a:xfrm>
            <a:off x="8316360" y="3141720"/>
            <a:ext cx="36036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8316360" y="3645000"/>
            <a:ext cx="36036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588000" y="2060640"/>
            <a:ext cx="223200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Созд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37"/>
          <p:cNvGrpSpPr/>
          <p:nvPr/>
        </p:nvGrpSpPr>
        <p:grpSpPr>
          <a:xfrm>
            <a:off x="5796000" y="3933720"/>
            <a:ext cx="2520720" cy="1584360"/>
            <a:chOff x="5796000" y="3933720"/>
            <a:chExt cx="2520720" cy="1584360"/>
          </a:xfrm>
        </p:grpSpPr>
        <p:sp>
          <p:nvSpPr>
            <p:cNvPr id="254" name="Rectangle 36"/>
            <p:cNvSpPr/>
            <p:nvPr/>
          </p:nvSpPr>
          <p:spPr>
            <a:xfrm>
              <a:off x="5796000" y="3933720"/>
              <a:ext cx="2520720" cy="1584360"/>
            </a:xfrm>
            <a:prstGeom prst="rect">
              <a:avLst/>
            </a:prstGeom>
            <a:solidFill>
              <a:srgbClr val="b9cd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29"/>
            <p:cNvGrpSpPr/>
            <p:nvPr/>
          </p:nvGrpSpPr>
          <p:grpSpPr>
            <a:xfrm>
              <a:off x="6011640" y="4078440"/>
              <a:ext cx="2011320" cy="1328760"/>
              <a:chOff x="6011640" y="4078440"/>
              <a:chExt cx="2011320" cy="1328760"/>
            </a:xfrm>
          </p:grpSpPr>
          <p:pic>
            <p:nvPicPr>
              <p:cNvPr id="256" name="Picture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6027480" y="4127760"/>
                <a:ext cx="542880" cy="47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Picture 31" descr=""/>
              <p:cNvPicPr/>
              <p:nvPr/>
            </p:nvPicPr>
            <p:blipFill>
              <a:blip r:embed="rId2"/>
              <a:stretch/>
            </p:blipFill>
            <p:spPr>
              <a:xfrm>
                <a:off x="6659280" y="4078440"/>
                <a:ext cx="647640" cy="57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Picture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6011640" y="4797360"/>
                <a:ext cx="609480" cy="58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Picture 33" descr=""/>
              <p:cNvPicPr/>
              <p:nvPr/>
            </p:nvPicPr>
            <p:blipFill>
              <a:blip r:embed="rId4"/>
              <a:stretch/>
            </p:blipFill>
            <p:spPr>
              <a:xfrm>
                <a:off x="6730560" y="4797360"/>
                <a:ext cx="60984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icture 34" descr=""/>
              <p:cNvPicPr/>
              <p:nvPr/>
            </p:nvPicPr>
            <p:blipFill>
              <a:blip r:embed="rId5"/>
              <a:stretch/>
            </p:blipFill>
            <p:spPr>
              <a:xfrm>
                <a:off x="7451280" y="4870440"/>
                <a:ext cx="571680" cy="5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Picture 35" descr=""/>
              <p:cNvPicPr/>
              <p:nvPr/>
            </p:nvPicPr>
            <p:blipFill>
              <a:blip r:embed="rId6"/>
              <a:stretch/>
            </p:blipFill>
            <p:spPr>
              <a:xfrm>
                <a:off x="7378560" y="4078440"/>
                <a:ext cx="609480" cy="552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2" name="Text Box 38"/>
          <p:cNvSpPr/>
          <p:nvPr/>
        </p:nvSpPr>
        <p:spPr>
          <a:xfrm>
            <a:off x="5398920" y="5589720"/>
            <a:ext cx="374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иды графических схем в текстовом процессоре Microsoft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9"/>
          <p:cNvSpPr/>
          <p:nvPr/>
        </p:nvSpPr>
        <p:spPr>
          <a:xfrm>
            <a:off x="1187280" y="5516640"/>
            <a:ext cx="4176720" cy="10674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кстовые процессоры позволяют строить разные виды графических схем, обеспечивающих визуализацию текстовой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Object 40" descr=""/>
          <p:cNvPicPr/>
          <p:nvPr/>
        </p:nvPicPr>
        <p:blipFill>
          <a:blip r:embed="rId7"/>
          <a:stretch/>
        </p:blipFill>
        <p:spPr>
          <a:xfrm>
            <a:off x="6157800" y="6172200"/>
            <a:ext cx="1992600" cy="68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50920" y="981000"/>
            <a:ext cx="871380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кстовая информац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изуализирована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она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ована в виде списков, таблиц, диаграмм, снабжена иллюстрациями (фотографиями, рисунками, схема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 возможные перечни в документах оформляются с помощью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иск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По способу оформления различаю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умерованны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аркированны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писки. Нумерованный список принято использовать в тех случаях, когда имеет значение порядок следования пунктов; маркированный - когда порядок следования пунктов в нём не важ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структуре различаю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дноуровневы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ногоуровневы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пи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описания ряда объектов, обладающих одинаковыми наборами свойств, наиболее часто используютс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аблиц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состоящие из столбцов и ст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временных текстовых процессорах предусмотрены возможности включения, обработки и создания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графических объектов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аррп</cp:lastModifiedBy>
  <dcterms:modified xsi:type="dcterms:W3CDTF">2020-04-07T08:47:05Z</dcterms:modified>
  <cp:revision>8</cp:revision>
  <dc:subject/>
  <dc:title>Презентация PowerPoint</dc:title>
</cp:coreProperties>
</file>