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E83-ED9B-47F2-B55B-1DCB8654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F5E-34D2-44CB-96F8-D38A3A5B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D40-1542-4493-89AB-CDCFC116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E7F-B6DE-468E-BF37-F6CFC34D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1417-1088-43FE-BF77-8D0BE772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EA3E-BFF5-47B2-8EA8-EFD2A68F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7DCD-DEDE-4783-9C12-F9D49045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26D1-5F23-428B-99CC-22F9E95D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AB45-33E4-4594-8158-924DA4B4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7044-EF1D-4747-AAE2-D7A096E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0778-9B10-451A-86BB-EF056109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15A-E41D-44F2-A460-E00A3931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3088-09B4-486B-B561-E6CF87A5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4A9C-B625-4911-AF8F-D889F5C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CCDF-86E0-4425-9FB6-8D0F500F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F6BA-9D15-4556-B815-4E865EA1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18D5-FBD1-47FB-BAF5-C4194A22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EB3-E442-48FF-9063-ACC4173A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45A-881B-4896-AA45-92E59632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E09-6C36-4B04-A673-4A0CCAF7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968-F3E3-48F1-B460-FB2901DE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B4D-58F8-4AE4-9CDE-8BB69899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BDF-5A88-4EFE-9C03-CD799FC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E1F-0971-40DC-A558-3038C823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1E73-0BF0-43AA-9957-E7F9A5DF986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235F-745D-497A-ACDF-FE34B5B7670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42360" cy="2438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1320" y="3214440"/>
            <a:ext cx="7854840" cy="3343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9 клас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920960"/>
            <a:ext cx="36147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складе 1 числа было 50 тонн угля. Каждый день в течение месяца на склад приходит машина с 3 тоннами угля. Сколько угля будет на складе 30 числа, если в течение этого времени уголь со склада не расходовал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00360" y="1920960"/>
            <a:ext cx="450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50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 числа:  50 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 числа:  +1 машина (+3 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 числа:  +2 машины(+3·2 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0 числа:+29 машин(+3·29 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29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1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8750" t="6789" r="6249" b="23643"/>
          <a:stretch/>
        </p:blipFill>
        <p:spPr>
          <a:xfrm>
            <a:off x="6357960" y="5072040"/>
            <a:ext cx="24289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ула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-ого чле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2d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3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……………………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(n-1)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4" name="Содержимое 3"/>
          <p:cNvGrpSpPr/>
          <p:nvPr/>
        </p:nvGrpSpPr>
        <p:grpSpPr>
          <a:xfrm>
            <a:off x="5205240" y="2992320"/>
            <a:ext cx="3011760" cy="1171800"/>
            <a:chOff x="5205240" y="2992320"/>
            <a:chExt cx="3011760" cy="1171800"/>
          </a:xfrm>
        </p:grpSpPr>
        <p:pic>
          <p:nvPicPr>
            <p:cNvPr id="175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205240" y="2992320"/>
              <a:ext cx="301176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357880" y="3143160"/>
              <a:ext cx="27097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0" i="1" lang="en-US" sz="3600" spc="-1" strike="noStrike" baseline="-25000">
                  <a:solidFill>
                    <a:srgbClr val="000000"/>
                  </a:solidFill>
                  <a:latin typeface="Constantia"/>
                </a:rPr>
                <a:t>n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Constantia"/>
                </a:rPr>
                <a:t>=a</a:t>
              </a:r>
              <a:r>
                <a:rPr b="0" i="1" lang="en-US" sz="36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Constantia"/>
                </a:rPr>
                <a:t>+d (n-1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имер 1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934640"/>
            <a:ext cx="8115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довательность 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-арифметическая прогрессия. Найдите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20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3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ользуемся формулой n-ого чле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=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81-1)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20+3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·80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2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0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вет: 26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920600"/>
            <a:ext cx="818676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арифметической прогрессии четные члены оказались затёрты: 3, …, 7, …, 13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жно ли восстановить утраченные числ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9680" y="3714480"/>
            <a:ext cx="818676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метим, что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гда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:2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то есть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комая последовате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, </a:t>
            </a: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7, </a:t>
            </a: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9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13, </a:t>
            </a: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жно ли найти пропущенные члены последовательности, не вычисляя разности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Характеристическое свойство арифметической прогресс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комый член последовательности. Воспользуемся тем, что разность между соседними членами последовательности постоянн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: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Числовая последовательность  является арифметической прогрессией тогда и только тогда, когда любой член этой последовательности, начиная со второго, есть среднее арифметическое соседних с ним член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4041720" y="3108240"/>
            <a:ext cx="31338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4800" y="4762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717 (3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14280" y="1268280"/>
            <a:ext cx="7686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арифметическая прогресс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3120" y="3428640"/>
            <a:ext cx="825840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ользуемся формулой n-ого чле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2-1)   т.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1 ·0,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Управляющая кнопка: сведения 4">
            <a:hlinkClick r:id="rId1" action="ppaction://hlinksldjump"/>
          </p:cNvPr>
          <p:cNvSpPr/>
          <p:nvPr/>
        </p:nvSpPr>
        <p:spPr>
          <a:xfrm>
            <a:off x="8001000" y="607212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188" h="21600">
                <a:moveTo>
                  <a:pt x="1259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188" h="21600">
                <a:moveTo>
                  <a:pt x="10018" y="8224"/>
                </a:moveTo>
                <a:lnTo>
                  <a:pt x="13882" y="8224"/>
                </a:lnTo>
                <a:lnTo>
                  <a:pt x="13882" y="15221"/>
                </a:lnTo>
                <a:lnTo>
                  <a:pt x="15170" y="15221"/>
                </a:lnTo>
                <a:lnTo>
                  <a:pt x="15170" y="16144"/>
                </a:lnTo>
                <a:lnTo>
                  <a:pt x="10018" y="16144"/>
                </a:lnTo>
                <a:lnTo>
                  <a:pt x="10018" y="15221"/>
                </a:lnTo>
                <a:lnTo>
                  <a:pt x="11306" y="15221"/>
                </a:lnTo>
                <a:lnTo>
                  <a:pt x="11306" y="9129"/>
                </a:lnTo>
                <a:lnTo>
                  <a:pt x="10018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"/>
          <p:cNvSpPr/>
          <p:nvPr/>
        </p:nvSpPr>
        <p:spPr>
          <a:xfrm>
            <a:off x="250920" y="2997360"/>
            <a:ext cx="27367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920600"/>
            <a:ext cx="82580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исловая последовательность задана формулой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3+5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1,2,3,…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ляется ли эта последовательность арифметической прогрессией? Если да, то какова ее разность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3714480"/>
            <a:ext cx="825804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кольку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3+5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1)=3+5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5=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5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 всех значениях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то последовательность является арифметической прогрессией по определению. Из полученной формулы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5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разность этой прогрессии равна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Управляющая кнопка: сведения 4">
            <a:hlinkClick r:id="rId1" action="ppaction://hlinksldjump"/>
          </p:cNvPr>
          <p:cNvSpPr/>
          <p:nvPr/>
        </p:nvSpPr>
        <p:spPr>
          <a:xfrm>
            <a:off x="7929720" y="61437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9" h="21600">
                <a:moveTo>
                  <a:pt x="1260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9" h="21600">
                <a:moveTo>
                  <a:pt x="10028" y="8224"/>
                </a:moveTo>
                <a:lnTo>
                  <a:pt x="13893" y="8224"/>
                </a:lnTo>
                <a:lnTo>
                  <a:pt x="13893" y="15221"/>
                </a:lnTo>
                <a:lnTo>
                  <a:pt x="15181" y="15221"/>
                </a:lnTo>
                <a:lnTo>
                  <a:pt x="15181" y="16144"/>
                </a:lnTo>
                <a:lnTo>
                  <a:pt x="10028" y="16144"/>
                </a:lnTo>
                <a:lnTo>
                  <a:pt x="10028" y="15221"/>
                </a:lnTo>
                <a:lnTo>
                  <a:pt x="11316" y="15221"/>
                </a:lnTo>
                <a:lnTo>
                  <a:pt x="11316" y="9129"/>
                </a:lnTo>
                <a:lnTo>
                  <a:pt x="10028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920600"/>
            <a:ext cx="825804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дьмой член арифметической прогрессии равен 1 и равен разности между четвертым и вторым членами. Найти первый член прогресс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9680" y="3286080"/>
            <a:ext cx="818676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но: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1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7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ти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428920" y="4286160"/>
            <a:ext cx="5072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слови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 е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·0,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Управляющая кнопка: сведения 5">
            <a:hlinkClick r:id="rId1" action="ppaction://hlinksldjump"/>
          </p:cNvPr>
          <p:cNvSpPr/>
          <p:nvPr/>
        </p:nvSpPr>
        <p:spPr>
          <a:xfrm>
            <a:off x="7929720" y="61437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9" h="21600">
                <a:moveTo>
                  <a:pt x="1260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9" h="21600">
                <a:moveTo>
                  <a:pt x="10028" y="8224"/>
                </a:moveTo>
                <a:lnTo>
                  <a:pt x="13893" y="8224"/>
                </a:lnTo>
                <a:lnTo>
                  <a:pt x="13893" y="15221"/>
                </a:lnTo>
                <a:lnTo>
                  <a:pt x="15181" y="15221"/>
                </a:lnTo>
                <a:lnTo>
                  <a:pt x="15181" y="16144"/>
                </a:lnTo>
                <a:lnTo>
                  <a:pt x="10028" y="16144"/>
                </a:lnTo>
                <a:lnTo>
                  <a:pt x="10028" y="15221"/>
                </a:lnTo>
                <a:lnTo>
                  <a:pt x="11316" y="15221"/>
                </a:lnTo>
                <a:lnTo>
                  <a:pt x="11316" y="9129"/>
                </a:lnTo>
                <a:lnTo>
                  <a:pt x="10028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формул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екуррентный способ задания              арифметической прогрессии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азность прогрессии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d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Формула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-ого члена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(n-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Характеристическое свой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5286240" y="4572000"/>
            <a:ext cx="2660760" cy="820800"/>
          </a:xfrm>
          <a:prstGeom prst="rect">
            <a:avLst/>
          </a:prstGeom>
          <a:ln w="38160">
            <a:solidFill>
              <a:srgbClr val="cafbed"/>
            </a:solidFill>
            <a:miter/>
          </a:ln>
        </p:spPr>
      </p:pic>
      <p:sp>
        <p:nvSpPr>
          <p:cNvPr id="203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286760" y="6072120"/>
            <a:ext cx="857160" cy="571680"/>
          </a:xfrm>
          <a:custGeom>
            <a:avLst/>
            <a:gdLst>
              <a:gd name="textAreaLeft" fmla="*/ 36720 w 857160"/>
              <a:gd name="textAreaRight" fmla="*/ 820440 w 8571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9183" y="7493"/>
                </a:moveTo>
                <a:lnTo>
                  <a:pt x="12691" y="7493"/>
                </a:lnTo>
                <a:lnTo>
                  <a:pt x="12691" y="12828"/>
                </a:lnTo>
                <a:cubicBezTo>
                  <a:pt x="12691" y="13751"/>
                  <a:pt x="13492" y="14482"/>
                  <a:pt x="14527" y="14482"/>
                </a:cubicBezTo>
                <a:lnTo>
                  <a:pt x="16190" y="14482"/>
                </a:lnTo>
                <a:cubicBezTo>
                  <a:pt x="17226" y="14482"/>
                  <a:pt x="18026" y="13751"/>
                  <a:pt x="18026" y="12828"/>
                </a:cubicBezTo>
                <a:lnTo>
                  <a:pt x="18026" y="7493"/>
                </a:lnTo>
                <a:lnTo>
                  <a:pt x="16190" y="7493"/>
                </a:lnTo>
                <a:lnTo>
                  <a:pt x="19697" y="3985"/>
                </a:lnTo>
                <a:lnTo>
                  <a:pt x="23370" y="7493"/>
                </a:lnTo>
                <a:lnTo>
                  <a:pt x="21534" y="7493"/>
                </a:lnTo>
                <a:lnTo>
                  <a:pt x="21534" y="12828"/>
                </a:lnTo>
                <a:cubicBezTo>
                  <a:pt x="21534" y="15596"/>
                  <a:pt x="18958" y="18155"/>
                  <a:pt x="16190" y="18155"/>
                </a:cubicBezTo>
                <a:lnTo>
                  <a:pt x="14527" y="18155"/>
                </a:lnTo>
                <a:cubicBezTo>
                  <a:pt x="11760" y="18155"/>
                  <a:pt x="9183" y="15596"/>
                  <a:pt x="9183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(х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задана формулой: х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номер имеет член этой последовательности, если он равен 144?  225? 100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ются ли членами этой последовательности числа  48?  49? 168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143080" y="3786120"/>
            <a:ext cx="171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144=12</a:t>
            </a:r>
            <a:r>
              <a:rPr b="1" lang="ru-RU" sz="2400" spc="-1" strike="noStrike" baseline="30000">
                <a:solidFill>
                  <a:srgbClr val="083763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=х</a:t>
            </a:r>
            <a:r>
              <a:rPr b="1" lang="ru-RU" sz="2400" spc="-1" strike="noStrike" baseline="-25000">
                <a:solidFill>
                  <a:srgbClr val="083763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214880" y="3786120"/>
            <a:ext cx="264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225=х</a:t>
            </a:r>
            <a:r>
              <a:rPr b="1" lang="ru-RU" sz="2400" spc="-1" strike="noStrike" baseline="-25000">
                <a:solidFill>
                  <a:srgbClr val="083763"/>
                </a:solidFill>
                <a:latin typeface="Constantia"/>
              </a:rPr>
              <a:t>15</a:t>
            </a: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,    100=х</a:t>
            </a:r>
            <a:r>
              <a:rPr b="1" lang="ru-RU" sz="2400" spc="-1" strike="noStrike" baseline="-25000">
                <a:solidFill>
                  <a:srgbClr val="083763"/>
                </a:solidFill>
                <a:latin typeface="Constant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2214720" y="5286240"/>
            <a:ext cx="485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48 и 168 не являются членами последова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49 – явл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последовательности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звестно, что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3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называется такой способ задания последовательност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 первые четыре члена этой последова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357800" y="371484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Рекуррентный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429240" y="4643280"/>
            <a:ext cx="20005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u</a:t>
            </a:r>
            <a:r>
              <a:rPr b="1" lang="en-US" sz="2400" spc="-1" strike="noStrike" baseline="-25000">
                <a:solidFill>
                  <a:srgbClr val="004e6d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3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+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1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3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3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+1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=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3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3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+1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 =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последовательности  (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звестно, чт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(n-1)(n+4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называется такой способ задания последовательност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есл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15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4572000" y="32148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Формулой 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n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-ого ч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714920" y="3903840"/>
            <a:ext cx="40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Заметим, что в формуле 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n-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ого члена множители отличаются друг от друга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150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(n-1)(n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150=10·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n=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ПРОГРЕССИ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рмин «прогрессия» имеет латинское происхождение (progression), что означает «движение вперед» и был введен римским автором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Боэцие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VI в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им термином в математике прежде именовали всякую последовательность чисел, построенную по такому закону, который позволяет неограниченно продолжать эту последовательность в одном направлении. В настоящее время термин «прогрессия» в первоначально широком смысле не употребляе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а важных частных вида прогрессий – арифметическая и геометрическая – сохранили свои наз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7072200" y="142920"/>
            <a:ext cx="1852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то общего в последовательностях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2, 6, 10, 14, 18, …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11, 8, 5, 2, -1, …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5, 5, 5, 5, 5, …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йдите для каждой последовательности следующие два чл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643280" y="2000160"/>
            <a:ext cx="150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22, 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643280" y="3000240"/>
            <a:ext cx="15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-4, 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857840" y="407196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5,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ифметическая прогрес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5000"/>
            <a:ext cx="8229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рифметической прогрессией называется последовательность, каждый член которой, начиная со второго, равен предыдущему, сложенному с одним и тем же числ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0" name="Прямоугольник 3"/>
          <p:cNvGrpSpPr/>
          <p:nvPr/>
        </p:nvGrpSpPr>
        <p:grpSpPr>
          <a:xfrm>
            <a:off x="1530360" y="4095720"/>
            <a:ext cx="5589720" cy="2142720"/>
            <a:chOff x="1530360" y="4095720"/>
            <a:chExt cx="5589720" cy="2142720"/>
          </a:xfrm>
        </p:grpSpPr>
        <p:pic>
          <p:nvPicPr>
            <p:cNvPr id="12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530360" y="4095720"/>
              <a:ext cx="5589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43040" y="4214880"/>
              <a:ext cx="53578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nstantia"/>
                </a:rPr>
                <a:t>n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) - арифметическая прогрессия,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есл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nstantia"/>
                </a:rPr>
                <a:t>n+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 a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nstantia"/>
                </a:rPr>
                <a:t>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+d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,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-некоторое числ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зность                       арифметической   прогресс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исло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оказывающее, на сколько следующий член последовательности отличается от предыдущего, называется разностью прогрес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d=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5" name="Группа 32"/>
          <p:cNvGrpSpPr/>
          <p:nvPr/>
        </p:nvGrpSpPr>
        <p:grpSpPr>
          <a:xfrm>
            <a:off x="1428840" y="4857840"/>
            <a:ext cx="5822280" cy="949320"/>
            <a:chOff x="1428840" y="4857840"/>
            <a:chExt cx="5822280" cy="949320"/>
          </a:xfrm>
        </p:grpSpPr>
        <p:sp>
          <p:nvSpPr>
            <p:cNvPr id="126" name="TextBox 20"/>
            <p:cNvSpPr/>
            <p:nvPr/>
          </p:nvSpPr>
          <p:spPr>
            <a:xfrm>
              <a:off x="223776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1"/>
            <p:cNvSpPr/>
            <p:nvPr/>
          </p:nvSpPr>
          <p:spPr>
            <a:xfrm>
              <a:off x="294876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2"/>
            <p:cNvSpPr/>
            <p:nvPr/>
          </p:nvSpPr>
          <p:spPr>
            <a:xfrm>
              <a:off x="451368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3"/>
            <p:cNvSpPr/>
            <p:nvPr/>
          </p:nvSpPr>
          <p:spPr>
            <a:xfrm>
              <a:off x="508284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4"/>
            <p:cNvSpPr/>
            <p:nvPr/>
          </p:nvSpPr>
          <p:spPr>
            <a:xfrm>
              <a:off x="586512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25"/>
            <p:cNvSpPr/>
            <p:nvPr/>
          </p:nvSpPr>
          <p:spPr>
            <a:xfrm>
              <a:off x="671868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9"/>
            <p:cNvSpPr/>
            <p:nvPr/>
          </p:nvSpPr>
          <p:spPr>
            <a:xfrm>
              <a:off x="159732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TextBox 4"/>
            <p:cNvGrpSpPr/>
            <p:nvPr/>
          </p:nvGrpSpPr>
          <p:grpSpPr>
            <a:xfrm>
              <a:off x="1999080" y="4857840"/>
              <a:ext cx="479160" cy="428760"/>
              <a:chOff x="1999080" y="4857840"/>
              <a:chExt cx="479160" cy="428760"/>
            </a:xfrm>
          </p:grpSpPr>
          <p:pic>
            <p:nvPicPr>
              <p:cNvPr id="134" name="TextBox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9080" y="4857840"/>
                <a:ext cx="47916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023920" y="4880880"/>
                <a:ext cx="42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TextBox 5"/>
            <p:cNvGrpSpPr/>
            <p:nvPr/>
          </p:nvGrpSpPr>
          <p:grpSpPr>
            <a:xfrm>
              <a:off x="1428840" y="4857840"/>
              <a:ext cx="479160" cy="428760"/>
              <a:chOff x="1428840" y="4857840"/>
              <a:chExt cx="479160" cy="428760"/>
            </a:xfrm>
          </p:grpSpPr>
          <p:pic>
            <p:nvPicPr>
              <p:cNvPr id="137" name="TextBox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8840" y="4857840"/>
                <a:ext cx="47916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1455120" y="4880880"/>
                <a:ext cx="42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TextBox 6"/>
            <p:cNvGrpSpPr/>
            <p:nvPr/>
          </p:nvGrpSpPr>
          <p:grpSpPr>
            <a:xfrm>
              <a:off x="2569680" y="4857840"/>
              <a:ext cx="473040" cy="428760"/>
              <a:chOff x="2569680" y="4857840"/>
              <a:chExt cx="473040" cy="428760"/>
            </a:xfrm>
          </p:grpSpPr>
          <p:pic>
            <p:nvPicPr>
              <p:cNvPr id="140" name="TextBox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9680" y="4857840"/>
                <a:ext cx="47304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2593080" y="4880880"/>
                <a:ext cx="42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2" name="Shape 8"/>
            <p:cNvCxnSpPr/>
            <p:nvPr/>
          </p:nvCxnSpPr>
          <p:spPr>
            <a:xfrm flipH="1" rot="16200000">
              <a:off x="189828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43" name="Shape 8"/>
            <p:cNvCxnSpPr/>
            <p:nvPr/>
          </p:nvCxnSpPr>
          <p:spPr>
            <a:xfrm flipH="1" rot="16200000">
              <a:off x="253836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grpSp>
          <p:nvGrpSpPr>
            <p:cNvPr id="144" name="TextBox 11"/>
            <p:cNvGrpSpPr/>
            <p:nvPr/>
          </p:nvGrpSpPr>
          <p:grpSpPr>
            <a:xfrm>
              <a:off x="5628240" y="4857840"/>
              <a:ext cx="473040" cy="428760"/>
              <a:chOff x="5628240" y="4857840"/>
              <a:chExt cx="473040" cy="428760"/>
            </a:xfrm>
          </p:grpSpPr>
          <p:pic>
            <p:nvPicPr>
              <p:cNvPr id="145" name="TextBox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628240" y="4857840"/>
                <a:ext cx="47304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651640" y="4880880"/>
                <a:ext cx="42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TextBox 12"/>
            <p:cNvGrpSpPr/>
            <p:nvPr/>
          </p:nvGrpSpPr>
          <p:grpSpPr>
            <a:xfrm>
              <a:off x="4917960" y="4857840"/>
              <a:ext cx="546120" cy="740520"/>
              <a:chOff x="4917960" y="4857840"/>
              <a:chExt cx="546120" cy="740520"/>
            </a:xfrm>
          </p:grpSpPr>
          <p:pic>
            <p:nvPicPr>
              <p:cNvPr id="148" name="Text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917960" y="4857840"/>
                <a:ext cx="54612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4939920" y="4880880"/>
                <a:ext cx="49788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n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TextBox 13"/>
            <p:cNvGrpSpPr/>
            <p:nvPr/>
          </p:nvGrpSpPr>
          <p:grpSpPr>
            <a:xfrm>
              <a:off x="6338160" y="4857840"/>
              <a:ext cx="618840" cy="428760"/>
              <a:chOff x="6338160" y="4857840"/>
              <a:chExt cx="618840" cy="428760"/>
            </a:xfrm>
          </p:grpSpPr>
          <p:pic>
            <p:nvPicPr>
              <p:cNvPr id="151" name="TextBox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6338160" y="4857840"/>
                <a:ext cx="61884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362640" y="4880880"/>
                <a:ext cx="56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n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3" name="Shape 8"/>
            <p:cNvCxnSpPr/>
            <p:nvPr/>
          </p:nvCxnSpPr>
          <p:spPr>
            <a:xfrm flipH="1" rot="16200000">
              <a:off x="317844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54" name="Shape 8"/>
            <p:cNvCxnSpPr/>
            <p:nvPr/>
          </p:nvCxnSpPr>
          <p:spPr>
            <a:xfrm flipH="1" rot="16200000">
              <a:off x="538308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55" name="Shape 8"/>
            <p:cNvCxnSpPr/>
            <p:nvPr/>
          </p:nvCxnSpPr>
          <p:spPr>
            <a:xfrm flipH="1" rot="16200000">
              <a:off x="616536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56" name="Shape 8"/>
            <p:cNvCxnSpPr/>
            <p:nvPr/>
          </p:nvCxnSpPr>
          <p:spPr>
            <a:xfrm flipH="1" rot="16200000">
              <a:off x="694764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57" name="Shape 8"/>
            <p:cNvCxnSpPr/>
            <p:nvPr/>
          </p:nvCxnSpPr>
          <p:spPr>
            <a:xfrm flipH="1" rot="16200000">
              <a:off x="474300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158" name="Овал 26"/>
            <p:cNvSpPr/>
            <p:nvPr/>
          </p:nvSpPr>
          <p:spPr>
            <a:xfrm>
              <a:off x="3588840" y="5229360"/>
              <a:ext cx="45720" cy="446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Овал 27"/>
            <p:cNvSpPr/>
            <p:nvPr/>
          </p:nvSpPr>
          <p:spPr>
            <a:xfrm>
              <a:off x="3801960" y="5229360"/>
              <a:ext cx="45720" cy="446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Овал 30"/>
            <p:cNvSpPr/>
            <p:nvPr/>
          </p:nvSpPr>
          <p:spPr>
            <a:xfrm>
              <a:off x="4015440" y="5229360"/>
              <a:ext cx="45720" cy="446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Овал 31"/>
            <p:cNvSpPr/>
            <p:nvPr/>
          </p:nvSpPr>
          <p:spPr>
            <a:xfrm>
              <a:off x="4228920" y="5229360"/>
              <a:ext cx="45720" cy="446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войства прогресс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28400" y="2142720"/>
            <a:ext cx="81867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, 6, 10, 14, 18, …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, 8, 5, 2, -1, …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5, 5, 5, 5, 5, …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400" y="3929040"/>
            <a:ext cx="825804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ли в арифметической прогрессии разность положительна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d&gt;0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то прогрессия является возрастающей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ли в арифметической прогрессии разность отрицательна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&lt;0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то прогрессия является убывающей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случае , если разность равна нулю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=0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) и все члены прогрессии равны одному и тому же числу, последовательность называется стационарной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3747960" y="2071800"/>
            <a:ext cx="22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4, 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&gt;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3746160" y="2571840"/>
            <a:ext cx="225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-3,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&lt;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3821040" y="3071880"/>
            <a:ext cx="22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0, 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16:19Z</dcterms:created>
  <dc:creator>1</dc:creator>
  <dc:description/>
  <dc:language>en-US</dc:language>
  <cp:lastModifiedBy>Алексей</cp:lastModifiedBy>
  <dcterms:modified xsi:type="dcterms:W3CDTF">2020-04-07T05:43:05Z</dcterms:modified>
  <cp:revision>53</cp:revision>
  <dc:subject/>
  <dc:title>Слайд 1</dc:title>
</cp:coreProperties>
</file>