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D1F3-9CD2-4FEA-90A9-2AFDF79B95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3FE7-8A10-40E9-9783-6F0659A9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7A26-A089-4DF9-8722-00FB331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788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1E64-9CD5-4B48-AD04-34E0EC42F2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5E2CE-96CB-464B-8EB6-BB350E4BD0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A577D-7174-4E1D-8B63-0AE2782F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9E5C0-3A78-469D-B099-C52D44D1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F477F-6D0A-4F92-B155-010CF060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10377-48F9-42E1-97A7-69794594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74680"/>
            <a:ext cx="7923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9F64C-086A-4729-9DF4-8D9C8A20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54D3A-6446-4F20-8C74-22217C6A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5147-08E8-4B1C-873B-D7790568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A51AD-0DC7-44AE-A089-226C4A95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59C68-AE52-47FB-BCBC-1B40E27E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5F86E-6DA1-43A4-898C-E39CC5A0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976EE-F8C7-402A-9CEC-8B1A3C8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EA3C2-2A0C-47FF-835E-C067811FC2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C0FB-5999-4AA1-98C8-6B2BA786BB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0759-61B4-4F2C-AEEE-53493A80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C88C-5944-46BE-AFDA-5A8BDE2E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32B6-47B7-488A-B24C-4BE7BA42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8BE3-219E-4032-87A1-112C926A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9F82-F3DA-4A7B-9F16-2DBD12D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274680"/>
            <a:ext cx="7923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6127-7C3E-4C61-AC3D-D76E6EA7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AA36-C8CC-4B7C-BB99-D40C25FD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F017-E4B6-4595-B8D8-72D58BE8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CB02-E1E2-4BE1-96AD-D26346C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584F-B5F1-4A0B-8A53-48FFF92A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BDC4-FC47-4FF1-90F2-C8A76D05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700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E18B-78E6-4AF3-AE39-04D14B05B7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461CC-4E3D-4506-869D-D46715B24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A0D62-421C-4F2F-977C-F078F5F4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DD76F-77D6-4FCE-8D47-BD3D0515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577C-6643-4D58-86DB-A46561AC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F85B3-BF3A-4CCD-9943-95965202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84BEE-3BF9-402A-BE12-B837BF95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274680"/>
            <a:ext cx="7923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D4958-4C7B-4393-B276-88584C07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A220B-B72A-432B-A3A8-8EFE5B2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C1790-E6C9-4E94-880A-9264354A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862BD-3774-4ED6-88C9-51EDAE59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AA8DA-322A-4B94-8C69-56E2CBBF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B5559-2619-48F1-BF73-A1A0EE3E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788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7000" y="3963600"/>
            <a:ext cx="25509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2F146-2723-4706-920F-D90341DA99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E566-6AEF-4F8B-8CFC-46619F9D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74680"/>
            <a:ext cx="7923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82F3-B75A-421E-B444-FF8EE3AF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2162-A040-4F6C-B47E-98442445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1E6E-48AE-422D-A6E0-14AA1578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63600"/>
            <a:ext cx="7923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4A16-2067-450D-AE46-8E82E627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4360"/>
            <a:ext cx="1522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440" y="6354360"/>
            <a:ext cx="988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B2FD3F-3092-4FDB-895B-8E4D7E89E31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6B6F69-3898-4EAE-96FB-5BC2632F4FF7}" type="slidenum"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6600996-7B02-4B4C-9BD0-5EEF162C1BAE}" type="slidenum"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67B85C0-9E03-4178-80E1-F21946D9E8EB}" type="slidenum"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460440"/>
            <a:ext cx="77724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 Narrow"/>
              </a:rPr>
              <a:t>ЛЮДВИГ ВАН БЕТХОВЕН</a:t>
            </a:r>
            <a:endParaRPr b="0" lang="en-US" sz="9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27468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ЛЮДВИГ ВАН БЕТХОВЕН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(1770-1827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1600200"/>
            <a:ext cx="2951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Великий немецкий композитор, дирижёр и пианист 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Его  отец – певец. Учил Людвига игре на различных инструментах. Хотел сделать из него второго Моцарта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В 1780 году Бетховен познакомился со своим учителем Кристианом Готлибом Нефе, органистом и композитором, обнаружившим в ученике талант. Благодаря Нефе, Батховен познакомился с музыкой Баха, Гайдна, Моцарта, произведениями Генделя. Тогда Бетховен написал первое сочинение, Вариации на тему марша Дресслера. На тот момент ему было 12, и в тот момент он уже подрабатывал помощником придворного органиста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260280"/>
            <a:ext cx="417852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 Narrow"/>
              </a:rPr>
              <a:t>Следует признать, что уже с самого начала пребывания в Вене Бетховен приобрел славу пианиста-виртуоза. Слушатели были поражены его игрой. На их взгляд, она была подобна извержению вулкана, а Бетховен напоминал им Наполеона.</a:t>
            </a:r>
            <a:endParaRPr b="0" lang="en-US" sz="3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8559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Он был недоволен малейшими признаками неуважения к себе, тут же заявляя об этом, не скрывая чувств. Однажды непосредственно во время выступления Бетховен увидел, как один из гостей заговорил с дамой. Обозвал гостя, он прекратил игру, и так и не продолжил играть, несмотря на всего уговоры и извинения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260280"/>
            <a:ext cx="792504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.Прослушав импровизацию Бетховена, Моцарт воскликнул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Он всех заставит говорить о себе!»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804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404640"/>
            <a:ext cx="410688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1796 год Бетховен начинает терять слух (воспаление внутреннего уха, которое приводило к звону в ушах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Несмотря на глухоту Бетховен продолжал писать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79880" y="3429000"/>
            <a:ext cx="4014720" cy="244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59200" y="476280"/>
            <a:ext cx="42483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852640"/>
            <a:ext cx="81471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«Он был художник, но также и человек, человек в высшем смысле этого слова… О нем можно сказать, как ни о ком другом: он совершил великое, в нем не было ничего дурного»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71640" y="115920"/>
            <a:ext cx="42483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8:03:48Z</dcterms:created>
  <dc:creator>1</dc:creator>
  <dc:description/>
  <dc:language>en-US</dc:language>
  <cp:lastModifiedBy>Windows User</cp:lastModifiedBy>
  <dcterms:modified xsi:type="dcterms:W3CDTF">2014-04-09T11:25:07Z</dcterms:modified>
  <cp:revision>5</cp:revision>
  <dc:subject/>
  <dc:title>Людвиг ван Бетховен</dc:title>
</cp:coreProperties>
</file>