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11.png" ContentType="image/png"/>
  <Override PartName="/ppt/media/image6.png" ContentType="image/png"/>
  <Override PartName="/ppt/media/image23.jpeg" ContentType="image/jpeg"/>
  <Override PartName="/ppt/media/image21.jpeg" ContentType="image/jpeg"/>
  <Override PartName="/ppt/media/image16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4.jpeg" ContentType="image/jpeg"/>
  <Override PartName="/ppt/media/image2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50548-F4B1-48B0-90C3-9D1295511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E7E3B-4D50-456B-A406-531DCB45E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E6398-A76F-466A-BFBB-F303EA6AE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1F7D5-8BC1-43CF-9549-98B7FEB1B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A967C-5E5F-430F-AF43-CF8381CA9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1411F-FC83-4D6B-9096-9E74B17DD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82C3F-AC3D-4029-B3C5-C090A0753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E7115-AC33-41AB-9777-5A8F11950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DB5B8-B4DA-41A2-944D-EB79680D4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BF7CF-3B8C-4D5B-86C0-5C49BF999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FE972-EF11-47A2-9BD1-B7C1E62C1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4AFE7-0F7F-43A1-9C47-47C350905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CE3CB-A90D-4980-820A-37613034E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79CBE-5444-498A-B826-D2C31D74E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ED4F7-0DFD-43A1-988F-FE9F53708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EA87D-AFAC-46E5-BBB2-D04666B60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EC90F-3712-4C1E-A6BF-DEC6D0739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787696-6736-4B8A-B604-BEDB0FA82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CC8B4B-8A33-4ABF-8140-7FD808086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3551C6-B00C-456C-9DD3-BA9F1D987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3EEEC0-D9B8-4A7A-AE75-1FAAAFEEC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9C5BF3-64CA-49FF-AA73-B1C1CDBC5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DF37B-603F-4C69-9B65-0AE417D52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D979B2-5DF0-46FF-AEFE-64F9A6F16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F6F844-C13D-4540-98B2-1DD286E1E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06AD98-D34B-429A-9866-10834DFFE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99515B-DEDD-41DE-992A-D2B649AA2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3857F1-7B77-4B4F-9F30-2715EA96D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7D0144-9F56-4654-9565-1080E620A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3ADB9F-D408-460B-B286-CB66C77B8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E2F8E6-208D-490F-BEF8-26D8B7D7E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A0C464-F3B5-447E-BDDC-F320969FF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918954-164B-4802-9E8E-A481DE01A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721A2-A871-4B5B-AD3E-5CE03012F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B36A47-5BEC-4784-9CD1-E25695F51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5FF043-81B6-4AF7-A4D5-A881904E1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39B408-ECA9-4ECA-8B71-382D7B41D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A78C0C-1C67-4B60-8947-9CC668662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6ABD82-FC73-41E9-A85E-19FA602E6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A1C867-2734-48EB-A04F-67670F60A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7235AC-B5CD-4002-A6ED-8E15BDEF5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EC2DAE-970D-492A-98EB-F29FF3A0A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2911F1-3EE9-4591-8BB9-7C6B5D50B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0C0055-E4B6-43C2-B9FF-F123E2787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034E3-2552-48CA-ABAB-6AE09B2F6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5A85A7-CF34-4C48-9BBF-7CE84D23B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B6D974-8429-46AD-B377-7C4A320CA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F80F2B-2611-4143-98C8-2E39B5336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808C39-D85E-4467-8FA1-DEEA21543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FB5A72-7CA5-4D86-A7D7-2E972E1CB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9810D3-B8EC-4138-BA8D-71C62CBBC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47C9A7-91B1-4C20-A5F5-E7D36E5D6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DB5098-CEFC-43A7-8963-B85F034BA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02376B-52C2-4ABE-A7C3-0965CDB49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31FB3C-8453-447E-BA72-08649DC13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0CFC4-CE89-41D5-B7A9-4A05088C9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68C963-B74D-4937-8D16-B87E388E3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EF43C-7EF2-4D99-9C5E-8E1A58904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6F200-F8B5-4B13-9552-DFC6EA5E5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7C698-D0A2-4CFB-91F1-2214A4E1C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58CE0-D403-4B78-8D05-CA27DA0D4610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4D665-EC71-4B62-B639-9E0CFF08160A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82C22-E967-4423-BF32-AD89CB823742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8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ight Triangle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Freeform 9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Freeform 10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EA7B2-4353-4776-B4BB-E9BC2578C4A0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9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9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0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7D513-04A7-4B98-8441-0B97113F0178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Заголовок 1" descr=""/>
          <p:cNvPicPr/>
          <p:nvPr/>
        </p:nvPicPr>
        <p:blipFill>
          <a:blip r:embed="rId1"/>
          <a:stretch/>
        </p:blipFill>
        <p:spPr>
          <a:xfrm>
            <a:off x="1042920" y="304920"/>
            <a:ext cx="7394760" cy="4011480"/>
          </a:xfrm>
          <a:prstGeom prst="rect">
            <a:avLst/>
          </a:prstGeom>
          <a:ln w="0">
            <a:noFill/>
          </a:ln>
        </p:spPr>
      </p:pic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1371600" y="5084640"/>
            <a:ext cx="6400800" cy="72072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Подготовила: Бойко О.Ю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0" y="2636640"/>
            <a:ext cx="91440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В среднем на водоёмах России  в год погибает </a:t>
            </a:r>
            <a:r>
              <a:rPr b="1" lang="ru-RU" sz="2600" spc="-1" strike="noStrike">
                <a:solidFill>
                  <a:srgbClr val="ff0000"/>
                </a:solidFill>
                <a:latin typeface="Constantia"/>
              </a:rPr>
              <a:t>6-7 тыс. 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человек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0000"/>
                </a:solidFill>
                <a:latin typeface="Constantia"/>
              </a:rPr>
              <a:t>54%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 - во время купания, чаще всего в нетрезвом состоянии или в необорудованных опасных местах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2600" spc="-1" strike="noStrike">
                <a:solidFill>
                  <a:srgbClr val="ff0000"/>
                </a:solidFill>
                <a:latin typeface="Constantia"/>
              </a:rPr>
              <a:t>до 25%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 - во время водного туризма и при катании на лодках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0000"/>
                </a:solidFill>
                <a:latin typeface="Constantia"/>
              </a:rPr>
              <a:t>до 13% 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- в период паводков и наводнений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3"/>
          <p:cNvSpPr/>
          <p:nvPr/>
        </p:nvSpPr>
        <p:spPr>
          <a:xfrm>
            <a:off x="179280" y="189000"/>
            <a:ext cx="87854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ПРАВИЛА ПОВЕДЕНИЯ НА ВОДЕ: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Rectangle 4"/>
          <p:cNvSpPr/>
          <p:nvPr/>
        </p:nvSpPr>
        <p:spPr>
          <a:xfrm>
            <a:off x="250920" y="692280"/>
            <a:ext cx="8713800" cy="59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1. Не заходить в воду (в глубоких местах), не умея плавать. Купаться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олько в разрешённых, хорошо известных местах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2. Нельзя купаться вблизи водосбросов, шлюзов, пристаней, мостов,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водоворотов, стремнин, в судоходном фарватере, вблизи плавсредств…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3. Нельзя резко входить в воду или нырять после длительного пребыва-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ия на солнце, сразу после приёма пищи, в состоянии утомления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4.Запрещается прыгать в воду в незнакомых местах, проводить игры в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воде, связанные с захватами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5. Запрещается оставлять детей на берегу водоёма без присмотра взрос-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лых, умеющих плавать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6. Не умея плавать, нельзя находиться в воде на надувном матраце или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камере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7. Нельзя долго находиться в воде, особенно холодной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8. Нельзя купаться в штормовую погоду и во время грозы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9. Нельзя заниматься подводным плаванием или подводной охотой без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разрешения врача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" dur="8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" dur="8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8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960"/>
                            </p:stCondLst>
                            <p:childTnLst>
                              <p:par>
                                <p:cTn id="3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1960"/>
                            </p:stCondLst>
                            <p:childTnLst>
                              <p:par>
                                <p:cTn id="4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2960"/>
                            </p:stCondLst>
                            <p:childTnLst>
                              <p:par>
                                <p:cTn id="5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3960"/>
                            </p:stCondLst>
                            <p:childTnLst>
                              <p:par>
                                <p:cTn id="6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2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2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2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4960"/>
                            </p:stCondLst>
                            <p:childTnLst>
                              <p:par>
                                <p:cTn id="7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2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2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2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25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25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25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5960"/>
                            </p:stCondLst>
                            <p:childTnLst>
                              <p:par>
                                <p:cTn id="8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25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25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25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25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25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25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6960"/>
                            </p:stCondLst>
                            <p:childTnLst>
                              <p:par>
                                <p:cTn id="9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250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250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250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7960"/>
                            </p:stCondLst>
                            <p:childTnLst>
                              <p:par>
                                <p:cTn id="10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250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250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250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8960"/>
                            </p:stCondLst>
                            <p:childTnLst>
                              <p:par>
                                <p:cTn id="11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250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250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250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250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250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250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3"/>
          <p:cNvSpPr/>
          <p:nvPr/>
        </p:nvSpPr>
        <p:spPr>
          <a:xfrm>
            <a:off x="179280" y="0"/>
            <a:ext cx="8785440" cy="10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ПРИЧИНЫ ВОЗНИКНОВЕНИЯ ЧС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И ГИБЕЛИ ЛЮДЕЙ НА ВОДЕ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Rectangle 4"/>
          <p:cNvSpPr/>
          <p:nvPr/>
        </p:nvSpPr>
        <p:spPr>
          <a:xfrm>
            <a:off x="179280" y="1052640"/>
            <a:ext cx="8785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1. Нарушения правил поведения на воде, заведомо опасные действия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Rectangle 5"/>
          <p:cNvSpPr/>
          <p:nvPr/>
        </p:nvSpPr>
        <p:spPr>
          <a:xfrm>
            <a:off x="179280" y="1557360"/>
            <a:ext cx="87854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2. Попадание в воду людей, которые не умеют плавать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Rectangle 6"/>
          <p:cNvSpPr/>
          <p:nvPr/>
        </p:nvSpPr>
        <p:spPr>
          <a:xfrm>
            <a:off x="179280" y="2133720"/>
            <a:ext cx="87854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3. Стремительное, бурное течение водного потока.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Rectangle 7"/>
          <p:cNvSpPr/>
          <p:nvPr/>
        </p:nvSpPr>
        <p:spPr>
          <a:xfrm>
            <a:off x="179280" y="2708280"/>
            <a:ext cx="878544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4. Спазм дыхательных путей при неожиданном попадании в холодную воду,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«холодный шок»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Rectangle 8"/>
          <p:cNvSpPr/>
          <p:nvPr/>
        </p:nvSpPr>
        <p:spPr>
          <a:xfrm>
            <a:off x="179280" y="3429000"/>
            <a:ext cx="878544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5. Травмы, потеря сознания в воде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Rectangle 9"/>
          <p:cNvSpPr/>
          <p:nvPr/>
        </p:nvSpPr>
        <p:spPr>
          <a:xfrm>
            <a:off x="179280" y="4005360"/>
            <a:ext cx="87854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6. Пренебрежение средствами индивидуальной защиты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Rectangle 10"/>
          <p:cNvSpPr/>
          <p:nvPr/>
        </p:nvSpPr>
        <p:spPr>
          <a:xfrm>
            <a:off x="179280" y="4581360"/>
            <a:ext cx="87854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7. Ныряние в неизвестных местах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Rectangle 11"/>
          <p:cNvSpPr/>
          <p:nvPr/>
        </p:nvSpPr>
        <p:spPr>
          <a:xfrm>
            <a:off x="179280" y="5157720"/>
            <a:ext cx="8785440" cy="9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8. Купание в опасных местах: быстрое течение, наличие водорослей и посто-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ронних предметов в воде, сильные волны, водосбросы, судоходные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фарватеры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Rectangle 12"/>
          <p:cNvSpPr/>
          <p:nvPr/>
        </p:nvSpPr>
        <p:spPr>
          <a:xfrm>
            <a:off x="179280" y="6237360"/>
            <a:ext cx="87854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9. Судороги, усталость, переохлаждение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8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4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2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4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6" dur="2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4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0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5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4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5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8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16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2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16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6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16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0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3"/>
          <p:cNvSpPr/>
          <p:nvPr/>
        </p:nvSpPr>
        <p:spPr>
          <a:xfrm>
            <a:off x="250920" y="0"/>
            <a:ext cx="87138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МЕРЫ БЕЗОПАСНОСТИ НА ЛЬДУ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Rectangle 4"/>
          <p:cNvSpPr/>
          <p:nvPr/>
        </p:nvSpPr>
        <p:spPr>
          <a:xfrm>
            <a:off x="179280" y="549360"/>
            <a:ext cx="878544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1. Пользоваться проложенными тропами, при отсутствии их убедиться в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очности льда, но не ногами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Rectangle 5"/>
          <p:cNvSpPr/>
          <p:nvPr/>
        </p:nvSpPr>
        <p:spPr>
          <a:xfrm>
            <a:off x="179280" y="1341360"/>
            <a:ext cx="8785440" cy="9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2. При движении по льду обходить опасные участки, покрытые толстым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слоем снега. Безопасен для перехода лёд с зеленоватым оттенком и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толщиной не менее 7 см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Rectangle 6"/>
          <p:cNvSpPr/>
          <p:nvPr/>
        </p:nvSpPr>
        <p:spPr>
          <a:xfrm>
            <a:off x="179280" y="2349360"/>
            <a:ext cx="878544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3. При переходе по льду следовать друг за другом на расстоянии 5-6 м.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Быть готовым оказать помощь впереди идущему.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Rectangle 7"/>
          <p:cNvSpPr/>
          <p:nvPr/>
        </p:nvSpPr>
        <p:spPr>
          <a:xfrm>
            <a:off x="179280" y="3141720"/>
            <a:ext cx="878544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4. Катание на коньках разрешается при толщине льда: при одиночном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катании – не менее 12 см; при массовом катании – не менее 25 см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Rectangle 8"/>
          <p:cNvSpPr/>
          <p:nvPr/>
        </p:nvSpPr>
        <p:spPr>
          <a:xfrm>
            <a:off x="179280" y="3933720"/>
            <a:ext cx="878544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5. При переходе по льду на лыжах пользоваться проложенной лыжней, при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тсутствии – отстегнуть крепления лыж, снять петли лыжных палок с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истей рук. Рюкзак взять на одно плечо. Дистанция 5-6 м. Первый удара-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ми палок проверяет прочность льда и следит за его состоянием.  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Rectangle 9"/>
          <p:cNvSpPr/>
          <p:nvPr/>
        </p:nvSpPr>
        <p:spPr>
          <a:xfrm>
            <a:off x="179280" y="5373720"/>
            <a:ext cx="878544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6. Во время рыбной ловли нельзя пробивать много лунок на ограниченной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площади и собираться большими группами. Иметь при себе шнур длиной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12-15 м с закреплённым на одном конце грузом весом 400-500 г, с петлёй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на другом конце.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20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8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9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9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0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1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3"/>
          <p:cNvSpPr/>
          <p:nvPr/>
        </p:nvSpPr>
        <p:spPr>
          <a:xfrm>
            <a:off x="250920" y="189000"/>
            <a:ext cx="87138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ПРИ КАТАНИИ НА ПЛАВСРЕДСТВАХ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ЗАПРЕЩАЕТСЯ: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Rectangle 4"/>
          <p:cNvSpPr/>
          <p:nvPr/>
        </p:nvSpPr>
        <p:spPr>
          <a:xfrm>
            <a:off x="179280" y="1413000"/>
            <a:ext cx="8713800" cy="8636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ЕРЕГРУЖАТЬ ПЛАВСРЕДСТВО (ЛОДКУ, КАТЕР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Rectangle 5"/>
          <p:cNvSpPr/>
          <p:nvPr/>
        </p:nvSpPr>
        <p:spPr>
          <a:xfrm>
            <a:off x="179280" y="2709720"/>
            <a:ext cx="8713800" cy="8636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ЫГАТЬ В ВОДУ С ПЛАВСРЕДСТВА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Rectangle 6"/>
          <p:cNvSpPr/>
          <p:nvPr/>
        </p:nvSpPr>
        <p:spPr>
          <a:xfrm>
            <a:off x="179280" y="4221000"/>
            <a:ext cx="8713800" cy="8636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РАТЬ НА ЛОДКУ ДЕТЕЙ В ВОЗРАСТЕ ДО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7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ЛЕ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Rectangle 7"/>
          <p:cNvSpPr/>
          <p:nvPr/>
        </p:nvSpPr>
        <p:spPr>
          <a:xfrm>
            <a:off x="179280" y="5661000"/>
            <a:ext cx="8713800" cy="8636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АТАТЬСЯ В ВЕЧЕРНЕЕ И НОЧНОЕ ВРЕМЯ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20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20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nodeType="afterEffect" fill="hold">
                            <p:stCondLst>
                              <p:cond delay="6800"/>
                            </p:stCondLst>
                            <p:childTnLst>
                              <p:par>
                                <p:cTn id="226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2000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2000" fill="hold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232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237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42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247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О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КАЗАНИЕ ПЕРВОЙ ПОМОЩИ УТОПАЮЩЕМУ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4" name="Rectangle 7"/>
          <p:cNvSpPr/>
          <p:nvPr/>
        </p:nvSpPr>
        <p:spPr>
          <a:xfrm>
            <a:off x="0" y="836640"/>
            <a:ext cx="9144000" cy="60213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5" name="Picture 6" descr="~AUT0032"/>
          <p:cNvPicPr/>
          <p:nvPr/>
        </p:nvPicPr>
        <p:blipFill>
          <a:blip r:embed="rId1"/>
          <a:stretch/>
        </p:blipFill>
        <p:spPr>
          <a:xfrm>
            <a:off x="0" y="981000"/>
            <a:ext cx="2124000" cy="115272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7" descr="~AUT0033"/>
          <p:cNvPicPr/>
          <p:nvPr/>
        </p:nvPicPr>
        <p:blipFill>
          <a:blip r:embed="rId2"/>
          <a:stretch/>
        </p:blipFill>
        <p:spPr>
          <a:xfrm>
            <a:off x="2195640" y="981000"/>
            <a:ext cx="2089080" cy="1152720"/>
          </a:xfrm>
          <a:prstGeom prst="rect">
            <a:avLst/>
          </a:prstGeom>
          <a:ln w="0">
            <a:noFill/>
          </a:ln>
        </p:spPr>
      </p:pic>
      <p:sp>
        <p:nvSpPr>
          <p:cNvPr id="277" name="Rectangle 10"/>
          <p:cNvSpPr/>
          <p:nvPr/>
        </p:nvSpPr>
        <p:spPr>
          <a:xfrm>
            <a:off x="250920" y="2133720"/>
            <a:ext cx="3816360" cy="358560"/>
          </a:xfrm>
          <a:prstGeom prst="rect">
            <a:avLst/>
          </a:prstGeom>
          <a:solidFill>
            <a:srgbClr val="00ffff">
              <a:alpha val="2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мощь уставшему пловцу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8" name="Picture 4" descr="~AUT0034"/>
          <p:cNvPicPr/>
          <p:nvPr/>
        </p:nvPicPr>
        <p:blipFill>
          <a:blip r:embed="rId3"/>
          <a:stretch/>
        </p:blipFill>
        <p:spPr>
          <a:xfrm>
            <a:off x="4572000" y="981000"/>
            <a:ext cx="4392720" cy="1152720"/>
          </a:xfrm>
          <a:prstGeom prst="rect">
            <a:avLst/>
          </a:prstGeom>
          <a:ln w="0">
            <a:noFill/>
          </a:ln>
        </p:spPr>
      </p:pic>
      <p:sp>
        <p:nvSpPr>
          <p:cNvPr id="279" name="Rectangle 14"/>
          <p:cNvSpPr/>
          <p:nvPr/>
        </p:nvSpPr>
        <p:spPr>
          <a:xfrm>
            <a:off x="4572000" y="2133720"/>
            <a:ext cx="4321080" cy="358560"/>
          </a:xfrm>
          <a:prstGeom prst="rect">
            <a:avLst/>
          </a:prstGeom>
          <a:solidFill>
            <a:srgbClr val="00ffff">
              <a:alpha val="2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мощь уставшему пловцу вдвоём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0" name="Picture 7" descr="~AUT0035"/>
          <p:cNvPicPr/>
          <p:nvPr/>
        </p:nvPicPr>
        <p:blipFill>
          <a:blip r:embed="rId4"/>
          <a:stretch/>
        </p:blipFill>
        <p:spPr>
          <a:xfrm>
            <a:off x="2424240" y="2565360"/>
            <a:ext cx="2050920" cy="107964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8" descr="~AUT0036"/>
          <p:cNvPicPr/>
          <p:nvPr/>
        </p:nvPicPr>
        <p:blipFill>
          <a:blip r:embed="rId5"/>
          <a:stretch/>
        </p:blipFill>
        <p:spPr>
          <a:xfrm>
            <a:off x="4511520" y="2565360"/>
            <a:ext cx="2181240" cy="133992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8" descr="~AUT0028"/>
          <p:cNvPicPr/>
          <p:nvPr/>
        </p:nvPicPr>
        <p:blipFill>
          <a:blip r:embed="rId6"/>
          <a:stretch/>
        </p:blipFill>
        <p:spPr>
          <a:xfrm>
            <a:off x="6743880" y="2565360"/>
            <a:ext cx="2220840" cy="1190520"/>
          </a:xfrm>
          <a:prstGeom prst="rect">
            <a:avLst/>
          </a:prstGeom>
          <a:ln w="0">
            <a:noFill/>
          </a:ln>
        </p:spPr>
      </p:pic>
      <p:sp>
        <p:nvSpPr>
          <p:cNvPr id="283" name="Rectangle 19"/>
          <p:cNvSpPr/>
          <p:nvPr/>
        </p:nvSpPr>
        <p:spPr>
          <a:xfrm>
            <a:off x="2771640" y="3573360"/>
            <a:ext cx="5832720" cy="863640"/>
          </a:xfrm>
          <a:prstGeom prst="rect">
            <a:avLst/>
          </a:prstGeom>
          <a:solidFill>
            <a:srgbClr val="00ffff">
              <a:alpha val="2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иёмы и способы буксировки утопающего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а). За голову; б). «Морской захват»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4" name="Picture 6" descr="~AUT0043"/>
          <p:cNvPicPr/>
          <p:nvPr/>
        </p:nvPicPr>
        <p:blipFill>
          <a:blip r:embed="rId7"/>
          <a:srcRect l="13126" t="6157" r="0" b="6481"/>
          <a:stretch/>
        </p:blipFill>
        <p:spPr>
          <a:xfrm>
            <a:off x="250920" y="2565360"/>
            <a:ext cx="1944720" cy="1247760"/>
          </a:xfrm>
          <a:prstGeom prst="rect">
            <a:avLst/>
          </a:prstGeom>
          <a:ln w="0">
            <a:noFill/>
          </a:ln>
        </p:spPr>
      </p:pic>
      <p:sp>
        <p:nvSpPr>
          <p:cNvPr id="285" name="Rectangle 21"/>
          <p:cNvSpPr/>
          <p:nvPr/>
        </p:nvSpPr>
        <p:spPr>
          <a:xfrm>
            <a:off x="0" y="3860640"/>
            <a:ext cx="2411280" cy="360360"/>
          </a:xfrm>
          <a:prstGeom prst="rect">
            <a:avLst/>
          </a:prstGeom>
          <a:solidFill>
            <a:srgbClr val="00ffff">
              <a:alpha val="2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одход к утопающему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Oval 22"/>
          <p:cNvSpPr/>
          <p:nvPr/>
        </p:nvSpPr>
        <p:spPr>
          <a:xfrm>
            <a:off x="4284720" y="3141720"/>
            <a:ext cx="358560" cy="35856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Oval 23"/>
          <p:cNvSpPr/>
          <p:nvPr/>
        </p:nvSpPr>
        <p:spPr>
          <a:xfrm>
            <a:off x="6659640" y="3141720"/>
            <a:ext cx="358560" cy="35856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б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Rectangle 24"/>
          <p:cNvSpPr/>
          <p:nvPr/>
        </p:nvSpPr>
        <p:spPr>
          <a:xfrm>
            <a:off x="179280" y="5118120"/>
            <a:ext cx="4105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Times New Roman"/>
              </a:rPr>
              <a:t>       </a:t>
            </a:r>
            <a:r>
              <a:rPr b="1" lang="ru-RU" sz="1800" spc="-1" strike="noStrike">
                <a:solidFill>
                  <a:srgbClr val="800000"/>
                </a:solidFill>
                <a:latin typeface="Times New Roman"/>
              </a:rPr>
              <a:t>ИСТИННОЕ  УТОПЛЕНИЕ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(обычное или «синее»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Times New Roman"/>
              </a:rPr>
              <a:t>Признаки: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синюшный цвет лица, набухание сосудов шеи, обильные пенистые выделения изо рта и носа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Rectangle 25"/>
          <p:cNvSpPr/>
          <p:nvPr/>
        </p:nvSpPr>
        <p:spPr>
          <a:xfrm>
            <a:off x="4140360" y="5118120"/>
            <a:ext cx="5003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Times New Roman"/>
              </a:rPr>
              <a:t>БЛЕДНОЕ  УТОПЛЕНИЕ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(в холодной воде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Times New Roman"/>
              </a:rPr>
              <a:t>Признаки: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бледно-серый цвет кожи, отсутст-вие сознания; широкий, не реагирующий на свет зрачок; отсутствие пульса на сонной артерии; часто сухая, легко удаляемая платком пена в углах рта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Rectangle 26"/>
          <p:cNvSpPr/>
          <p:nvPr/>
        </p:nvSpPr>
        <p:spPr>
          <a:xfrm>
            <a:off x="2843280" y="4653000"/>
            <a:ext cx="3024000" cy="36036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ИДЫ УТОПЛЕНИЯ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3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7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7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5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8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3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8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1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9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5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9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9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2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2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nodeType="afterEffect" fill="hold">
                            <p:stCondLst>
                              <p:cond delay="2640"/>
                            </p:stCondLst>
                            <p:childTnLst>
                              <p:par>
                                <p:cTn id="31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nodeType="afterEffect" fill="hold">
                            <p:stCondLst>
                              <p:cond delay="364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2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2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nodeType="afterEffect" fill="hold">
                            <p:stCondLst>
                              <p:cond delay="844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2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2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lIns="0" rIns="0" tIns="46800" bIns="0" anchor="b" anchorCtr="1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СПАСАТЕЛЬНЫЕ СРЕДСТВА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92" name="Picture 5" descr="~AUT0054"/>
          <p:cNvPicPr/>
          <p:nvPr/>
        </p:nvPicPr>
        <p:blipFill>
          <a:blip r:embed="rId1"/>
          <a:stretch/>
        </p:blipFill>
        <p:spPr>
          <a:xfrm>
            <a:off x="2124000" y="765000"/>
            <a:ext cx="2005200" cy="216072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6" descr="osvod"/>
          <p:cNvPicPr/>
          <p:nvPr/>
        </p:nvPicPr>
        <p:blipFill>
          <a:blip r:embed="rId2"/>
          <a:stretch/>
        </p:blipFill>
        <p:spPr>
          <a:xfrm>
            <a:off x="0" y="765000"/>
            <a:ext cx="2141640" cy="2141640"/>
          </a:xfrm>
          <a:prstGeom prst="rect">
            <a:avLst/>
          </a:prstGeom>
          <a:ln w="0">
            <a:noFill/>
          </a:ln>
        </p:spPr>
      </p:pic>
      <p:sp>
        <p:nvSpPr>
          <p:cNvPr id="294" name="Rectangle 6"/>
          <p:cNvSpPr/>
          <p:nvPr/>
        </p:nvSpPr>
        <p:spPr>
          <a:xfrm>
            <a:off x="0" y="2924280"/>
            <a:ext cx="3851280" cy="576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4617b"/>
                </a:solidFill>
                <a:latin typeface="Times New Roman"/>
              </a:rPr>
              <a:t>СПАСАТЕЛЬНЫЙ КРУГ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5" name="Picture 7" descr="~AUT0025"/>
          <p:cNvPicPr/>
          <p:nvPr/>
        </p:nvPicPr>
        <p:blipFill>
          <a:blip r:embed="rId3"/>
          <a:stretch/>
        </p:blipFill>
        <p:spPr>
          <a:xfrm>
            <a:off x="179280" y="3500280"/>
            <a:ext cx="1971720" cy="140976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8" descr="~AUT0026"/>
          <p:cNvPicPr/>
          <p:nvPr/>
        </p:nvPicPr>
        <p:blipFill>
          <a:blip r:embed="rId4"/>
          <a:stretch/>
        </p:blipFill>
        <p:spPr>
          <a:xfrm>
            <a:off x="2411280" y="3500280"/>
            <a:ext cx="1721160" cy="1440000"/>
          </a:xfrm>
          <a:prstGeom prst="rect">
            <a:avLst/>
          </a:prstGeom>
          <a:ln w="0">
            <a:noFill/>
          </a:ln>
        </p:spPr>
      </p:pic>
      <p:sp>
        <p:nvSpPr>
          <p:cNvPr id="297" name="Rectangle 9"/>
          <p:cNvSpPr/>
          <p:nvPr/>
        </p:nvSpPr>
        <p:spPr>
          <a:xfrm>
            <a:off x="0" y="5229360"/>
            <a:ext cx="4211640" cy="13665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4617b"/>
                </a:solidFill>
                <a:latin typeface="Times New Roman"/>
              </a:rPr>
              <a:t>НУЖНО БРОСАТЬ ТАК,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4617b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4617b"/>
                </a:solidFill>
                <a:latin typeface="Times New Roman"/>
              </a:rPr>
              <a:t>ЧТОБЫ ЕГО НАНОСИЛО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4617b"/>
                </a:solidFill>
                <a:latin typeface="Times New Roman"/>
              </a:rPr>
              <a:t>НА УТОПАЮЩЕГО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8" name="Picture 6" descr="~AUT0057"/>
          <p:cNvPicPr/>
          <p:nvPr/>
        </p:nvPicPr>
        <p:blipFill>
          <a:blip r:embed="rId5"/>
          <a:stretch/>
        </p:blipFill>
        <p:spPr>
          <a:xfrm>
            <a:off x="4067280" y="765000"/>
            <a:ext cx="3843360" cy="2192400"/>
          </a:xfrm>
          <a:prstGeom prst="rect">
            <a:avLst/>
          </a:prstGeom>
          <a:ln w="0">
            <a:noFill/>
          </a:ln>
        </p:spPr>
      </p:pic>
      <p:sp>
        <p:nvSpPr>
          <p:cNvPr id="299" name="Rectangle 4"/>
          <p:cNvSpPr/>
          <p:nvPr/>
        </p:nvSpPr>
        <p:spPr>
          <a:xfrm>
            <a:off x="7524720" y="765000"/>
            <a:ext cx="1619280" cy="230364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4617b"/>
                </a:solidFill>
                <a:latin typeface="Times New Roman"/>
              </a:rPr>
              <a:t>КОНЕЦ </a:t>
            </a:r>
            <a:br>
              <a:rPr sz="2000"/>
            </a:br>
            <a:r>
              <a:rPr b="1" lang="ru-RU" sz="2000" spc="-1" strike="noStrike">
                <a:solidFill>
                  <a:srgbClr val="04617b"/>
                </a:solidFill>
                <a:latin typeface="Times New Roman"/>
              </a:rPr>
              <a:t>АЛЕКСАН-</a:t>
            </a:r>
            <a:br>
              <a:rPr sz="2000"/>
            </a:br>
            <a:r>
              <a:rPr b="1" lang="ru-RU" sz="2000" spc="-1" strike="noStrike">
                <a:solidFill>
                  <a:srgbClr val="04617b"/>
                </a:solidFill>
                <a:latin typeface="Times New Roman"/>
              </a:rPr>
              <a:t>ДРОВА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0" name="Picture 6" descr="~AUT0055"/>
          <p:cNvPicPr/>
          <p:nvPr/>
        </p:nvPicPr>
        <p:blipFill>
          <a:blip r:embed="rId6"/>
          <a:stretch/>
        </p:blipFill>
        <p:spPr>
          <a:xfrm>
            <a:off x="4284720" y="3429000"/>
            <a:ext cx="2000160" cy="2157480"/>
          </a:xfrm>
          <a:prstGeom prst="rect">
            <a:avLst/>
          </a:prstGeom>
          <a:ln w="0">
            <a:noFill/>
          </a:ln>
        </p:spPr>
      </p:pic>
      <p:sp>
        <p:nvSpPr>
          <p:cNvPr id="301" name="Rectangle 2"/>
          <p:cNvSpPr/>
          <p:nvPr/>
        </p:nvSpPr>
        <p:spPr>
          <a:xfrm>
            <a:off x="4211640" y="5661000"/>
            <a:ext cx="2459160" cy="85896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4617b"/>
                </a:solidFill>
                <a:latin typeface="Times New Roman"/>
              </a:rPr>
              <a:t>СПАСАТЕЛЬНЫЙ </a:t>
            </a:r>
            <a:br>
              <a:rPr sz="2000"/>
            </a:br>
            <a:r>
              <a:rPr b="1" lang="ru-RU" sz="2000" spc="-1" strike="noStrike">
                <a:solidFill>
                  <a:srgbClr val="04617b"/>
                </a:solidFill>
                <a:latin typeface="Times New Roman"/>
              </a:rPr>
              <a:t>НАГРУДНИК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2" name="Picture 6" descr="~AUT0056"/>
          <p:cNvPicPr/>
          <p:nvPr/>
        </p:nvPicPr>
        <p:blipFill>
          <a:blip r:embed="rId7"/>
          <a:stretch/>
        </p:blipFill>
        <p:spPr>
          <a:xfrm>
            <a:off x="6649920" y="3068640"/>
            <a:ext cx="2494080" cy="2589120"/>
          </a:xfrm>
          <a:prstGeom prst="rect">
            <a:avLst/>
          </a:prstGeom>
          <a:ln w="0">
            <a:noFill/>
          </a:ln>
        </p:spPr>
      </p:pic>
      <p:sp>
        <p:nvSpPr>
          <p:cNvPr id="303" name="Rectangle 4"/>
          <p:cNvSpPr/>
          <p:nvPr/>
        </p:nvSpPr>
        <p:spPr>
          <a:xfrm>
            <a:off x="6684840" y="5734080"/>
            <a:ext cx="2459160" cy="71424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4617b"/>
                </a:solidFill>
                <a:latin typeface="Times New Roman"/>
              </a:rPr>
              <a:t>СПАСАТЕЛЬНЫЙ </a:t>
            </a:r>
            <a:br>
              <a:rPr sz="2000"/>
            </a:br>
            <a:r>
              <a:rPr b="1" lang="ru-RU" sz="2000" spc="-1" strike="noStrike">
                <a:solidFill>
                  <a:srgbClr val="04617b"/>
                </a:solidFill>
                <a:latin typeface="Times New Roman"/>
              </a:rPr>
              <a:t>ЖИЛЕТ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8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5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2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5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0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6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4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9" dur="2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7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3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7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9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8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3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4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1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39640" y="115920"/>
            <a:ext cx="8229600" cy="93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Последовательность оказания помощи при утоплении: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305" name="Picture 3" descr=""/>
          <p:cNvPicPr/>
          <p:nvPr/>
        </p:nvPicPr>
        <p:blipFill>
          <a:blip r:embed="rId1"/>
          <a:stretch/>
        </p:blipFill>
        <p:spPr>
          <a:xfrm>
            <a:off x="179280" y="476280"/>
            <a:ext cx="2538360" cy="280836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4" descr=""/>
          <p:cNvPicPr/>
          <p:nvPr/>
        </p:nvPicPr>
        <p:blipFill>
          <a:blip r:embed="rId2"/>
          <a:stretch/>
        </p:blipFill>
        <p:spPr>
          <a:xfrm>
            <a:off x="6205680" y="476280"/>
            <a:ext cx="2701800" cy="3240000"/>
          </a:xfrm>
          <a:prstGeom prst="rect">
            <a:avLst/>
          </a:prstGeom>
          <a:ln w="0">
            <a:noFill/>
          </a:ln>
        </p:spPr>
      </p:pic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0" y="3212640"/>
            <a:ext cx="9144000" cy="32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2356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23560" indent="-22356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освободить дыхательные пути и легкие от воды уложив пострадавшего животом на бедро и удерживая правой рукой за ноги левой рукой нажимать на спину пострадавшего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23560" indent="-22356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0000"/>
                </a:solidFill>
                <a:latin typeface="Constantia"/>
              </a:rPr>
              <a:t>тщательно очистить полость рта, особенно за языком от  слизи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23560" indent="-22356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сочетая с искусственным дыханием (методом «рот в рот») -</a:t>
            </a:r>
            <a:r>
              <a:rPr b="1" lang="ru-RU" sz="2600" spc="-1" strike="noStrike" u="sng">
                <a:solidFill>
                  <a:srgbClr val="ff0000"/>
                </a:solidFill>
                <a:uFillTx/>
                <a:latin typeface="Constantia"/>
              </a:rPr>
              <a:t> 2 раза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, провести непрямой массаж сердца (</a:t>
            </a:r>
            <a:r>
              <a:rPr b="1" lang="ru-RU" sz="2600" spc="-1" strike="noStrike" u="sng">
                <a:solidFill>
                  <a:srgbClr val="ff0000"/>
                </a:solidFill>
                <a:uFillTx/>
                <a:latin typeface="Constantia"/>
              </a:rPr>
              <a:t>30 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ритмических нажатий на нижнюю треть грудины), чередуя их вдуванием воздуха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08" name="Picture 6" descr=""/>
          <p:cNvPicPr/>
          <p:nvPr/>
        </p:nvPicPr>
        <p:blipFill>
          <a:blip r:embed="rId3"/>
          <a:stretch/>
        </p:blipFill>
        <p:spPr>
          <a:xfrm>
            <a:off x="2627280" y="981000"/>
            <a:ext cx="3240000" cy="1839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25T07:23:43Z</dcterms:created>
  <dc:creator>.</dc:creator>
  <dc:description/>
  <dc:language>en-US</dc:language>
  <cp:lastModifiedBy>User</cp:lastModifiedBy>
  <dcterms:modified xsi:type="dcterms:W3CDTF">2020-04-07T11:06:46Z</dcterms:modified>
  <cp:revision>49</cp:revision>
  <dc:subject/>
  <dc:title>ТЕМА 26</dc:title>
</cp:coreProperties>
</file>