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96E1-B550-49F5-B5FB-F1A07320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03A7-AE82-4E30-877B-46D85E7D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66BD-847E-4733-B939-A4113CAA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5B97-B5EC-47E8-A361-4B4ED2D6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961E-FC2C-44BE-A222-63917FFC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2154-95CC-46C3-A772-2A8E9DBD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526E-4FFE-4359-B802-6AD45075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EB86-8B25-4C08-8EAE-3266E78F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F640-42A1-4DD2-8193-19B165AF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EF8-DCEB-4E95-B1F2-1F05D154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513A-2F9A-4456-BB5B-33D75AF3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EAD-F8D6-454E-8DC5-169F46D4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5CF9-140D-4646-BA32-FF673DDE4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Сергей Владимирович Михал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4" descr="100744489_tonnel.gif"/>
          <p:cNvPicPr/>
          <p:nvPr/>
        </p:nvPicPr>
        <p:blipFill>
          <a:blip r:embed="rId2"/>
          <a:stretch/>
        </p:blipFill>
        <p:spPr>
          <a:xfrm>
            <a:off x="500040" y="1504800"/>
            <a:ext cx="3714840" cy="4432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ером – оружием своим,                                                               Что я в руках держу, -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сем честным людям трудовы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Я, как солдат, служ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. Михалков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Сергей Владимирович Михал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ергей Владимирович Михалков родился 13 марта 1913 года в Москв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Школьные годы Михалков провел в Пятигорске. В 1930 году он окончил среднюю школу, но еще за два года до этого было опубликовано его первое стихотворение «Дорог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mihal1.jpg"/>
          <p:cNvPicPr/>
          <p:nvPr/>
        </p:nvPicPr>
        <p:blipFill>
          <a:blip r:embed="rId2"/>
          <a:stretch/>
        </p:blipFill>
        <p:spPr>
          <a:xfrm>
            <a:off x="428760" y="1428840"/>
            <a:ext cx="2928960" cy="4851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85480" y="1285920"/>
            <a:ext cx="27860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Сергей Владимирович Михал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В годы Великой Отечественной войны Михалков находился в рядах Красной армии, работал в армейской печа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Знаменитые строки на гранитной плите Вечного огня у Кремлевской стены: </a:t>
            </a:r>
            <a:r>
              <a:rPr b="1" i="1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"Имя твое неизвестно, подвиг твой бессмертен"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, - также принадлежит Михалков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5" descr="mihal3.jpg"/>
          <p:cNvPicPr/>
          <p:nvPr/>
        </p:nvPicPr>
        <p:blipFill>
          <a:blip r:embed="rId2"/>
          <a:stretch/>
        </p:blipFill>
        <p:spPr>
          <a:xfrm>
            <a:off x="285840" y="2071800"/>
            <a:ext cx="4165560" cy="29131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mihal2.jpg"/>
          <p:cNvPicPr/>
          <p:nvPr/>
        </p:nvPicPr>
        <p:blipFill>
          <a:blip r:embed="rId3"/>
          <a:stretch/>
        </p:blipFill>
        <p:spPr>
          <a:xfrm>
            <a:off x="928800" y="1571760"/>
            <a:ext cx="2666880" cy="44290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monument200.jpg"/>
          <p:cNvPicPr/>
          <p:nvPr/>
        </p:nvPicPr>
        <p:blipFill>
          <a:blip r:embed="rId4"/>
          <a:stretch/>
        </p:blipFill>
        <p:spPr>
          <a:xfrm>
            <a:off x="214200" y="1857240"/>
            <a:ext cx="45259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Литературная деятельность                     С. В. Михалк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4" descr="untitled.bmp"/>
          <p:cNvPicPr/>
          <p:nvPr/>
        </p:nvPicPr>
        <p:blipFill>
          <a:blip r:embed="rId2"/>
          <a:stretch/>
        </p:blipFill>
        <p:spPr>
          <a:xfrm>
            <a:off x="285840" y="1571760"/>
            <a:ext cx="3881520" cy="3357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648320" y="1142640"/>
            <a:ext cx="40384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э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иса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Баснописе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раматур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ереводч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ценари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Журнали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Автор гимна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5" descr="058128.jpg"/>
          <p:cNvPicPr/>
          <p:nvPr/>
        </p:nvPicPr>
        <p:blipFill>
          <a:blip r:embed="rId3"/>
          <a:stretch/>
        </p:blipFill>
        <p:spPr>
          <a:xfrm>
            <a:off x="285840" y="2071800"/>
            <a:ext cx="4168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Доскажи словеч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412640"/>
            <a:ext cx="40719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 доме восемь дробь один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 заставы Ильича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Жил высокий гражданин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 прозванью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 одном переулке стояли дома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 одном из домов жил Упрямый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 прививку! Первый класс!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 слыхали? Это нас!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чему я встал у стенки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 меня дрожат.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ы едем, едем, едем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 далекие края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орошие соседи, счастливые ………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714920" y="142884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то, набив пирожным рот, 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оворит: А г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то на лавочке сидел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то на улицу глядел,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оля пел, Борис  молча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иколай ного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…….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ать сказала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 Дверь закрой!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К нам летит пчели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2500200" y="207180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алан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2000160" y="3071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Ф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2714760" y="435780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ол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2286000" y="54291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друз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7072200" y="164304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омпо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7143840" y="285768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ач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8001000" y="364320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Желаю вам больше читать и получать радость от прочитанного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10:27Z</dcterms:created>
  <dc:creator>1</dc:creator>
  <dc:description/>
  <dc:language>en-US</dc:language>
  <cp:lastModifiedBy>XTreme.ws</cp:lastModifiedBy>
  <dcterms:modified xsi:type="dcterms:W3CDTF">2020-04-06T20:47:49Z</dcterms:modified>
  <cp:revision>39</cp:revision>
  <dc:subject/>
  <dc:title>Сергей Владимирович Михалков</dc:title>
</cp:coreProperties>
</file>