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AAB-D4F6-4A1C-8D0D-7B53C779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315-3145-493F-9E6F-4B0276F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B83-382C-4B4E-80F7-6AE3D2E8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F93-5237-4274-9480-46ED22C1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C40-4EF8-4DB3-9202-7A8CD38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3D4-7B0C-4036-8001-C5EB9BF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31A-18A4-424D-B867-010000D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9AA-7280-49E8-B7F8-A9B335F8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D44-6767-4681-9A33-B26FDB23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BC4-C8D8-46F7-AC7A-9438483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B3B-9FD1-4D71-A8B7-300DADD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8A0-9647-45B6-87F8-DB03621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0D35-2252-4731-A7F5-FEBB20C0C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100744489_tonnel.gif"/>
          <p:cNvPicPr/>
          <p:nvPr/>
        </p:nvPicPr>
        <p:blipFill>
          <a:blip r:embed="rId2"/>
          <a:stretch/>
        </p:blipFill>
        <p:spPr>
          <a:xfrm>
            <a:off x="500040" y="1504800"/>
            <a:ext cx="3714840" cy="443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ером – оружием своим,                                                               Что я в руках держу, -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м честным людям трудов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Я, как солдат, служ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. Михалков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ргей Владимирович Михалков родился 13 марта 1913 года в Моск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кольные годы Михалков провел в Пятигорске. В 1930 году он окончил среднюю школу, но еще за два года до этого было опубликовано его первое стихотворение «Дорог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mihal1.jpg"/>
          <p:cNvPicPr/>
          <p:nvPr/>
        </p:nvPicPr>
        <p:blipFill>
          <a:blip r:embed="rId2"/>
          <a:stretch/>
        </p:blipFill>
        <p:spPr>
          <a:xfrm>
            <a:off x="428760" y="1428840"/>
            <a:ext cx="2928960" cy="485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5480" y="1285920"/>
            <a:ext cx="2786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, - также принадлежит Михалков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mihal3.jpg"/>
          <p:cNvPicPr/>
          <p:nvPr/>
        </p:nvPicPr>
        <p:blipFill>
          <a:blip r:embed="rId2"/>
          <a:stretch/>
        </p:blipFill>
        <p:spPr>
          <a:xfrm>
            <a:off x="285840" y="2071800"/>
            <a:ext cx="4165560" cy="2913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mihal2.jpg"/>
          <p:cNvPicPr/>
          <p:nvPr/>
        </p:nvPicPr>
        <p:blipFill>
          <a:blip r:embed="rId3"/>
          <a:stretch/>
        </p:blipFill>
        <p:spPr>
          <a:xfrm>
            <a:off x="928800" y="1571760"/>
            <a:ext cx="266688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monument200.jpg"/>
          <p:cNvPicPr/>
          <p:nvPr/>
        </p:nvPicPr>
        <p:blipFill>
          <a:blip r:embed="rId4"/>
          <a:stretch/>
        </p:blipFill>
        <p:spPr>
          <a:xfrm>
            <a:off x="214200" y="1857240"/>
            <a:ext cx="4525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untitled.bmp"/>
          <p:cNvPicPr/>
          <p:nvPr/>
        </p:nvPicPr>
        <p:blipFill>
          <a:blip r:embed="rId2"/>
          <a:stretch/>
        </p:blipFill>
        <p:spPr>
          <a:xfrm>
            <a:off x="285840" y="1571760"/>
            <a:ext cx="3881520" cy="335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058128.jpg"/>
          <p:cNvPicPr/>
          <p:nvPr/>
        </p:nvPicPr>
        <p:blipFill>
          <a:blip r:embed="rId3"/>
          <a:stretch/>
        </p:blipFill>
        <p:spPr>
          <a:xfrm>
            <a:off x="285840" y="2071800"/>
            <a:ext cx="416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41264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ставы Ильич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ил высокий граждани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 слыхали? Это нас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я встал у стенки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дем, едем, еде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лекие кра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ие соседи, счастливые 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14920" y="142884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, набив пирожным рот, 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: А 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лавочке сиде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улицу глядел,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ля пел, Борис  молч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иколай ног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ь сказала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 Дверь закрой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К нам летит пчели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500200" y="20718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лан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00016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2714760" y="43578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2286000" y="54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072200" y="1643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о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7143840" y="28576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001000" y="364320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Желаю вам больше читать и получать радость от прочитанног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XTreme.ws</cp:lastModifiedBy>
  <dcterms:modified xsi:type="dcterms:W3CDTF">2020-04-06T20:47:49Z</dcterms:modified>
  <cp:revision>39</cp:revision>
  <dc:subject/>
  <dc:title>Сергей Владимирович Михалков</dc:title>
</cp:coreProperties>
</file>