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EB5-DECD-4BA5-95E5-87B212C8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CC6-A2BE-4AF5-841E-E8440B9D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F10-1A6F-4AAF-BA60-CDC71D2C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653-F933-45CF-9318-4D728856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014B-92D4-472F-9C54-4FB18630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E772-19CF-4156-A59A-D795966C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0D50-7AF6-4668-9B4F-CF3DE8DB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1E63-0BCF-4C9A-A19C-891C96A8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EF03-FE59-48A8-AC34-0D266313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F28C-07EE-4661-9017-08AD17B6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4723-30F1-4950-ACDB-285805AE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0AD-1EBF-459D-B5C6-B37C3FB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878D-6F8D-4032-9311-194670F8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7AE5-EB65-4EC7-8D74-82E87AAF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9A18-3AB6-4E77-9176-8FCFD9E6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F3F1-12E3-4A6A-A088-E2E61C9C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A19F-A71B-419E-ADEB-646FC974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E1227-7FCC-4541-84A0-EBC26359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38AA8-8051-4161-ADA5-F5611E0F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8945F-789F-4D12-9EB4-16F592E4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2E001-FACE-4B24-B488-C24CE5A1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F3219-1CAA-44F9-8685-2DEBC92F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BB3-E53A-40D9-8C64-74DF2C08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7A9F4-59BF-4AFF-BF8D-96D292A9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B5D12-A3F1-461B-B4A6-CA79178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A3797-EBEA-46E7-91D8-0E63495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DE3E5-5CEE-4427-9204-9814C4F7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8AC09-0ECA-4D8D-9677-BA656827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0099C-E2A1-4252-BE65-67ACCB04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8ACD4-AC1C-4693-982F-472ABF12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B9BF-4B70-4DB6-B463-36ADEC34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3B31-0E44-49F8-8BD2-873236DD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AF4A-6F6C-4AD3-8B33-A6E3EACB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F67-CA16-4BD1-8CB4-AAC8A863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4EAC8-F81F-4892-839D-C410D93D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A8F2-3004-42EB-8142-635B2318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BF20-F66D-4E73-81B5-535DDFAE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D4282-92CD-463A-85A7-4A1C0F64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EA6F-4A13-411D-A3CA-5327EC2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2D52-A74E-4FBD-8CFE-0D1FB3BF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AFB72-E67E-448C-A033-AD9A7C60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9D564-13B8-4AA1-8FF5-69808EE8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84F8-CE64-444A-AF33-147841C5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8AA-5C01-4224-AD70-6D3A53AD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749-81D0-4EBC-A3E0-56E9C399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5E3-BF14-4CB5-B503-5AE91CEE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55B-BC30-44D8-B0D4-149B097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D1B-9E37-4816-BCF8-1296BDB5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CFD4-27D9-45AD-BAB7-3287214A06B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6641-1AC8-42C4-82ED-906D9FD96E3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A60A-BFB9-46F0-8B10-7B51A8874DD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FDD3-CAB2-4B8E-97E7-95D01DA5D58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rebuchet MS"/>
              </a:rPr>
              <a:t>Биосфера, её структура и функ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Рисунок 3" descr="крокодил.jpg"/>
          <p:cNvPicPr/>
          <p:nvPr/>
        </p:nvPicPr>
        <p:blipFill>
          <a:blip r:embed="rId1"/>
          <a:stretch/>
        </p:blipFill>
        <p:spPr>
          <a:xfrm>
            <a:off x="0" y="2819520"/>
            <a:ext cx="2895480" cy="19317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рыбы.jpg"/>
          <p:cNvPicPr/>
          <p:nvPr/>
        </p:nvPicPr>
        <p:blipFill>
          <a:blip r:embed="rId2"/>
          <a:stretch/>
        </p:blipFill>
        <p:spPr>
          <a:xfrm>
            <a:off x="2895480" y="3733920"/>
            <a:ext cx="3127320" cy="23619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стрекоза.jpg"/>
          <p:cNvPicPr/>
          <p:nvPr/>
        </p:nvPicPr>
        <p:blipFill>
          <a:blip r:embed="rId3"/>
          <a:stretch/>
        </p:blipFill>
        <p:spPr>
          <a:xfrm>
            <a:off x="5943600" y="4594320"/>
            <a:ext cx="32004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756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пользуя учебник и презентацию заполните таблиц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2209680"/>
          <a:ext cx="8229600" cy="3846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реда об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испособ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имер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земно-воздуш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д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чвен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м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Используя учебник и дополнительные источники заполните таблицу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2249640"/>
          <a:ext cx="8229600" cy="3084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Тип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ивое ве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стное вещ-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.т.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2667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3200" spc="-1" strike="noStrike">
                <a:solidFill>
                  <a:srgbClr val="67afbd"/>
                </a:solidFill>
                <a:latin typeface="Trebuchet MS"/>
              </a:rPr>
              <a:t>Всю массу организмов всех видов </a:t>
            </a:r>
            <a:br>
              <a:rPr sz="3200"/>
            </a:br>
            <a:r>
              <a:rPr b="0" lang="ru-RU" sz="3200" spc="-1" strike="noStrike">
                <a:solidFill>
                  <a:srgbClr val="67afbd"/>
                </a:solidFill>
                <a:latin typeface="Trebuchet MS"/>
              </a:rPr>
              <a:t>В. И. Вернадский назвал </a:t>
            </a:r>
            <a:br>
              <a:rPr sz="3200"/>
            </a:br>
            <a:r>
              <a:rPr b="1" i="1" lang="ru-RU" sz="3200" spc="-1" strike="noStrike">
                <a:solidFill>
                  <a:srgbClr val="67afbd"/>
                </a:solidFill>
                <a:latin typeface="Trebuchet MS"/>
              </a:rPr>
              <a:t>живым веществом</a:t>
            </a:r>
            <a:r>
              <a:rPr b="0" lang="ru-RU" sz="3200" spc="-1" strike="noStrike">
                <a:solidFill>
                  <a:srgbClr val="67afbd"/>
                </a:solidFill>
                <a:latin typeface="Trebuchet MS"/>
              </a:rPr>
              <a:t> Земли.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4" descr="resE680672A-57A0-44EC-8A4C-5714A6201D94"/>
          <p:cNvPicPr/>
          <p:nvPr/>
        </p:nvPicPr>
        <p:blipFill>
          <a:blip r:embed="rId1"/>
          <a:stretch/>
        </p:blipFill>
        <p:spPr>
          <a:xfrm>
            <a:off x="228600" y="914400"/>
            <a:ext cx="2895480" cy="3446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3276720" y="1905120"/>
            <a:ext cx="5580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дающийся русский уче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кадемик, основоположник науки геохимии, создал учение о биосфере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819520" y="609480"/>
            <a:ext cx="588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7afbd"/>
                </a:solidFill>
                <a:latin typeface="Georgia"/>
              </a:rPr>
              <a:t>В. И. Вернадский</a:t>
            </a:r>
            <a:r>
              <a:rPr b="0" lang="ru-RU" sz="4400" spc="-1" strike="noStrike">
                <a:solidFill>
                  <a:srgbClr val="67afbd"/>
                </a:solidFill>
                <a:latin typeface="Georgia"/>
              </a:rPr>
              <a:t> </a:t>
            </a:r>
            <a:br>
              <a:rPr sz="4400"/>
            </a:br>
            <a:r>
              <a:rPr b="1" lang="ru-RU" sz="1800" spc="-1" strike="noStrike">
                <a:solidFill>
                  <a:srgbClr val="67afbd"/>
                </a:solidFill>
                <a:latin typeface="Georgia"/>
              </a:rPr>
              <a:t>( 1863 - 1945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491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acb8"/>
                </a:solidFill>
                <a:latin typeface="Trebuchet MS"/>
              </a:rPr>
              <a:t>В составе биосферы различают: (записать в тетрадь</a:t>
            </a:r>
            <a:r>
              <a:rPr b="1" i="1" lang="ru-RU" sz="3600" spc="-1" strike="noStrike">
                <a:solidFill>
                  <a:srgbClr val="3eacb8"/>
                </a:solidFill>
                <a:latin typeface="Trebuchet MS"/>
              </a:rPr>
              <a:t>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371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живое вещество, образованное совокупностью организмов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228600" y="20574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огенное вещество, которое создаётся в процессе жизнедеятельности организмов (газы, каменный уголь, нефть, известняки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228600" y="38098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стное вещество, образующееся без участия живых организмов (основные породы, лава вулканов, метеори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228600" y="51814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окосное вещество, представляющее собой общий результат жизнедеятельности организмов и абиогенных процессов, например поч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faba1"/>
                </a:solidFill>
                <a:latin typeface="Trebuchet MS"/>
              </a:rPr>
              <a:t>Границы биосфер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Содержимое 3" descr="12030102.png"/>
          <p:cNvPicPr/>
          <p:nvPr/>
        </p:nvPicPr>
        <p:blipFill>
          <a:blip r:embed="rId1"/>
          <a:stretch/>
        </p:blipFill>
        <p:spPr>
          <a:xfrm>
            <a:off x="4114800" y="1589040"/>
            <a:ext cx="5029200" cy="4525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457200" y="1600200"/>
            <a:ext cx="3581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ерхняя граница проходит на высоте 20 км от поверхности планеты и ограничена слоем оз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гидросфере земной коры организмы проникают на всю глубину Мирового океана – до 10-11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литосфере жизнь встречается на глубине 3,5-7,5 км, что обусловлено температурой земных недр и уровнем проникновения воды в жидк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eacb8"/>
                </a:solidFill>
                <a:latin typeface="Trebuchet MS"/>
              </a:rPr>
              <a:t>Атмосфе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62160" y="15235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азовая оболочка, которая в основном состоит из азота и кислорода, в небольших количествах диоксид углерода и озо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зот, диоксид углерода, пары воды образовались в значительной мере благодаря вулканической деятельности, а кислород – в результате фотосинте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3" descr="12030301.gif"/>
          <p:cNvPicPr/>
          <p:nvPr/>
        </p:nvPicPr>
        <p:blipFill>
          <a:blip r:embed="rId1"/>
          <a:stretch/>
        </p:blipFill>
        <p:spPr>
          <a:xfrm>
            <a:off x="0" y="2209680"/>
            <a:ext cx="4092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3581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eacb8"/>
                </a:solidFill>
                <a:latin typeface="Trebuchet MS"/>
              </a:rPr>
              <a:t>Гидросфе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Содержимое 3" descr="12030209.jpg"/>
          <p:cNvPicPr/>
          <p:nvPr/>
        </p:nvPicPr>
        <p:blipFill>
          <a:blip r:embed="rId1"/>
          <a:stretch/>
        </p:blipFill>
        <p:spPr>
          <a:xfrm>
            <a:off x="1752480" y="4572000"/>
            <a:ext cx="5867640" cy="19051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304920" y="152388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важный компонент биосферы и один из необходимых факторов существования живых организмов. Гидросфера сформировалась в связи с развитием литосферы, которая в течение геологической истории Земли выделяла большое количество водяного п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eacb8"/>
                </a:solidFill>
                <a:latin typeface="Trebuchet MS"/>
              </a:rPr>
              <a:t>Литосфе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Содержимое 6" descr="167000.JPG"/>
          <p:cNvPicPr/>
          <p:nvPr/>
        </p:nvPicPr>
        <p:blipFill>
          <a:blip r:embed="rId1"/>
          <a:stretch/>
        </p:blipFill>
        <p:spPr>
          <a:xfrm>
            <a:off x="2895480" y="426708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457200" y="1066680"/>
            <a:ext cx="83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новная масса организмов, обитающих в литосфере, находятся в почвенном слое, глубина которого не превышает нескольких метров. Почва включает минеральные вещества, образующиеся при разрушении горных пород, и органические вещества – продукты жизнедеятельности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acb8"/>
                </a:solidFill>
                <a:latin typeface="Trebuchet MS"/>
              </a:rPr>
              <a:t>Среда обита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088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это часть природы, окружающая живые организмы и оказывающая на них прямое и косвенное воздейств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Рисунок 3" descr="рыбы.jpg"/>
          <p:cNvPicPr/>
          <p:nvPr/>
        </p:nvPicPr>
        <p:blipFill>
          <a:blip r:embed="rId1"/>
          <a:stretch/>
        </p:blipFill>
        <p:spPr>
          <a:xfrm>
            <a:off x="152280" y="3429000"/>
            <a:ext cx="2567160" cy="19382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6000.JPG"/>
          <p:cNvPicPr/>
          <p:nvPr/>
        </p:nvPicPr>
        <p:blipFill>
          <a:blip r:embed="rId2"/>
          <a:stretch/>
        </p:blipFill>
        <p:spPr>
          <a:xfrm>
            <a:off x="2819520" y="48006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12010303.jpg"/>
          <p:cNvPicPr/>
          <p:nvPr/>
        </p:nvPicPr>
        <p:blipFill>
          <a:blip r:embed="rId3"/>
          <a:stretch/>
        </p:blipFill>
        <p:spPr>
          <a:xfrm>
            <a:off x="5943600" y="3429000"/>
            <a:ext cx="275256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MF0372.JPG"/>
          <p:cNvPicPr/>
          <p:nvPr/>
        </p:nvPicPr>
        <p:blipFill>
          <a:blip r:embed="rId4"/>
          <a:stretch/>
        </p:blipFill>
        <p:spPr>
          <a:xfrm>
            <a:off x="2971800" y="262908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aba1"/>
                </a:solidFill>
                <a:latin typeface="Trebuchet MS"/>
              </a:rPr>
              <a:t>Выводы урока (записать в тетрадь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иосфера – оболочка Земли, заселённая живыми организм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раницы биосферы пролегают непосредственно под озоновым экраном и в толще земной коры на глубине 4-5 км и определяются факторами земной среды, которые делают невозможным существование живых организм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иосфера включает: живое вещество, биогенное вещество, костное вещество, биокостное веществ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пределах биосферы можно выделить четыре среды обитания: водную, наземно-воздушную, почвенную и организменну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воение разных сред обитания требует разнообразных экологических приспособле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0-04-07T12:39:34Z</dcterms:modified>
  <cp:revision>30</cp:revision>
  <dc:subject/>
  <dc:title>Биосфера, её структура и функции</dc:title>
</cp:coreProperties>
</file>