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89A6-36BC-47E2-8ADB-F145037F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7BC5-2416-41E5-B1E3-2C1D905B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A892-9C29-4E8E-97EB-4FFDB773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79E9-5132-4FDE-9C1D-85C571D9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B7E5-AA40-48C7-9928-EC074F32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1BC5-8114-43FF-B023-A28EE5E5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3659-CC11-4959-BCC6-61EA76B2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568C-CBE4-4167-82BB-3C9E8519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0274-9ACE-46FF-AD97-939674EA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35F9-F8D1-4EF1-9119-189EB4F8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803D-0CC5-447B-A153-514B62B0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0C2A-59FB-456B-8391-8308290F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35E2-E537-484B-B978-AD2114FE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3790-5891-4698-A218-7FF36C31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7435-F7F7-4AAD-8A96-2528A838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8A06-F7CA-44FA-9F1C-8C8B6D0D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BF21-7723-4B98-ABA3-FB6D762F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4E8D77-C2BB-4065-B1A5-A411D52D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DEDF20-3DCD-429C-B941-85C5E5A5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6509DD-CE54-44CD-98F0-5263FA0B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45E90B-A0CF-42C1-AE83-609B16D5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F10763-3C45-4335-B407-BA2524B7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4F4D-63B9-49C7-9C1C-24109190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555486-1D7E-4D7A-B695-780D30B5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7FA58C-338C-482D-9088-0F4F0CD8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B0195-D296-4765-BB5C-6689BDE2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9B879-385D-43F9-9382-DF1D58B4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6BD6F7-C32B-4195-8FEB-7F6DCF66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F93B53-3A54-4EAF-A2D2-1A911DC6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5C86D-5843-47F5-9F60-9736811F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48CDE-2D7B-4B8C-857B-6CF69750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4814D-FFF3-4B7C-8E1B-94FAE9AF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3ECDE-F7AF-483B-961C-8C1EEB25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EEA8-0AFA-438F-A5FD-C819E330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65ED4-8E9F-429E-A6C8-A1C4FB0E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73640-0611-4413-B652-19EA1420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C4CC2-488A-496C-B9C0-79A881AE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5A84C-CBF1-4B5B-8D66-D168B0D3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77437-F6A4-4229-9E5D-045B17E4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AF673-3601-478E-937C-918B549E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0750B-8BE6-4C62-9E62-B20796FC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0A91A-A7AB-4467-90B7-AF014DD2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32756-9C92-431B-BAFC-4D52D0EC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02F4-9605-4961-A513-E9AB392D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2639-C49A-4959-8369-60258D31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D3B3-E7FD-40A9-8FD2-8915E1D0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C604-18F3-4666-8620-B05F3AC5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43B7-D82D-4B50-9C42-F60BDEBB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4C55-0342-4018-8342-713F7112EE07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A091-D751-4FCC-9999-00791D2605E7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FFBE-3E2A-4C84-A267-D8768ACDBF46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7E7D-B663-406F-A162-586F3D1385D5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rebuchet MS"/>
              </a:rPr>
              <a:t>Биосфера, её структура и функци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Рисунок 3" descr="крокодил.jpg"/>
          <p:cNvPicPr/>
          <p:nvPr/>
        </p:nvPicPr>
        <p:blipFill>
          <a:blip r:embed="rId1"/>
          <a:stretch/>
        </p:blipFill>
        <p:spPr>
          <a:xfrm>
            <a:off x="0" y="2819520"/>
            <a:ext cx="2895480" cy="193176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4" descr="рыбы.jpg"/>
          <p:cNvPicPr/>
          <p:nvPr/>
        </p:nvPicPr>
        <p:blipFill>
          <a:blip r:embed="rId2"/>
          <a:stretch/>
        </p:blipFill>
        <p:spPr>
          <a:xfrm>
            <a:off x="2895480" y="3733920"/>
            <a:ext cx="3127320" cy="23619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5" descr="стрекоза.jpg"/>
          <p:cNvPicPr/>
          <p:nvPr/>
        </p:nvPicPr>
        <p:blipFill>
          <a:blip r:embed="rId3"/>
          <a:stretch/>
        </p:blipFill>
        <p:spPr>
          <a:xfrm>
            <a:off x="5943600" y="4594320"/>
            <a:ext cx="32004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7567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Используя учебник и презентацию заполните таблицу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57200" y="2209680"/>
          <a:ext cx="8229600" cy="3846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реда об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риспособ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ример организ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земно-воздуш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од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чвен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рганизме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Используя учебник и дополнительные источники заполните таблицу: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57200" y="2249640"/>
          <a:ext cx="8229600" cy="3084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Тип ве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рим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Живое вещ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стное вещ-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.т.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426672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3200" spc="-1" strike="noStrike">
                <a:solidFill>
                  <a:srgbClr val="67afbd"/>
                </a:solidFill>
                <a:latin typeface="Trebuchet MS"/>
              </a:rPr>
              <a:t>Всю массу организмов всех видов </a:t>
            </a:r>
            <a:br>
              <a:rPr sz="3200"/>
            </a:br>
            <a:r>
              <a:rPr b="0" lang="ru-RU" sz="3200" spc="-1" strike="noStrike">
                <a:solidFill>
                  <a:srgbClr val="67afbd"/>
                </a:solidFill>
                <a:latin typeface="Trebuchet MS"/>
              </a:rPr>
              <a:t>В. И. Вернадский назвал </a:t>
            </a:r>
            <a:br>
              <a:rPr sz="3200"/>
            </a:br>
            <a:r>
              <a:rPr b="1" i="1" lang="ru-RU" sz="3200" spc="-1" strike="noStrike">
                <a:solidFill>
                  <a:srgbClr val="67afbd"/>
                </a:solidFill>
                <a:latin typeface="Trebuchet MS"/>
              </a:rPr>
              <a:t>живым веществом</a:t>
            </a:r>
            <a:r>
              <a:rPr b="0" lang="ru-RU" sz="3200" spc="-1" strike="noStrike">
                <a:solidFill>
                  <a:srgbClr val="67afbd"/>
                </a:solidFill>
                <a:latin typeface="Trebuchet MS"/>
              </a:rPr>
              <a:t> Земли.</a:t>
            </a: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9" name="Picture 4" descr="resE680672A-57A0-44EC-8A4C-5714A6201D94"/>
          <p:cNvPicPr/>
          <p:nvPr/>
        </p:nvPicPr>
        <p:blipFill>
          <a:blip r:embed="rId1"/>
          <a:stretch/>
        </p:blipFill>
        <p:spPr>
          <a:xfrm>
            <a:off x="228600" y="914400"/>
            <a:ext cx="2895480" cy="34466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3276720" y="1905120"/>
            <a:ext cx="5580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дающийся русский учены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кадемик, основоположник науки геохимии, создал учение о биосфере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819520" y="609480"/>
            <a:ext cx="588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7afbd"/>
                </a:solidFill>
                <a:latin typeface="Georgia"/>
              </a:rPr>
              <a:t>В. И. Вернадский</a:t>
            </a:r>
            <a:r>
              <a:rPr b="0" lang="ru-RU" sz="4400" spc="-1" strike="noStrike">
                <a:solidFill>
                  <a:srgbClr val="67afbd"/>
                </a:solidFill>
                <a:latin typeface="Georgia"/>
              </a:rPr>
              <a:t> </a:t>
            </a:r>
            <a:br>
              <a:rPr sz="4400"/>
            </a:br>
            <a:r>
              <a:rPr b="1" lang="ru-RU" sz="1800" spc="-1" strike="noStrike">
                <a:solidFill>
                  <a:srgbClr val="67afbd"/>
                </a:solidFill>
                <a:latin typeface="Georgia"/>
              </a:rPr>
              <a:t>( 1863 - 1945)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49160"/>
            <a:ext cx="82296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eacb8"/>
                </a:solidFill>
                <a:latin typeface="Trebuchet MS"/>
              </a:rPr>
              <a:t>В составе биосферы различают: (записать в тетрадь</a:t>
            </a:r>
            <a:r>
              <a:rPr b="1" i="1" lang="ru-RU" sz="3600" spc="-1" strike="noStrike">
                <a:solidFill>
                  <a:srgbClr val="3eacb8"/>
                </a:solidFill>
                <a:latin typeface="Trebuchet MS"/>
              </a:rPr>
              <a:t>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1371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живое вещество, образованное совокупностью организмов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Прямоугольник 4"/>
          <p:cNvSpPr/>
          <p:nvPr/>
        </p:nvSpPr>
        <p:spPr>
          <a:xfrm>
            <a:off x="228600" y="205740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иогенное вещество, которое создаётся в процессе жизнедеятельности организмов (газы, каменный уголь, нефть, известняки и др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5"/>
          <p:cNvSpPr/>
          <p:nvPr/>
        </p:nvSpPr>
        <p:spPr>
          <a:xfrm>
            <a:off x="228600" y="380988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стное вещество, образующееся без участия живых организмов (основные породы, лава вулканов, метеорит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6"/>
          <p:cNvSpPr/>
          <p:nvPr/>
        </p:nvSpPr>
        <p:spPr>
          <a:xfrm>
            <a:off x="228600" y="518148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иокосное вещество, представляющее собой общий результат жизнедеятельности организмов и абиогенных процессов, например поч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faba1"/>
                </a:solidFill>
                <a:latin typeface="Trebuchet MS"/>
              </a:rPr>
              <a:t>Границы биосфер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8" name="Содержимое 3" descr="12030102.png"/>
          <p:cNvPicPr/>
          <p:nvPr/>
        </p:nvPicPr>
        <p:blipFill>
          <a:blip r:embed="rId1"/>
          <a:stretch/>
        </p:blipFill>
        <p:spPr>
          <a:xfrm>
            <a:off x="4114800" y="1589040"/>
            <a:ext cx="5029200" cy="45259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5"/>
          <p:cNvSpPr/>
          <p:nvPr/>
        </p:nvSpPr>
        <p:spPr>
          <a:xfrm>
            <a:off x="457200" y="1600200"/>
            <a:ext cx="3581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ерхняя граница проходит на высоте 20 км от поверхности планеты и ограничена слоем оз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гидросфере земной коры организмы проникают на всю глубину Мирового океана – до 10-11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литосфере жизнь встречается на глубине 3,5-7,5 км, что обусловлено температурой земных недр и уровнем проникновения воды в жидком состоя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eacb8"/>
                </a:solidFill>
                <a:latin typeface="Trebuchet MS"/>
              </a:rPr>
              <a:t>Атмосфе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962160" y="1523520"/>
            <a:ext cx="5181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азовая оболочка, которая в основном состоит из азота и кислорода, в небольших количествах диоксид углерода и озон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зот, диоксид углерода, пары воды образовались в значительной мере благодаря вулканической деятельности, а кислород – в результате фотосинтез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2" name="Рисунок 3" descr="12030301.gif"/>
          <p:cNvPicPr/>
          <p:nvPr/>
        </p:nvPicPr>
        <p:blipFill>
          <a:blip r:embed="rId1"/>
          <a:stretch/>
        </p:blipFill>
        <p:spPr>
          <a:xfrm>
            <a:off x="0" y="2209680"/>
            <a:ext cx="40924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3581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eacb8"/>
                </a:solidFill>
                <a:latin typeface="Trebuchet MS"/>
              </a:rPr>
              <a:t>Гидросфе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4" name="Содержимое 3" descr="12030209.jpg"/>
          <p:cNvPicPr/>
          <p:nvPr/>
        </p:nvPicPr>
        <p:blipFill>
          <a:blip r:embed="rId1"/>
          <a:stretch/>
        </p:blipFill>
        <p:spPr>
          <a:xfrm>
            <a:off x="1752480" y="4572000"/>
            <a:ext cx="5867640" cy="1905120"/>
          </a:xfrm>
          <a:prstGeom prst="rect">
            <a:avLst/>
          </a:prstGeom>
          <a:ln w="0">
            <a:noFill/>
          </a:ln>
        </p:spPr>
      </p:pic>
      <p:sp>
        <p:nvSpPr>
          <p:cNvPr id="235" name="TextBox 4"/>
          <p:cNvSpPr/>
          <p:nvPr/>
        </p:nvSpPr>
        <p:spPr>
          <a:xfrm>
            <a:off x="304920" y="1523880"/>
            <a:ext cx="830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од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– важный компонент биосферы и один из необходимых факторов существования живых организмов. Гидросфера сформировалась в связи с развитием литосферы, которая в течение геологической истории Земли выделяла большое количество водяного п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5791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eacb8"/>
                </a:solidFill>
                <a:latin typeface="Trebuchet MS"/>
              </a:rPr>
              <a:t>Литосфе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7" name="Содержимое 6" descr="167000.JPG"/>
          <p:cNvPicPr/>
          <p:nvPr/>
        </p:nvPicPr>
        <p:blipFill>
          <a:blip r:embed="rId1"/>
          <a:stretch/>
        </p:blipFill>
        <p:spPr>
          <a:xfrm>
            <a:off x="2895480" y="4267080"/>
            <a:ext cx="3733920" cy="2489400"/>
          </a:xfrm>
          <a:prstGeom prst="rect">
            <a:avLst/>
          </a:prstGeom>
          <a:ln w="0">
            <a:noFill/>
          </a:ln>
        </p:spPr>
      </p:pic>
      <p:sp>
        <p:nvSpPr>
          <p:cNvPr id="238" name="TextBox 7"/>
          <p:cNvSpPr/>
          <p:nvPr/>
        </p:nvSpPr>
        <p:spPr>
          <a:xfrm>
            <a:off x="457200" y="1066680"/>
            <a:ext cx="8381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сновная масса организмов, обитающих в литосфере, находятся в почвенном слое, глубина которого не превышает нескольких метров. Почва включает минеральные вещества, образующиеся при разрушении горных пород, и органические вещества – продукты жизнедеятельности организ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eacb8"/>
                </a:solidFill>
                <a:latin typeface="Trebuchet MS"/>
              </a:rPr>
              <a:t>Среда обитания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0880" y="12189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это часть природы, окружающая живые организмы и оказывающая на них прямое и косвенное воздейств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Рисунок 3" descr="рыбы.jpg"/>
          <p:cNvPicPr/>
          <p:nvPr/>
        </p:nvPicPr>
        <p:blipFill>
          <a:blip r:embed="rId1"/>
          <a:stretch/>
        </p:blipFill>
        <p:spPr>
          <a:xfrm>
            <a:off x="152280" y="3429000"/>
            <a:ext cx="2567160" cy="193824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4" descr="6000.JPG"/>
          <p:cNvPicPr/>
          <p:nvPr/>
        </p:nvPicPr>
        <p:blipFill>
          <a:blip r:embed="rId2"/>
          <a:stretch/>
        </p:blipFill>
        <p:spPr>
          <a:xfrm>
            <a:off x="2819520" y="4800600"/>
            <a:ext cx="3124080" cy="19051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6" descr="12010303.jpg"/>
          <p:cNvPicPr/>
          <p:nvPr/>
        </p:nvPicPr>
        <p:blipFill>
          <a:blip r:embed="rId3"/>
          <a:stretch/>
        </p:blipFill>
        <p:spPr>
          <a:xfrm>
            <a:off x="5943600" y="3429000"/>
            <a:ext cx="2752560" cy="198108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7" descr="MF0372.JPG"/>
          <p:cNvPicPr/>
          <p:nvPr/>
        </p:nvPicPr>
        <p:blipFill>
          <a:blip r:embed="rId4"/>
          <a:stretch/>
        </p:blipFill>
        <p:spPr>
          <a:xfrm>
            <a:off x="2971800" y="2629080"/>
            <a:ext cx="2590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aba1"/>
                </a:solidFill>
                <a:latin typeface="Trebuchet MS"/>
              </a:rPr>
              <a:t>Выводы урока (записать в тетрадь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иосфера – оболочка Земли, заселённая живыми организмам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раницы биосферы пролегают непосредственно под озоновым экраном и в толще земной коры на глубине 4-5 км и определяются факторами земной среды, которые делают невозможным существование живых организмо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иосфера включает: живое вещество, биогенное вещество, костное вещество, биокостное вещество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пределах биосферы можно выделить четыре среды обитания: водную, наземно-воздушную, почвенную и организменную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своение разных сред обитания требует разнообразных экологических приспособлени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20-04-07T12:39:34Z</dcterms:modified>
  <cp:revision>30</cp:revision>
  <dc:subject/>
  <dc:title>Биосфера, её структура и функции</dc:title>
</cp:coreProperties>
</file>