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5F0-0E3D-4EC5-B8A8-0FA4F3C6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408-0023-457F-9CF1-AD885F76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3CF-5356-4E68-B06A-6F55CBCB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13C-8C6E-40DE-B151-A424D338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F1A-847A-4C69-BAC1-BEA8B19B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E99-373C-49CF-9B0C-4907F32A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81D-CE25-406C-9A6B-1BB1B8F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71F-090F-4D4F-AEA0-B2D17809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521-F5C1-4C5B-BC6D-E1BDE360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A15-01C9-4A78-BA23-0251F4D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CBD-74E2-4914-979F-0F6F6A74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1FB-D98A-42F0-AAED-575D6EF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04C5-3FCF-4BB1-9664-D0BFE8AD8E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null"/>
          <p:cNvPicPr/>
          <p:nvPr/>
        </p:nvPicPr>
        <p:blipFill>
          <a:blip r:embed="rId1"/>
          <a:srcRect l="13450" t="17096" r="11896" b="6836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2000" y="1052280"/>
            <a:ext cx="4788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МИР БЕЛОГОРЬЯ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6 за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-main-pic" descr="Картинка 27 из 5199"/>
          <p:cNvPicPr/>
          <p:nvPr/>
        </p:nvPicPr>
        <p:blipFill>
          <a:blip r:embed="rId1"/>
          <a:stretch/>
        </p:blipFill>
        <p:spPr>
          <a:xfrm>
            <a:off x="611280" y="981000"/>
            <a:ext cx="2948040" cy="40845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3780000" y="2492280"/>
            <a:ext cx="51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а Руси Благовещение считается большим праздни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него в старину начинали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468360" y="191628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 Благовещением в народе связаны и некоторые старинные обыча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ворят, что в Благовещение «птица гнезда не вьет, девица косы не плете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т. е. всякая работа - гре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Благовещение. Андрей Рублев. 1408"/>
          <p:cNvPicPr/>
          <p:nvPr/>
        </p:nvPicPr>
        <p:blipFill>
          <a:blip r:embed="rId1"/>
          <a:stretch/>
        </p:blipFill>
        <p:spPr>
          <a:xfrm>
            <a:off x="5651640" y="1413000"/>
            <a:ext cx="307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Храм Архангела Гавриила"/>
          <p:cNvPicPr/>
          <p:nvPr/>
        </p:nvPicPr>
        <p:blipFill>
          <a:blip r:embed="rId1"/>
          <a:stretch/>
        </p:blipFill>
        <p:spPr>
          <a:xfrm>
            <a:off x="3419640" y="1989000"/>
            <a:ext cx="2666880" cy="3552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835280" y="11253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Храм Архангела Гавриила в Белго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00" y="2060280"/>
            <a:ext cx="4787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ЛАГОВЕЩЕНИЕ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ЕСВЯТОЙ БОГОРОД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407628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30369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7"/>
          <p:cNvSpPr/>
          <p:nvPr/>
        </p:nvSpPr>
        <p:spPr>
          <a:xfrm>
            <a:off x="1263960" y="530064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М. Кустодиев «Вес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DSC04649.JPG"/>
          <p:cNvPicPr/>
          <p:nvPr/>
        </p:nvPicPr>
        <p:blipFill>
          <a:blip r:embed="rId1"/>
          <a:stretch/>
        </p:blipFill>
        <p:spPr>
          <a:xfrm>
            <a:off x="6224760" y="689040"/>
            <a:ext cx="2462040" cy="3681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DSC04663.JPG"/>
          <p:cNvPicPr/>
          <p:nvPr/>
        </p:nvPicPr>
        <p:blipFill>
          <a:blip r:embed="rId2"/>
          <a:stretch/>
        </p:blipFill>
        <p:spPr>
          <a:xfrm>
            <a:off x="4780080" y="4572000"/>
            <a:ext cx="3541680" cy="2011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Кустодиев Б.М. Весна 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39640" y="1628640"/>
            <a:ext cx="4611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907920"/>
            <a:ext cx="6842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ловар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аго – добр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ть – радостное извес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аговестить – сообщать добрую, радостную весть ( нов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агодать – особая милость Бож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Богомате_0"/>
          <p:cNvPicPr/>
          <p:nvPr/>
        </p:nvPicPr>
        <p:blipFill>
          <a:blip r:embed="rId1"/>
          <a:stretch/>
        </p:blipFill>
        <p:spPr>
          <a:xfrm>
            <a:off x="684360" y="1197000"/>
            <a:ext cx="3168360" cy="435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708360" y="233208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Какая весть мог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быть благой для всех людей, живущих на  зем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-main-pic" descr="Картинка 11 из 4163"/>
          <p:cNvPicPr/>
          <p:nvPr/>
        </p:nvPicPr>
        <p:blipFill>
          <a:blip r:embed="rId1"/>
          <a:stretch/>
        </p:blipFill>
        <p:spPr>
          <a:xfrm>
            <a:off x="684360" y="692280"/>
            <a:ext cx="3214440" cy="5072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3995640" y="155736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обытия Благовещения описаны  евангелистом Лу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В своём евангелии он сообщает , что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Архангел Гавриил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был послан Богом в город Назарет к Деве Марии с вестью о  рождении Спасителя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-main-pic" descr="Картинка 26 из 4163"/>
          <p:cNvPicPr/>
          <p:nvPr/>
        </p:nvPicPr>
        <p:blipFill>
          <a:blip r:embed="rId1"/>
          <a:stretch/>
        </p:blipFill>
        <p:spPr>
          <a:xfrm>
            <a:off x="5219640" y="1052640"/>
            <a:ext cx="323532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042920" y="1773360"/>
            <a:ext cx="3745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рхангел известил Марию о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у Нее р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ын Бож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исус Христ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Благовещ_0"/>
          <p:cNvPicPr/>
          <p:nvPr/>
        </p:nvPicPr>
        <p:blipFill>
          <a:blip r:embed="rId1"/>
          <a:stretch/>
        </p:blipFill>
        <p:spPr>
          <a:xfrm>
            <a:off x="971640" y="692280"/>
            <a:ext cx="3552840" cy="5790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572000" y="5805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кона . Благовещение. Андрей Рублев. 14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348000" y="234936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7 апрел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здник Благо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святой Богород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494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6:14:27Z</dcterms:created>
  <dc:creator>USER</dc:creator>
  <dc:description/>
  <dc:language>en-US</dc:language>
  <cp:lastModifiedBy>Михаил Скрипкин</cp:lastModifiedBy>
  <dcterms:modified xsi:type="dcterms:W3CDTF">2020-04-07T08:19:46Z</dcterms:modified>
  <cp:revision>26</cp:revision>
  <dc:subject/>
  <dc:title>Благовещен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